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4141-1AB7-43CC-8965-16DB37C7E6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B44C-057D-45A6-A389-D19E818983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272-45DA-4059-B59C-1840FA4C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C25-1970-4026-AB30-11E122A5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F59AA-65C0-4DFC-B1A8-C282C738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73E5F-BC7B-4A17-A7B0-16EB49FF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D6827-2503-4B2A-83A0-2842ECC0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9095C-1040-4277-B814-01D985BF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4C5AE-785E-4931-96D8-90A96EF8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7724E-D70C-4086-AE4A-A59873B8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4BBAA-FFE9-4BE2-B3DC-0E6B1D36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4C6C2-45EC-4D7E-BF88-870B1329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600AA-1C09-4DA4-A3CF-3724EF73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D185B-6C78-40B3-9112-A6BBB725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CCD9-C1CD-467B-887A-34B96301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22F14-F700-4094-8BCA-C7A1A937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FE67B-333A-4D1B-8767-608B9636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2D895-BC59-49FD-883F-6BE545D5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F524B-1FFC-408E-857C-83337828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E886E-2DD9-4F2B-84A0-51289C0F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C57E2-5060-469A-9B38-CB4DB867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9B78C-A072-4364-905D-8060188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3ABA8-FE2A-4BC8-A9D9-3A046720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B9CC6-1C3C-49AE-817B-F7CA04F9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4607F-C99F-48B5-AE92-E9DCC687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9FB-61BB-4BA2-B76B-CCA05264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EC28D-7FEB-4533-90B1-F68117E2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D7BFF-5907-43A3-9588-2AFE3F34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FA33E1-C3A0-4A5A-9341-F599C86B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E499A-083B-4A5A-B1FA-C8B495F4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3BFC3-83D8-4BD2-A679-239FE1EA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166B6B-2CD4-4BF5-8A02-F1B6EE6F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A6625-1F72-48DC-9531-CE26A8B0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D4C29-0E1F-427D-9AD8-74BA62C1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F2CC8-0A27-432B-AAEF-1D2260B3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8C325-BD0E-48A6-B441-C0D8DB5D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0365-27E1-4285-9DB9-BDEE2BA0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3A267-48D9-475C-852D-FA7AE71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F61BD-7480-4F01-9BF8-EADB0391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E107A-B541-46E2-B332-05EAB86F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E384F-F078-45F5-AD46-F2BC4981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82894-34A3-4A2C-9BD3-24D57165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DDC075-6EA9-424A-BA46-E49EC8EF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65CFC-9988-442A-A655-EB30F64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E47CB-4CCD-4084-A7CB-30F0E651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11A17-4EF9-46D0-8C4C-F195CB59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45F4A-ECEC-46E5-96D0-6493B61F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6266-9D5E-4D2A-8C61-474D9E7E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07F5B-62F0-449C-85D2-BB0C7DC5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FBA5B-BE59-46F6-B02C-F2864BB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C471C-28A6-4B94-BB81-920FE71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BC989-86AA-4ECF-BB8D-CBD90C0A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5871A-58D5-4F85-8A50-B38AC14B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3A7D09-EA1C-4B7B-BE42-C63E49D6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51A95-7DA9-4698-96DD-66801270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1BBC9E-E953-4934-A5B3-EA31976B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0DA8EC-6B15-44A9-B190-76524595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11958-81C9-454F-8245-4BCCBC36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225E-479C-404B-BB87-0EC41AEF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DADF0-703A-4507-9504-2CBF54B8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F876A-79F9-45D7-A7B3-1AD2047F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AD263E-1B2D-4F4D-BD72-0C6735B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F4B0B-E0B3-41C3-A574-492F1BE1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3712B-960E-4392-A9AA-A29113F5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37C01-C010-40F7-A68B-7B9D24A5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4F153E-270D-4CEC-8EFC-9B7298BF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8C48C-6B6D-4D6D-A073-387D11DE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6415C-D25E-4AB4-9DA2-1E640352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5493CD-6BED-4DAA-8B95-C6334173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C744-1FCD-4F5A-80A8-C6348CF1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3DEA6-2FD7-4C0F-9CB4-BBBE88D9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C72B0-850B-4DD5-ABA8-0140370C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0FBF0-2E26-4C47-8256-F4BD9A6C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8F5C3-027A-477C-AD4A-C52071B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981E3-9A0F-4171-A6DA-14761F69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34C35-81EE-41CC-A9E9-F5C0E6C5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CEF1C1-CCBD-4B76-9542-327423B0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69831-45A1-48E5-BB93-38DB4371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FB2B1-CE1A-412B-AC89-EB256906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9C5F99-6C29-463D-B587-3C77DA9F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88F8-CC2D-493F-B999-886E59D9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B25D22-307C-4645-8A74-38DF6E0D2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13DC99-4EC4-478F-8C46-E0A7956D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EB404D-EA61-456D-A678-DDA555B1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B4754-8302-46AC-AF7F-AFC72177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27F24-C8BA-4802-8653-7186E842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FB1450-1E6E-4543-91D4-8CF89C5B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ECEE4-2293-43B0-B873-045EEB40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9F593-3132-4093-AF59-109A780D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5D77AB-465F-48F9-BA81-B7D09B4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D3126A-A7CD-456C-9EC2-15975C47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8375-9B0B-471C-A73D-A43E7F9F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B64CF-7D6F-462F-91CC-D21F2595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66D61-1695-4878-8DC3-6CB54F00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A7C5FA-4DCD-4535-859F-754A0C9D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40ADB-382B-42B0-8516-F19196A7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C808A-148C-4EF3-9290-CE1CA17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0E7F0-978D-41FD-B03F-56994C25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47977-D4B9-445D-87C5-25A37C42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5BABE2-FCC1-4BA6-B534-92A9024C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C1ED2-F0ED-4F3F-BD85-FCFE13A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26BC0-9FA7-444B-B227-50F8C463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F83F-3D8E-4B3B-825E-55D5BEA7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F4512-A39D-4830-BC5C-6B57FDA1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7965A2-3BB1-40E6-8AAC-AF6E45E9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4C66FC-BAC9-42AD-B0F5-88A63C18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C07B1D-6017-47B7-97C9-4ADD9672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B4D2D-C27D-426D-A332-3E143163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2689F3-1E1D-4A5F-9EBD-F05C27DD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3165E0-4D48-4784-B15A-F679D8FB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B19A93-998E-49A5-980D-62710938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4F4AB-4D97-41F8-A862-B9218996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033ACD-E63A-4C4B-9D55-8DC47650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466-D65F-4CA9-83FB-3109B58D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4F13-CC30-4157-94C9-6B72FA87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4914F-12EB-4CE1-A36D-78163201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580FF8-7B10-40C6-9D0D-7A7DBDEE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6ED29-90C4-4CDC-851B-7D70A020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A70C1-336A-4403-9879-67C0B829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4C22E-963B-41BE-A3DF-13E2471A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9874-F9F8-4C56-AB1C-22654E32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C652-9487-4F8D-A4A3-B5A0B8B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628C-0AF3-4904-BB2C-86EC22E4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525B-76E7-49E3-BAC3-48D39735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FBD0E-7752-46E1-BF84-8D83499B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86310-D857-49DF-AA01-3216F53F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6368-DD52-4829-89D5-A24EB357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F2A78-AA26-41BB-BE1C-844A5F2B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B70E-2900-4E14-822D-01570910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6E03-C186-4710-93B3-AF9750C3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9DFFF-7E0F-4CDB-A94F-516870A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D7281-B54F-467B-8320-0C354F59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CC7C6-A219-48E2-8263-8565EDD7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83B82-C0F4-4C1A-A463-34E88541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F85C-3183-40D4-A038-CDB90DC4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39AB-D2FB-4BF4-BE1A-92001365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02CF2-123D-414A-9BE1-B593DF2B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F3139-9835-4CA0-81D9-B7DAA5AEB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A6849-60D3-4FAB-80E4-750B16DF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2682-5643-4E06-B694-598D745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E0F-7ED3-4CAD-8F9F-FC3F0715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3AF5-6216-43E1-BE36-800936D6F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402D8-075E-4071-88D1-1D48479D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D4B7-A04D-4A66-9EC3-48D0CF16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8A0B-77EB-4710-BC5A-0D0D3254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97C88-6D24-4EA0-8914-1D814229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E1EDC-996B-450B-BE3E-E94D363A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3C220-B24B-49E7-90BF-7784DE48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013C-37AF-4509-8AEE-9CBAAD77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A891-82E4-4AC8-A4DD-6EF1BE97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0723-B159-44B9-9592-06758CF2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6B6-EDBA-49ED-8974-9A01B1C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AE286-E37B-4CA7-ACFF-51971C87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E7AD1-6DD8-4100-A40F-8AE8520E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885A4-02EE-4BF8-9BCD-0FD7F1573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F251F-13F3-4228-9BBF-5FE0C3B5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E23BC-D801-47FA-83B3-19EAF1F2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9BA5D-7E68-4BC6-A1E4-5499D9E3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F8805-0881-4DD9-993F-5E3A5C4B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E5F9A-1B4A-448D-BD95-606FAFF4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21624-78DE-4AFC-B142-574AB9E2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139BE-DA6B-4C72-99BE-7012E355E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7AD-A9F6-4576-931B-026F64C1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F87A-327D-41B7-9714-B0E01B2B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3D834-9B83-468D-863C-BBE26CAF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2A584-7DD0-44EE-9BC3-25BBBEBE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20DC4-8DE6-4715-A524-70291DF7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4471F-A262-4A52-B5EA-F625D963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4928D-1A87-4174-9FF7-EAEC34A4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F63CE-3924-4F8B-9D52-D87DDF6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88DEE-426D-4420-8781-409E13ED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C1E6B-C48A-4B9C-B627-9B009ADA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047C-017F-44D0-A2B9-AADC6F41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A3CE-0E27-48DD-9AE1-A78E22C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F697-B4A2-4D7C-90B0-EDD2120D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BC26-850A-42CA-ADB1-E75F0CD3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A3AD2-3C53-46A6-987E-A27B47B13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EF12C-F09A-4C2E-974F-297EDF570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FC90-329F-4E3E-910C-E7630D87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94EEE-5AF8-49D5-9A41-FB65FC82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D7DC2-50C6-4017-A862-731ECDC8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1EB28-05E5-42C6-A3DB-9EA2D38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D659B-6961-4257-BE82-84533B63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E856-91FB-4736-AD31-871599B3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847-6F37-477A-A455-A61D8418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CCD76-53D1-4A8B-ACE2-59362700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C3641-FCEE-434E-8F3B-89492546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002AA-323B-430A-8DCF-44DE9AAE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73A9A-B4DC-477E-9E61-37DD1177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BA81F-D06D-4C21-8D28-A50C80066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6E53D-0D81-42C7-88BF-589AA990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A9683-DC49-48F0-879B-7B62ADB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7127C-6792-4A17-9A94-E63CB873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DAF07-8026-4859-B480-0533D565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F1FF6-7C91-40A9-B63A-9E1DEA1E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FEC-8E99-43E2-9F5A-1CC64ED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D6731-9956-41EF-8739-2F6CC5B6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39B34-C002-4108-A993-731EA44F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6F75E-8360-4268-987A-9AB12E69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37CFB-A62D-4AB8-961D-EAA23358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54EF-C9EE-4557-A6A1-D44994F1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A2E1C-186D-48BF-88B8-807E5221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8DE32-55C4-452B-B9E2-4D0FCA54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02D59-0105-4E9E-80F2-A20F0AA5E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BE042-247D-4A39-9441-146CFEDB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5A85A-3463-4143-9EC5-90C58610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6403-2D3C-4152-B79D-1CA77B4DA9C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E0BA-FA95-47B6-961F-487C33FFE6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E999-69FF-41C4-8C58-8C0F87FFF00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A52D-7154-46C2-8ED0-A4762C7C81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3719-0FBC-4421-8C77-7A8792EC502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7825-A254-4634-BF81-2C07091E535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B8F6-2097-433D-BF59-6AE0CAD0CC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365B-99CC-4450-B659-19046819F4C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D6B3B-DDC4-4023-BCD2-CB006467F10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522A-A05C-47FA-811B-09927147B5B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ADD1-D337-4004-A150-CE889F0158C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EF4D-A417-4800-9872-BAA3D64BC5D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CD6D-84FA-4BD9-AE2A-43AB3E97C16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9DF-D99E-4D60-B294-2FC2ABBA851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EA5-BB91-412B-AE40-F9844D7EFE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8EBF-FA71-4326-852A-729D336D638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EAC0-C855-4FD2-BF62-4B21D0B594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пыт использования транскраниальной электростимуляции в комплексном лечении алкогольного абстинентного синдрома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Century Gothic"/>
              </a:rPr>
              <a:t>Бикетов А.Н. –заведующий отделением неотложной наркологической помощи филиала « Новотроицкий наркологический диспансер»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Рассмотренные эффекты ТЭС-терапии играют важную роль при решении наркологических проблем: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нормализация психофизиологического статуса снижает побудительные причины алкоголизации и наркомании, служат повышению социальной адаптации. При ТЭС-терапии уже сложившейся патологии происходит повышение настроения, нормализация самочувствия, сна, ликвидация тревожности и других аффективных расстройств, уменьшается патологическое влечение и зависимость от психоактивных веществ. Высока эффективность ТЭС-терапии при лечении синдрома дефицита внимания с гиперактивностью у детей и подростков, что рассматривается специалистами как профилактика возможного развития у них алкоголизма и наркомании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1942920" y="1267920"/>
            <a:ext cx="6591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 купирует любые болевые синдромы, в том числе и сопутствующие абстинентным состояниям, препятствует развитию зависимости от анальгетиков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ускоряет заживление слизистой желудка и 12-перстной кишки при язвенных поражениях, часто сопровождающих чрезмерное употребление алкоголя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устраняет жировую дегенерацию печени и стимулирует репаративную регенерацию гепатоцитов без формирования цирроза. Препятствует жировой дистрофии печени. Восстанавливает синтетическую и дезинтоксикационную функции печени, обладает онкопротекторным эффектом</a:t>
            </a: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нормализует артериальное давление, как правило, повышенное у алкоголиков и наркоманов Стимулирует иммунитет</a:t>
            </a:r>
            <a:r>
              <a:rPr b="0" lang="en-US" sz="19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Обоснование применения ТЭС-терапии для купирования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entury Gothic"/>
              </a:rPr>
              <a:t>алкогольного абстинентного синдром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Медикаментозные препараты, их комбинации и нарастающее количество создает дополнительную нагрузку на уже пораженную печень и ставит ряд серьезных проблем, обусловленных выраженными побочными действиями, осложнениями, развитием аллергизации, толерантности, привыкания и зависимост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1942920" y="1052640"/>
            <a:ext cx="6591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Для купирования алкогольного абстинентного синдрома применяются аппараты «Трансаир» любой модификации. но наиболее эффективно применение аппаратом «Трансаир-04», позволяющих сочетать монополярный импульсный ток с постоянным током. Курс лечения состоит из 5-7 процедур по 30 минут. Первые 2-3 дня возможно проведение 2-х процедур в день (по состоянию). Обычно проводится по одной процедуре ежедневно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 использовании аппаратов «Трансаир-03», не имеющих постоянной составляющей режим выбирается врачом с учетом личного опыта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«Трансаир-3» и «Трансаир-4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9" name="Picture 4" descr="Трансаир-3"/>
          <p:cNvPicPr/>
          <p:nvPr/>
        </p:nvPicPr>
        <p:blipFill>
          <a:blip r:embed="rId1"/>
          <a:stretch/>
        </p:blipFill>
        <p:spPr>
          <a:xfrm>
            <a:off x="1763640" y="2133720"/>
            <a:ext cx="3327480" cy="24382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5" descr="Трансаир-4"/>
          <p:cNvPicPr/>
          <p:nvPr/>
        </p:nvPicPr>
        <p:blipFill>
          <a:blip r:embed="rId2"/>
          <a:stretch/>
        </p:blipFill>
        <p:spPr>
          <a:xfrm>
            <a:off x="5003640" y="4221000"/>
            <a:ext cx="332748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ТЭС-терапия для восстановления функции печени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овременное применение ТЭС-терапии и «Эссенциале» и его аналогов не показано, так как многочисленные исследования говорят о снижении эффективности данного сочетания и о большей сравнительной эффективности ТЭС-терапии, проводимой в моновариант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ЭС-терапия хорошо сочетается с применением витаминов группы В, никотиновой кислоты, карсила и других аналогичных фармацевтических  препаратов. Более того, их применение на фоне ТЭС-терапии дает более убедительные положительные результаты. Это является следствием эндорфинергической активизации гомеостатических систем организм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262626"/>
                </a:solidFill>
                <a:latin typeface="Century Gothic"/>
              </a:rPr>
              <a:t>Противопоказания к ТЭС-терапии.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удорожные состояния, эпилепс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ые травмы и опухоли головного мозга, острые инфекционные поражения ЦНС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ртериальная гипертензия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II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ст. в период криз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идроцефал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стрые психические расстройств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иреотоксикоз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личие повреждений кожи в местах наложения электрод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личие вживленных кардиостимуляторов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зраст до 5 лет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атериалы и мет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 годы работы в отделении неотложной наркологической помощи методом ТЭС было пролечено более 150 пациентов с алкогольным абстинентным состоянием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Я проанализировал истории болезни 20пациетов с диагнозом АСС  к которым применялся метод ТЭС и 20 пациентов к которым метод ТЭС не применялся. Обе группы получали стандартную медикаментозную терапию. Результаты представлены ниже на слайде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группа : Возраст от 32 до 47 лет, 15 мужчин, 5 женщин. Диагноз: Абстинентное состояние неосложненн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2 группа (контрольная): Возраст от 34 до 45 лет, 17 мужчин и 3 женщины. Диагноз: Абстинентное состояние неосложненное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именялась одинаковая медикаментозная терапия: инфузионная терапия, коррекция электролитного баланса, кислотно-щелочного состояния, транквилизаторы, бета-блокаторы, антиконвульсанты, витаминотерапия, диуретики, ноотроп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1 группа : в течении 3 дней проводилась процедура ТЭС-терапии аппаратом « Трансаир-4» в режиме: «Монополярный с ДПС» . Данный параметр  рекомендован авторами в указанных выше статьях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Сила тока 0.95-2.23 мА - регулировалась по индивидуальным ощущениям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Продолжительность процедуры 60 минут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Arial"/>
              </a:rPr>
              <a:t>У 18 человек процедура проводилась в первой половине дня, 2 человека в вечерние часы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1942920" y="1052640"/>
            <a:ext cx="65912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дним из современных эффективных патогенетических методов лечения алкогольного абстинентного синдрома является транскраниальная электростимуляция защитных механизмов мозга – ТЭС-терапия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6" name="Рисунок 1" descr=""/>
          <p:cNvPicPr/>
          <p:nvPr/>
        </p:nvPicPr>
        <p:blipFill>
          <a:blip r:embed="rId1"/>
          <a:stretch/>
        </p:blipFill>
        <p:spPr>
          <a:xfrm>
            <a:off x="900000" y="3389400"/>
            <a:ext cx="4037040" cy="295884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2" descr=""/>
          <p:cNvPicPr/>
          <p:nvPr/>
        </p:nvPicPr>
        <p:blipFill>
          <a:blip r:embed="rId2"/>
          <a:stretch/>
        </p:blipFill>
        <p:spPr>
          <a:xfrm>
            <a:off x="4748040" y="2708280"/>
            <a:ext cx="39862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0" name="Объект 10"/>
          <p:cNvGraphicFramePr/>
          <p:nvPr/>
        </p:nvGraphicFramePr>
        <p:xfrm>
          <a:off x="1305000" y="722160"/>
          <a:ext cx="7230960" cy="565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1" name="Объект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722160"/>
                    <a:ext cx="723096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Динамика частоты пульса в группе пациентов с применением ТЭС  без неё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3" name="Объект 9"/>
          <p:cNvGraphicFramePr/>
          <p:nvPr/>
        </p:nvGraphicFramePr>
        <p:xfrm>
          <a:off x="1892160" y="2225520"/>
          <a:ext cx="669312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4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225520"/>
                    <a:ext cx="669312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763640" y="623880"/>
            <a:ext cx="677088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Динамика систолического артериального давления в группе пациентов с применением ТЭС  без неё.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26" name="Объект 9"/>
          <p:cNvGraphicFramePr/>
          <p:nvPr/>
        </p:nvGraphicFramePr>
        <p:xfrm>
          <a:off x="1892160" y="2082960"/>
          <a:ext cx="6693120" cy="387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7" name="Объект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082960"/>
                    <a:ext cx="669312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Таким образом мы видим, что ТЭС-терапия является высокоэффективной для купирования алкогольного абстинентного синдром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Результаты и выводы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1267920"/>
            <a:ext cx="65912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ТЭС-терапия, начатая в период максимальной выраженности абстинентной симптоматики (1-й день лечения), уже через 30-60 минут после процедуры приводила к уменьшению большинства симптомов ААС на 50% и более, а практически полное купирование ААС средней тяжести происходило за 2-3 дня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применение ТЭС-терапии достоверно снижает интенсивность абстинентной симптоматики. Уже после 1-2 процедур отчетливо улучшалось самочувствие, уменьшалась тяжесть соматоневрологических расстройств. Купировались симптомы апатии, астении, повышались настроение и аппетит. Исчезали тяжесть в голове, озноб и тремор, нормализовывался сон. Купировались нарушения координации (устойчивость в позе Ромберга, пальце-носовая проба), исчезал горизонтальный нистагм. От процедуры к процедуре отмечалось нарастание положительной динамики. Стабилизировалось АД, выравнивался пульс. Пациенты отмечали отчетливое снижение влечения к алкоголю, купирование жажды и сухости во рту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Прямоугольник 2" descr=""/>
          <p:cNvPicPr/>
          <p:nvPr/>
        </p:nvPicPr>
        <p:blipFill>
          <a:blip r:embed="rId1"/>
          <a:stretch/>
        </p:blipFill>
        <p:spPr>
          <a:xfrm>
            <a:off x="1981080" y="2968560"/>
            <a:ext cx="6973920" cy="1755720"/>
          </a:xfrm>
          <a:prstGeom prst="rect">
            <a:avLst/>
          </a:prstGeom>
          <a:ln w="0">
            <a:noFill/>
          </a:ln>
        </p:spPr>
      </p:pic>
      <p:pic>
        <p:nvPicPr>
          <p:cNvPr id="1232" name="Рисунок 4" descr=""/>
          <p:cNvPicPr/>
          <p:nvPr/>
        </p:nvPicPr>
        <p:blipFill>
          <a:blip r:embed="rId2"/>
          <a:stretch/>
        </p:blipFill>
        <p:spPr>
          <a:xfrm>
            <a:off x="4140360" y="566640"/>
            <a:ext cx="1904760" cy="2400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1942920" y="475920"/>
            <a:ext cx="659124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звестно, что ТЭС-терапия избирательно повышает выработку эндогенных опиоидных пептидов, в первую очередь β-эндорфина, и за счет этого нормализует эмоциональный статус, настроение, мотивационную сферу, регулирует поведение, средовую и социальную адаптацию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9" name="Рисунок 1" descr=""/>
          <p:cNvPicPr/>
          <p:nvPr/>
        </p:nvPicPr>
        <p:blipFill>
          <a:blip r:embed="rId1"/>
          <a:stretch/>
        </p:blipFill>
        <p:spPr>
          <a:xfrm>
            <a:off x="2558880" y="2205000"/>
            <a:ext cx="4489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мимо этого ТЭС-терапия эффективно купирует болевые синдромы, стимулирует репаративные процессы в организме, восстанавливает иммунитет, нормализует артериальное давление. Таким образом, ТЭС-терапия имеет комплексную и системную гомеостатическую направленность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1" name="Rectangle 4"/>
          <p:cNvSpPr/>
          <p:nvPr/>
        </p:nvSpPr>
        <p:spPr>
          <a:xfrm>
            <a:off x="-81756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 txBox="1"/>
          <p:nvPr/>
        </p:nvSpPr>
        <p:spPr>
          <a:xfrm>
            <a:off x="1942920" y="1341360"/>
            <a:ext cx="659124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Метод транскраниальной электростимуляции был разработан в начале 80-х годов в Институте физиологии им. И.П.Павлова РАН, Санкт-Петербург, группой ученых под руководством Лауреата Государственной Премии СССР, профессора В.П.Лебедева , а также создана аппаратура для реализации этого метод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3"/>
          <p:cNvSpPr/>
          <p:nvPr/>
        </p:nvSpPr>
        <p:spPr>
          <a:xfrm>
            <a:off x="1978200" y="1695600"/>
            <a:ext cx="659124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риненко А.Я., Крупицкий Е.М., Лебедев В.П. и др. Лечение алкогольного абстинентного синдрома с помощью транскраниального электрического воздействия. «Вопросы наркологии», 1988, №3, с.27-3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Гриненко А.Я., Крупицкий Е.М., Шабанов П.Д. и соавт. Нетрадиционные методы лечения алкоголизма. СПб., «Гиппократ». 1993, 192 с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Крупицкий Е.М., Бураков А.М., Карандашева Г.Ф. и соавт. Об одном из методов лечения аффективных нарушений у больных алкоголизмом. «Журнал невропатологии и психиатрии им. С.С.Корсакова», 1991, Т.91, № 4, с. 90-9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Arial"/>
                <a:ea typeface="Arial"/>
              </a:rPr>
              <a:t>Мелихова М.В., Нечипоренко С.П., Колбасов С.Е., Стройкова Г.С. Транскраниальная электростимуляция как регулятор процессов репарации токсически поврежденной печени. «Электростимуляция 2002» : Сб. работ. – М.: ВНИИМП-ВИТА. 2002, с. 15-2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720" y="691920"/>
            <a:ext cx="6012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Тогда же , в 80-е годы метод ТЭС стали применять в наркологии для лечения абстинентного алкогольного синдрома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360440" y="115560"/>
            <a:ext cx="658800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39640" y="17002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Нормализация психофизиологического статус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ЭС-терапия обладает выраженным стресс-лимитирующим действием  Отмечается устранение симптомов депрессии, снятие утомления, нервного напряжения, повышение нейропсихической устойчивости, нормализация настроения и сна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Купирование болевых синдромов</a:t>
            </a:r>
            <a:r>
              <a:rPr b="0" lang="ru-RU" sz="18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результате ТЭС-терапии происходит снижение чувствительности периферических болевых рецепторов, блокируется проведение болевых импульсов в спинном мозге, в том числе за счет эндорфинного торможения выделения субстанции Р, также блокируется проведение болевых импульсов на уровне ядер таламуса  В связи с этим анальгетический эффект ТЭС-терапии не зависит от причины и локализации боли. Он наступает уже через 10-15 минут после начала электростимуляции, что связано с достижением высокой концентрации β-эндорфина в мозге, ликворе и крови. Анальгезия имеет длительное последействие, увеличивающееся по мере проведения курсового лечения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Нормализация артериального давления</a:t>
            </a:r>
            <a:r>
              <a:rPr b="0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В ряде работ показано, что при ТЭС-терапии происходит ослабление как стимулирующих, так и тормозящих влияний на вазомоторные бульбоспинальные нейроны, расположенные в вентролатеральной области продолговатого мозга. Стимуляция опиоидных систем мозга не только восстанавливает центральную регуляцию гемодинамики, но и нормализует периферическое кровообращение в конечностях и коже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Стимуляция процессов репарации</a:t>
            </a:r>
            <a:r>
              <a:rPr b="0" lang="ru-RU" sz="19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ТЭС-терапия достоверно ускоряет репаративную регенерацию при повреждениях тканей разного типа и разной этиологии: кожного и желудочного эпителия, соединительной ткани, гепатоцитов, нервных периферических волокон 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262626"/>
                </a:solidFill>
                <a:latin typeface="Century Gothic"/>
              </a:rPr>
              <a:t>Основные лечебные эффекты ТЭС-терапии:</a:t>
            </a:r>
            <a:br>
              <a:rPr sz="5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Стимуляция иммунитета, торможение роста опухолей, антиаллергический эффект</a:t>
            </a:r>
            <a:r>
              <a:rPr b="0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.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ТЭС-терапия выраженно усиливает образование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gM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 и подавляет стресс-индуцируемое увеличение синтеза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IgE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. В рамках иммунного ответа β-эндорфин активирует Т-хелперы и </a:t>
            </a:r>
            <a:r>
              <a:rPr b="0" lang="en-US" sz="1700" spc="-1" strike="noStrike">
                <a:solidFill>
                  <a:srgbClr val="404040"/>
                </a:solidFill>
                <a:latin typeface="Century Gothic"/>
              </a:rPr>
              <a:t>NK</a:t>
            </a: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-клетки (естественные киллерные клетки). Доказано, что лимфоциты сами способны к выработке β-эндорфина, а нейроэндокринные и иммунокомпетентные клетки имеют опиатные рецепторы. Повышение концентрации β-эндорфина и его взаимодействие с рецепторами активизирует розеткообразование и завершенный фагоцитоз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Метаболическое действие</a:t>
            </a:r>
            <a:r>
              <a:rPr b="0" lang="ru-RU" sz="1700" spc="-1" strike="noStrike" u="sng">
                <a:solidFill>
                  <a:srgbClr val="404040"/>
                </a:solidFill>
                <a:uFillTx/>
                <a:latin typeface="Century Gothic"/>
              </a:rPr>
              <a:t>: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ТЭС-терапия нормализует синтетическую и дезинтоксикационную функции печени, способствует нормализации водно-солевого и азотистого обмена, активизирует процессы окислительного фосфорилирования, снижает интенсивность перекисного окисления липидов и др. 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8T14:22:25Z</dcterms:created>
  <dc:creator>papa</dc:creator>
  <dc:description/>
  <dc:language>en-US</dc:language>
  <cp:lastModifiedBy>user</cp:lastModifiedBy>
  <dcterms:modified xsi:type="dcterms:W3CDTF">2018-12-17T05:19:42Z</dcterms:modified>
  <cp:revision>22</cp:revision>
  <dc:subject/>
  <dc:title>Опыт использования транскраниальной электростимуляции в комплексном лечении алкогольного абстинентного синдрома</dc:title>
</cp:coreProperties>
</file>