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DED6-55C3-4326-A9FA-B1B8C35276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1EC7-23ED-4C9B-9E94-855E1A1CD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971-E96F-487A-9D52-6AC2F1DB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280-E083-4BE1-B6B7-056F386D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69B48-9087-4764-AE53-FA99E562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1F3F4-F6CA-4160-8A81-3AFCDD3A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18BA-F478-4B05-A1C7-498B9276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1AF36-4B87-4A7D-8033-42817C7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BA252-4AFB-4A3F-AD4D-A6450F9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EAA9B-FCA7-4848-B340-6E52B013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A5762-7FA8-4143-B3A9-6859A77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B7C3-D68C-4EE5-9B95-2FEB735A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C3D53-7099-4732-B8F1-9B61821D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6107-B194-4200-843F-91C72F8E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D4C-9819-49FC-88F8-3E474B7D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8D6F3-CA6A-4FF8-9682-B40913C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4B21B-CBF0-4501-AFF1-A91A8CC5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AF67-3A57-4E5D-A4CC-587B4E6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905B-7453-4358-8544-0C508BF2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6E2B0-4466-44CF-8046-34FB7848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41AF6-F7DD-467D-8C59-B259A7FF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95018-B852-49E6-9C58-FE522F3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A458E-5562-467B-9B53-33A014C0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88F13-B148-4AD0-9B2C-83D5743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A68E5-2312-4FEC-8D4E-DC872BB3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A22-E574-4113-9C7D-5EA2848B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E0645-D8A3-4C83-BAA7-F1F7365E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5E197-DE46-4960-BF69-2F855C8F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475B8-7FAA-4BE5-82C0-93A1A01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16D4A-7A9A-4197-BD8C-F183FEAC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73384-A8A2-43EC-A68F-62CAC54A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E0CA-BD9F-4D6C-88B3-377F4E17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029C-09A8-4686-AC47-E6877E64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11324-0CE2-4405-BC84-282EDE9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CD8D0-2649-403B-93C2-394021C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8BAEB-2549-4196-B57F-6F5A61A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F17D-5EA8-40B1-98D0-3E13AA2B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FA2F-8538-4CFC-819C-CEF95FCD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927AC-0131-4DCC-8E69-31385E5C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E0581-6507-4388-86F8-B58DAB71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BD2D8-9388-4846-A377-D71A108C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7B0F6-EC99-4714-9B9E-12F307B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E02E0-D8A8-4903-B396-7068F873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21576-F57B-4404-BBEC-CF217A4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B2EF4-989A-4763-8835-87417880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C6576-45E0-4BDD-8F3B-C75267DC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73934-FBCE-41BD-B88F-7DD1CAE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CCC-1973-4278-BC20-01B3321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77D34-FFCC-4276-902A-ECDE060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C465C-93E5-49B9-97DE-985BAC6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0ED0B-3E21-4920-9A8A-15C8FD25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A8C0D-EFCE-4195-81F4-E4DAC89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2B1C1-B662-4270-B5FA-EDE61853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E07D7-55C3-4C58-96A5-BDE8BC30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94227-997A-478C-9B46-DF7FDF0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39B7C-8853-4AE6-8737-9C0F1B51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442CA4-0BBB-4BB5-B8D3-709234B7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6DBD0-C4AC-4F54-A375-1358F05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750F-315F-49ED-85B4-CA986663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3E5BF-C37D-4747-9E18-0C47CF3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F7C38-7F96-475E-94AD-DBE42152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A5CE1-BC19-4A4D-A927-A63EB841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3C987-2069-49F6-A7AB-92238AB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4F700-4E76-4F35-BD81-66C1A9B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6BD64-7419-4764-BF2B-093A391E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F6B82-0924-4709-9A49-28B4E90F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958E9-DE04-4F3B-99A1-892B7BA1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73EED-451A-4E9D-B302-5FEC393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CBE13-1E44-4CA0-9440-C34977ED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32B-07E8-4821-BAB8-7A48B3C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31868-1B7F-4AB5-801C-735E812D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36CE5E-EEE3-484A-A996-36C1981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F0129-D1C6-414D-AC36-C9FF43D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60386-5653-4F85-B04A-4EACF7F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0E888-400E-4C55-9883-0715464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98742-7486-453B-9BB4-591F8BB3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94020-5A0D-4969-A4EB-0721964C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F08F4-1B65-40CC-B725-89EC817F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D3572-ED92-4A6A-82DC-CEB11AAF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42BF0-BA71-49C8-A458-495C5AE5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E0AD-8D5C-4A74-9133-6D39D6A3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81728-82E2-42B1-852D-6B9FF2F7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3AA9A-DC7D-47D5-9B97-1011AE8C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432F5-CE90-446D-9AF1-AE35D49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5AB910-47F0-4888-B13D-15CEDA5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756A5A-7AE8-4218-AFA6-3853BEB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394A7-8D76-41B2-9F0C-88F2B3B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48FE3-08B1-42DE-956A-BCC95FE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E2498-279E-4524-B2AB-C57AC28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1C115-D0F0-4911-9701-8AB1584B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08030D-90C5-4586-801F-522B5168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7024-7301-4C8D-9383-6D6361BF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9147F-49C0-4C03-A3BB-335287E7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77FAE-84DA-4E37-8FAB-515D9B0F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D762E-4B1E-4268-9C8F-77CD58F7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C9F8C-52FD-43E7-81ED-43B226C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EA0FF-9BD9-46A6-B8A8-CA126503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50076-90DA-40C5-9E29-17CCD03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5BDB7-E358-4EA7-8687-30EB69A8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F8D80-262B-4702-8189-C5AD3AC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77CDA0-7A96-45A6-A9FE-42E93B2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98628-0166-4714-9E55-7831D5E3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D03-19A5-48BF-86A2-7B0ABA0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21D3C-C13D-4C74-9604-6A1DC3DB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E7327-F5FB-4558-B9A6-18646526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881650-6BC1-40CC-80DC-D05F4BD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9081F-A4E9-47E2-856D-BC99EED9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D5B89-A84B-44CD-92B8-9EFA529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2C777-2DBF-46C1-BB54-5684A840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F6E60-0EA3-4E87-A66D-111C041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FFCCA2-B36B-42C7-B463-2107D2E6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E2F99-A01A-43F9-A5F7-7DA9A9F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A87E1-FCDC-4CD9-9D14-ED36671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30D-F6FF-49E3-9199-E3A31B41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2546-015E-4588-99B0-15E7C2EA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4CB39C-87CA-4802-8CD4-227F9D1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B8D5D-E8F2-4F36-A174-6EF452D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0E7AF-CCBF-4887-9FC2-A3C82A3C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E0258-D434-4959-9DF7-972F9FD9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13FF6-1E9C-4A4D-940D-A9D895E8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098-D40D-464F-94E5-EE55E19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6181-A3AD-4B8A-93A1-E0A3238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2037-E78E-46E3-B784-934AC312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ACD0-29D8-46DF-9494-1D4D411F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0E6D-AC6D-4001-B3FA-B52E3489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CDD9-9830-480C-AB90-84A58BC0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1C07-3E58-45E8-9634-78D3CEEA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362CB-9056-48CE-A5C3-7F94C5AC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F474-37A1-43C2-A44B-BDB890D8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31B-279C-41CF-9BC0-4017FD0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9FC2-47A7-419D-ADC2-85C32DA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BB54-B2DB-441D-8D61-047ADD8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295A-96CB-4A90-B7D6-19779CE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2CA6-039D-4347-A297-9ABC164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C93C-D6A9-446A-8A4B-FB1D686B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ED29-7C43-4F72-AB0A-209A31FE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B01C-D6C7-439E-AF6F-6C4CB219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83EA-4599-4605-8FB2-19C3659B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C557-21DB-4CE9-8D4F-FCD2DA02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B273-9701-4BB8-A45A-05AB8C9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1A6-899F-47BD-B0D9-D7ACB54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8FCA-E6D8-41C8-8F8A-E677FEA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B2BE-E02A-46A2-9BF6-67F1E40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D2134-73D0-4C64-A4FB-397767CE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A10E-58DF-4318-BDEE-4297DC4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BB55-3855-4C37-A709-5E186EEE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8F14-2899-49B4-B761-8DC13CC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4BA4-4CBC-4A13-9451-467EE98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BA67-3D96-480A-9083-F609B711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C14E-3826-4A52-9E8C-F46AD168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5911-0081-421F-BC77-B7F5A8B8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DAA-6903-4EFF-8BAE-B7EB5A8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7F3C-4CC8-44B4-95A8-19B0BE72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C631-5499-403B-B7A9-B840884F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F4226-AE57-4993-8061-79980356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FA0D-BF62-45C6-A673-A714D6EA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2E12B-98A2-4E95-A8B0-F9B7642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C418-CC27-4C78-A367-B57F3DA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0E87-AD2D-439B-969B-53401D4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A4D3-E18E-41B4-8743-52F1F25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B58D-0DA3-4C3B-A273-123D9D3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4636-174A-4C5F-AD11-A2C4CAE7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778-496F-43D6-8B71-025CF31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1A52-A5E9-45FC-8BDB-8D8A0705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D6CB-2B0C-4219-8B08-FFEA647C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E99C-E049-4D86-A9DB-A3C76E8E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34DEB-451C-4B93-B9A8-12416B4B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C75E-DC4A-466B-B219-0C48382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1974E-5244-4208-8289-C48EB228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6375-C368-44F8-84B2-65B37210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D819-1C95-4D0E-B044-823F53C8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FCD93-B4EF-4526-B830-D972B07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3717F-4C6A-410B-BEFE-6E16E6D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944-4135-4236-8592-C632140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FE27-452C-430D-BCFF-8506610C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8B670-FF71-41BE-B36F-C7178FE1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0188-1E7A-4BEC-8187-0FA6E227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ADF82-5DC3-4510-A235-E6A4A3F0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4EAD-9475-4FCD-BC83-8A98DF3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7D9D-23EE-41BE-8B21-596A15D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14A81-87A4-4D29-A330-5F8401F4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94D0-8EED-4739-B453-77AE7AC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F875-7C33-4D58-A42B-32E2767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0F66E-446A-4079-8065-57D5499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0B2-DA9A-4687-96B3-4D41B15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40CE-87F0-4A5A-847C-63D94A37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AC49-5333-4717-86A4-83E2209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E733-0AAF-486A-8674-19DE703C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5B41-8103-450B-AC8A-E70AC55F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6B142-818B-44E0-8A36-533E636D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C78F8-3503-4840-A92C-68A1B65B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6DCA4-E5CC-4D78-8D3F-C804464E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EAE9-FDA8-493C-BB68-C577CA33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1213-7216-4586-A1CA-B327CCA8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9BF74-2564-4247-884E-461E15A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C97-34F2-4E28-B239-9BDCC72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BA00-AA65-402A-9124-DE432E0F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E5ABC-D18D-4BEB-A155-45A3470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7FE75-AF61-4F24-A6D4-C9D6309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F9CA8-FB67-4E9A-BFE1-E23A6048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B056-2710-4DCD-A827-2C3DB060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5A4F2-D490-4CAB-A663-9D52123C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C1367-88FD-49F7-BB65-1DDAB858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37C3-46F6-4D90-AE1F-184F4308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5BFB4-E638-403E-BABD-BEDC4901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28C5E-06A0-482E-AFCD-3253650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FB0-20E4-428F-9CBC-FE1091E481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7F7F-1394-4E7B-9B32-3FFE7AC968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D0EF-3267-4BA2-B584-067F29A580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01E-5756-4CF8-89D0-3E474465F5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D77-B3C0-4FF6-AC3E-95CE95380F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584E-C88C-43C8-9AFC-2A7ADD9D6D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7786-8659-4080-9F86-6EA8F6A6585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E5B-D67B-48E2-B429-C4854CEBA9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C3E-5E75-4DFD-836D-24C3F2D2D4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CCFA-FE95-4B18-9083-3C3664D4958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0D9C-69B5-440A-8782-2D4FE8CA39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AC4F-8A9A-45FC-B3F4-222B51E5CF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6A7-662C-4D39-B4CA-AB95411FF5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0E31-65FA-497B-B574-D073386E59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B0F-EA4F-44BD-A9B4-872D1DC06A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4858-19F9-4B8D-9CB3-6286F31907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9B8-2715-4EAF-A571-EE97D1B5BA2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ыт использования транскраниальной электростимуляции в комплексном лечении алкогольного абстинентного синдрома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Бикетов А.Н. –заведующий отделением неотложной наркологической помощи филиала « Новотроицкий наркологический диспансер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ассмотренные эффекты ТЭС-терапии играют важную роль при решении наркологических проблем: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ормализация психофизиологического статуса снижает побудительные причины алкоголизации и наркомании, служат повышению социальной адаптации. При ТЭС-терапии уже сложившейся патологии происходит повышение настроения, нормализация самочувствия, сна, ликвидация тревожности и других аффективных расстройств, уменьшается патологическое влечение и зависимость от психоактивных веществ. Высока эффективность ТЭС-терапии при лечении синдрома дефицита внимания с гиперактивностью у детей и подростков, что рассматривается специалистами как профилактика возможного развития у них алкоголизма и наркомании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1942920" y="1267920"/>
            <a:ext cx="6591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 купирует любые болевые синдромы, в том числе и сопутствующие абстинентным состояниям, препятствует развитию зависимости от анальгетиков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коряет заживление слизистой желудка и 12-перстной кишки при язвенных поражениях, часто сопровождающих чрезмерное употребление алкогол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траняет жировую дегенерацию печени и стимулирует репаративную регенерацию гепатоцитов без формирования цирроза. Препятствует жировой дистрофии печени. Восстанавливает синтетическую и дезинтоксикационную функции печени, обладает онкопротекторным эффектом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нормализует артериальное давление, как правило, повышенное у алкоголиков и наркоманов Стимулирует иммунитет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боснование применения ТЭС-терапии для купирования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алкогольного абстинентного синдром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дикаментозные препараты, их комбинации и нарастающее количество создает дополнительную нагрузку на уже пораженную печень и ставит ряд серьезных проблем, обусловленных выраженными побочными действиями, осложнениями, развитием аллергизации, толерантности, привыкания и зависимост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1942920" y="1052640"/>
            <a:ext cx="659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купирования алкогольного абстинентного синдрома применяются аппараты «Трансаир» любой модификации. но наиболее эффективно применение аппаратом «Трансаир-04», позволяющих сочетать монополярный импульсный ток с постоянным током. Курс лечения состоит из 5-7 процедур по 30 минут. Первые 2-3 дня возможно проведение 2-х процедур в день (по состоянию). Обычно проводится по одной процедуре ежеднев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использовании аппаратов «Трансаир-03», не имеющих постоянной составляющей режим выбирается врачом с учетом личного опыт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Трансаир-3» и «Трансаир-4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4" descr="Трансаир-3"/>
          <p:cNvPicPr/>
          <p:nvPr/>
        </p:nvPicPr>
        <p:blipFill>
          <a:blip r:embed="rId1"/>
          <a:stretch/>
        </p:blipFill>
        <p:spPr>
          <a:xfrm>
            <a:off x="1763640" y="2133720"/>
            <a:ext cx="3327480" cy="24382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" descr="Трансаир-4"/>
          <p:cNvPicPr/>
          <p:nvPr/>
        </p:nvPicPr>
        <p:blipFill>
          <a:blip r:embed="rId2"/>
          <a:stretch/>
        </p:blipFill>
        <p:spPr>
          <a:xfrm>
            <a:off x="5003640" y="4221000"/>
            <a:ext cx="33274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ТЭС-терапия для восстановления функции пече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временное применение ТЭС-терапии и «Эссенциале» и его аналогов не показано, так как многочисленные исследования говорят о снижении эффективности данного сочетания и о большей сравнительной эффективности ТЭС-терапии, проводимой в моновариан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хорошо сочетается с применением витаминов группы В, никотиновой кислоты, карсила и других аналогичных фармацевтических  препаратов. Более того, их применение на фоне ТЭС-терапии дает более убедительные положительные результаты. Это является следствием эндорфинергической активизации гомеостатических систем организм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Противопоказания к ТЭС-терапии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дорожные состояния, эпил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травмы и опухоли головного мозга, острые инфекционные поражения ЦН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териальная гипертензи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I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т. в период криз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идроцефал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психические расстрой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иреотоксико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повреждений кожи в местах наложения элект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вживленных кардиостимулятор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 до 5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териалы и мет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годы работы в отделении неотложной наркологической помощи методом ТЭС было пролечено более 150 пациентов с алкогольным абстинентным состояние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Я проанализировал истории болезни 20пациетов с диагнозом АСС  к которым применялся метод ТЭС и 20 пациентов к которым метод ТЭС не применялся. Обе группы получали стандартную медикаментозную терапию. Результаты представлены ниже на слай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ппа : Возраст от 32 до 47 лет, 15 мужчин, 5 женщин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 группа (контрольная): Возраст от 34 до 45 лет, 17 мужчин и 3 женщины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именялась одинаковая медикаментозная терапия: инфузионная терапия, коррекция электролитного баланса, кислотно-щелочного состояния, транквилизаторы, бета-блокаторы, антиконвульсанты, витаминотерапия, диуретики, ноотроп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 группа : в течении 3 дней проводилась процедура ТЭС-терапии аппаратом « Трансаир-4» в режиме: «Монополярный с ДПС» . Данный параметр  рекомендован авторами в указанных выше стать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ила тока 0.95-2.23 мА - регулировалась по индивидуальным ощуще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должительность процедуры 60 мину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 18 человек процедура проводилась в первой половине дня, 2 человека в вечерние час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942920" y="1052640"/>
            <a:ext cx="65912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им из современных эффективных патогенетических методов лечения алкогольного абстинентного синдрома является транскраниальная электростимуляция защитных механизмов мозга – ТЭС-терап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Рисунок 1" descr=""/>
          <p:cNvPicPr/>
          <p:nvPr/>
        </p:nvPicPr>
        <p:blipFill>
          <a:blip r:embed="rId1"/>
          <a:stretch/>
        </p:blipFill>
        <p:spPr>
          <a:xfrm>
            <a:off x="900000" y="3389400"/>
            <a:ext cx="4037040" cy="2958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2" descr=""/>
          <p:cNvPicPr/>
          <p:nvPr/>
        </p:nvPicPr>
        <p:blipFill>
          <a:blip r:embed="rId2"/>
          <a:stretch/>
        </p:blipFill>
        <p:spPr>
          <a:xfrm>
            <a:off x="4748040" y="2708280"/>
            <a:ext cx="3986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Объект 10"/>
          <p:cNvGraphicFramePr/>
          <p:nvPr/>
        </p:nvGraphicFramePr>
        <p:xfrm>
          <a:off x="1305000" y="722160"/>
          <a:ext cx="7230960" cy="56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1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722160"/>
                    <a:ext cx="723096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частоты пульса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3" name="Объект 9"/>
          <p:cNvGraphicFramePr/>
          <p:nvPr/>
        </p:nvGraphicFramePr>
        <p:xfrm>
          <a:off x="1892160" y="2225520"/>
          <a:ext cx="66931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225520"/>
                    <a:ext cx="66931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763640" y="623880"/>
            <a:ext cx="677088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систолического артериального давления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6" name="Объект 9"/>
          <p:cNvGraphicFramePr/>
          <p:nvPr/>
        </p:nvGraphicFramePr>
        <p:xfrm>
          <a:off x="1892160" y="208296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7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8296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Таким образом мы видим, что ТЭС-терапия является высокоэффективной для купирования алкогольного абстинентного синдро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зультаты и выв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1267920"/>
            <a:ext cx="65912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ЭС-терапия, начатая в период максимальной выраженности абстинентной симптоматики (1-й день лечения), уже через 30-60 минут после процедуры приводила к уменьшению большинства симптомов ААС на 50% и более, а практически полное купирование ААС средней тяжести происходило за 2-3 дн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менение ТЭС-терапии достоверно снижает интенсивность абстинентной симптоматики. Уже после 1-2 процедур отчетливо улучшалось самочувствие, уменьшалась тяжесть соматоневрологических расстройств. Купировались симптомы апатии, астении, повышались настроение и аппетит. Исчезали тяжесть в голове, озноб и тремор, нормализовывался сон. Купировались нарушения координации (устойчивость в позе Ромберга, пальце-носовая проба), исчезал горизонтальный нистагм. От процедуры к процедуре отмечалось нарастание положительной динамики. Стабилизировалось АД, выравнивался пульс. Пациенты отмечали отчетливое снижение влечения к алкоголю, купирование жажды и сухости во рт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968560"/>
            <a:ext cx="6973920" cy="1755720"/>
          </a:xfrm>
          <a:prstGeom prst="rect">
            <a:avLst/>
          </a:prstGeom>
          <a:ln w="0">
            <a:noFill/>
          </a:ln>
        </p:spPr>
      </p:pic>
      <p:pic>
        <p:nvPicPr>
          <p:cNvPr id="1232" name="Рисунок 4" descr=""/>
          <p:cNvPicPr/>
          <p:nvPr/>
        </p:nvPicPr>
        <p:blipFill>
          <a:blip r:embed="rId2"/>
          <a:stretch/>
        </p:blipFill>
        <p:spPr>
          <a:xfrm>
            <a:off x="4140360" y="56664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942920" y="475920"/>
            <a:ext cx="65912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вестно, что ТЭС-терапия избирательно повышает выработку эндогенных опиоидных пептидов, в первую очередь β-эндорфина, и за счет этого нормализует эмоциональный статус, настроение, мотивационную сферу, регулирует поведение, средовую и социальную адаптацию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558880" y="2205000"/>
            <a:ext cx="448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мимо этого ТЭС-терапия эффективно купирует болевые синдромы, стимулирует репаративные процессы в организме, восстанавливает иммунитет, нормализует артериальное давление. Таким образом, ТЭС-терапия имеет комплексную и системную гомеостатическую направленнос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-8175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942920" y="1341360"/>
            <a:ext cx="65912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етод транскраниальной электростимуляции был разработан в начале 80-х годов в Институте физиологии им. И.П.Павлова РАН, Санкт-Петербург, группой ученых под руководством Лауреата Государственной Премии СССР, профессора В.П.Лебедева , а также создана аппаратура для реализации этого мет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3"/>
          <p:cNvSpPr/>
          <p:nvPr/>
        </p:nvSpPr>
        <p:spPr>
          <a:xfrm>
            <a:off x="1978200" y="1695600"/>
            <a:ext cx="6591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Лебедев В.П. и др. Лечение алкогольного абстинентного синдрома с помощью транскраниального электрического воздействия. «Вопросы наркологии», 1988, №3, с.27-3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Шабанов П.Д. и соавт. Нетрадиционные методы лечения алкоголизма. СПб., «Гиппократ». 1993, 192 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Крупицкий Е.М., Бураков А.М., Карандашева Г.Ф. и соавт. Об одном из методов лечения аффективных нарушений у больных алкоголизмом. «Журнал невропатологии и психиатрии им. С.С.Корсакова», 1991, Т.91, № 4, с. 90-9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Мелихова М.В., Нечипоренко С.П., Колбасов С.Е., Стройкова Г.С. Транскраниальная электростимуляция как регулятор процессов репарации токсически поврежденной печени. «Электростимуляция 2002» : Сб. работ. – М.: ВНИИМП-ВИТА. 2002, с. 15-2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720" y="691920"/>
            <a:ext cx="601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огда же , в 80-е годы метод ТЭС стали применять в наркологии для лечения абстинентного алкогольного синдрома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60440" y="115560"/>
            <a:ext cx="65880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3964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психофизиологического стату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обладает выраженным стресс-лимитирующим действием  Отмечается устранение симптомов депрессии, снятие утомления, нервного напряжения, повышение нейропсихической устойчивости, нормализация настроения и сн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Купирование болевых синдромов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ТЭС-терапии происходит снижение чувствительности периферических болевых рецепторов, блокируется проведение болевых импульсов в спинном мозге, в том числе за счет эндорфинного торможения выделения субстанции Р, также блокируется проведение болевых импульсов на уровне ядер таламуса  В связи с этим анальгетический эффект ТЭС-терапии не зависит от причины и локализации боли. Он наступает уже через 10-15 минут после начала электростимуляции, что связано с достижением высокой концентрации β-эндорфина в мозге, ликворе и крови. Анальгезия имеет длительное последействие, увеличивающееся по мере проведения курсового ле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артериального давления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В ряде работ показано, что при ТЭС-терапии происходит ослабление как стимулирующих, так и тормозящих влияний на вазомоторные бульбоспинальные нейроны, расположенные в вентролатеральной области продолговатого мозга. Стимуляция опиоидных систем мозга не только восстанавливает центральную регуляцию гемодинамики, но и нормализует периферическое кровообращение в конечностях и коже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процессов репарации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достоверно ускоряет репаративную регенерацию при повреждениях тканей разного типа и разной этиологии: кожного и желудочного эпителия, соединительной ткани, гепатоцитов, нервных периферических волокон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иммунитета, торможение роста опухолей, антиаллергический эффект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выраженно усиливает образование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M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и подавляет стресс-индуцируемое увеличение синтеза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E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 В рамках иммунного ответа β-эндорфин активирует Т-хелперы и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NK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-клетки (естественные киллерные клетки). Доказано, что лимфоциты сами способны к выработке β-эндорфина, а нейроэндокринные и иммунокомпетентные клетки имеют опиатные рецепторы. Повышение концентрации β-эндорфина и его взаимодействие с рецепторами активизирует розеткообразование и завершенный фагоцитоз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Метаболическое действие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нормализует синтетическую и дезинтоксикационную функции печени, способствует нормализации водно-солевого и азотистого обмена, активизирует процессы окислительного фосфорилирования, снижает интенсивность перекисного окисления липидов и др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2:25Z</dcterms:created>
  <dc:creator>papa</dc:creator>
  <dc:description/>
  <dc:language>en-US</dc:language>
  <cp:lastModifiedBy>user</cp:lastModifiedBy>
  <dcterms:modified xsi:type="dcterms:W3CDTF">2018-12-17T05:19:42Z</dcterms:modified>
  <cp:revision>22</cp:revision>
  <dc:subject/>
  <dc:title>Опыт использования транскраниальной электростимуляции в комплексном лечении алкогольного абстинентного синдрома</dc:title>
</cp:coreProperties>
</file>