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media/image6.png" ContentType="image/png"/>
  <Override PartName="/ppt/media/image7.png" ContentType="image/png"/>
  <Override PartName="/ppt/media/image8.png" ContentType="image/png"/>
  <Override PartName="/ppt/media/image9.jpeg" ContentType="image/jpeg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notesMasterIdLst>
    <p:notesMasterId r:id="rId19"/>
  </p:notes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  <p:sldId id="267" r:id="rId31"/>
    <p:sldId id="268" r:id="rId32"/>
    <p:sldId id="269" r:id="rId33"/>
    <p:sldId id="270" r:id="rId34"/>
    <p:sldId id="271" r:id="rId35"/>
    <p:sldId id="272" r:id="rId36"/>
    <p:sldId id="273" r:id="rId37"/>
    <p:sldId id="274" r:id="rId38"/>
    <p:sldId id="275" r:id="rId39"/>
    <p:sldId id="276" r:id="rId40"/>
    <p:sldId id="277" r:id="rId41"/>
    <p:sldId id="278" r:id="rId42"/>
    <p:sldId id="279" r:id="rId43"/>
    <p:sldId id="280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notesMaster" Target="notesMasters/notesMaster1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slide" Target="slides/slide12.xml"/><Relationship Id="rId32" Type="http://schemas.openxmlformats.org/officeDocument/2006/relationships/slide" Target="slides/slide13.xml"/><Relationship Id="rId33" Type="http://schemas.openxmlformats.org/officeDocument/2006/relationships/slide" Target="slides/slide14.xml"/><Relationship Id="rId34" Type="http://schemas.openxmlformats.org/officeDocument/2006/relationships/slide" Target="slides/slide15.xml"/><Relationship Id="rId35" Type="http://schemas.openxmlformats.org/officeDocument/2006/relationships/slide" Target="slides/slide16.xml"/><Relationship Id="rId36" Type="http://schemas.openxmlformats.org/officeDocument/2006/relationships/slide" Target="slides/slide17.xml"/><Relationship Id="rId37" Type="http://schemas.openxmlformats.org/officeDocument/2006/relationships/slide" Target="slides/slide18.xml"/><Relationship Id="rId38" Type="http://schemas.openxmlformats.org/officeDocument/2006/relationships/slide" Target="slides/slide19.xml"/><Relationship Id="rId39" Type="http://schemas.openxmlformats.org/officeDocument/2006/relationships/slide" Target="slides/slide20.xml"/><Relationship Id="rId40" Type="http://schemas.openxmlformats.org/officeDocument/2006/relationships/slide" Target="slides/slide21.xml"/><Relationship Id="rId41" Type="http://schemas.openxmlformats.org/officeDocument/2006/relationships/slide" Target="slides/slide22.xml"/><Relationship Id="rId42" Type="http://schemas.openxmlformats.org/officeDocument/2006/relationships/slide" Target="slides/slide23.xml"/><Relationship Id="rId43" Type="http://schemas.openxmlformats.org/officeDocument/2006/relationships/slide" Target="slides/slide24.xml"/><Relationship Id="rId44" Type="http://schemas.openxmlformats.org/officeDocument/2006/relationships/slide" Target="slides/slide25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 type="dt" idx="5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move the slide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8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PlaceHolder 5"/>
          <p:cNvSpPr>
            <a:spLocks noGrp="1"/>
          </p:cNvSpPr>
          <p:nvPr>
            <p:ph type="ftr" idx="5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PlaceHolder 6"/>
          <p:cNvSpPr>
            <a:spLocks noGrp="1"/>
          </p:cNvSpPr>
          <p:nvPr>
            <p:ph type="sldNum" idx="5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FDB8F-059A-4E5B-9FBA-9DC561BA82C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019D4-52A8-4E7D-8CEF-5B22C8F83F9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Н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82AAD-2AEE-425A-AF04-CC239DB6B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3ADE2-0C9D-4572-BC78-9A7E7B9A6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127134-B941-453A-AE7E-3760F30B8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BA1AA1-9E10-4779-9347-3753832C9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26EB9E-7019-4EE9-8CC9-F524DA30E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846A13-6ABE-4861-A03C-9F0B2DBC4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10F4A5-6D56-48DA-8F03-CC7998351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94E452-F6C2-4EBF-9B98-D3524307F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51A25B-0106-4BDD-B9A9-AB16F73A5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B96A30-F8DE-42DA-8CC8-D5ABF8856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8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9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97D0AE-1447-4647-A366-823F8DD51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7682BB-5CA5-4B7A-95BD-C9307BF99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829EB-59AB-4951-96A6-CCEC6911B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EF1FAD-02F6-4F18-8E20-2192C9DF3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5AAABA-A217-4216-A4EF-F1DB3B8DB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2EFF8F-502A-4FF2-B923-C46A70C1D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83EE01-8877-48DD-94C0-28A2CAABE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E9AF2C-3AFF-419B-BCF5-7F3C57F9D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A8997C-A70F-47A0-B640-262742063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E494FA-BBA7-449E-A6FA-81A862E8D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3E59A0-4577-4AEC-BA90-7BBD8508F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8AC8EE-4B3F-4F47-A7A6-73691A7ED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A953DB-9683-4233-9D41-5C19DCAE1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478A7-4C97-42DE-B2B6-4466ED86E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141D4C-8FDA-4B50-8447-7BFD245C0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9CD99A-7105-4328-90AC-11832913B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143233-320F-4281-A6AA-D9E3EC890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B145FF-7A37-41D6-A349-D898F70BC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138AC5-207D-4F19-8786-5E23578E4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772C65-3F37-459C-8689-5D703BE56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CFD6EA-8FED-4795-A569-6A0C23F16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64F4C3-FDDC-4E82-8B75-FA8B52999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E64B38-1B80-4078-985A-6790A0C33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51810C-5F75-4F12-BB7A-CD9F3659E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19F0D-8370-45F9-8C35-A3FEEC81F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31C470-D78D-43A9-A0F6-593E87337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FC6E7E-AD66-4726-B947-33A69CD9E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3AB166-75A2-429E-A4CB-2D50B57A7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F2412D-FC6A-4F94-809F-AC6B21FF1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0C883C-E56C-4173-B7C9-656CE4664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F55277-986B-4A41-A147-FAD6A3FF1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F29592-FE80-4EBB-8ABE-142EDFE91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19733D-DD40-4165-9975-6BBD45930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5BBB83-5E8A-42FA-B8B1-AFE31FE10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F70321-02AC-4B60-A796-87E72541E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8A010-AF98-48DA-968F-48C7E4245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9E879B-D979-41EF-9E0B-03E1B2AC9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5ED55A-809F-4819-8EAE-ED356F820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4751BD-8FBD-44E5-95A6-4B6146D4B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F06417-FA0B-495A-837D-BFF47F94F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1EDB80-8F6E-409F-953B-C11A6CEBE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621AC9D-01E1-4E22-9E77-439D6B98A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E7BD325-038F-45FF-8D1E-DBC6D465B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236091E-83E6-4F7E-B28D-E3C228B9F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C9DCDF6-3E96-49E7-A0D8-0002290A6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71CAEB7-65CC-4CAA-B25A-7AEC655D2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BF3C2-CF0A-46E5-A9F2-C20506D81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163DB46-7C6D-44ED-A299-2F6BE84F9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6D314CF-6787-470B-841E-5251B79FD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E182532-86B1-4963-8781-045D82CB8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46D8A5A-FD94-4248-BF33-4C1C4EFA7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39FC3EB-D23F-49DF-AAE3-5A739C74E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B375009-35BA-4154-85D1-F3F24E316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949CCAA-C495-493E-8685-27209EF85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8F136A3-0F02-43A9-97A2-1E2BB3EDB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C2714A8-3698-44A0-AAFA-ACDB77E13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B246640-B6B8-42EB-A748-9D6629699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C3DCD-E63B-4D3E-97D8-195AC4D38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082164F-A974-4A7F-BF7A-C9042C11B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788D261-CC6C-4F92-8993-B4C447994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29FA970-3AA1-4524-BB98-EA417B698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47E941B-D4DC-41A2-B845-2161A97BE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DA6B7ED-30F3-42ED-A1F1-08BAE7544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5962491-038F-4700-AA3A-51598478A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D7B4DF4-3500-46D2-9CC7-2AF94C98C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F903230-B0E0-44FB-8D65-D3E20FF1B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FE92BB5-7F66-4D70-B3DB-48F88131A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CF06A2C-1FBE-46E6-A529-0CF7EE687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C23F4-0014-425B-8A7D-B5C6B4FC7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44BB419-4242-4D83-AA37-9106A216F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AF9F9FB-E793-4047-A0B6-E37BD1FA5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EE3FF4E-A1F8-4ED8-9DAA-F8E83EF20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C0201A7-9B97-47F5-8023-8401D2EFB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1BAE6B7-DB94-486C-9853-E9CC3EDFC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6DED016-E792-45F1-8747-9B5F44FBE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86F24DF-6B53-4554-BD1E-4D32BF893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1F53D59-7720-4B1E-AA78-A7B04AD7D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4CCF8E1-01CE-47CF-A3FE-7A9F4EFA8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0D5A471-AF15-42B5-9935-73000975A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070A5-C07E-47B2-AE8E-8DA4163A0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111F1CC-24C1-4271-8E22-7CA21F1D2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18E051C-7923-4B9A-915E-43853505E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626A9EB-1C63-4E4F-BBF2-EE505CF81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836E49C-6290-4D7A-89CF-DC478AE46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5B802DC-4519-421C-B47D-1DB2DE0A8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FA70FA6-AF37-4DA8-834A-E90484887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608EA32-80B9-48E6-907F-49495687D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20B7EC3-56CF-4282-9D06-22E6E9F0F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D5EB931-127C-4077-9126-2BFDA57B1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8BE6FFC-EE69-4E97-8DD1-D24F3A7AA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EE549-7758-4598-AA53-CA4BD13E2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68A77FF-74AB-4DA9-80DC-F8DA0B00F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40C9759-F341-4453-9F13-B8E2CB31B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3C9B063-F5FA-4881-B77F-3F9922FA4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981D0D0-566E-445B-AF17-123CDAACF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C3BA45C-3B34-4ED8-9C60-7AED0B94F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58DA1BC-7E7A-4735-80AD-A385DD90B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6B8E6B8-E4F6-4406-95BB-194A35874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1437BA3-2EE2-4BA0-BE8C-8C17C006C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D0C9479-2772-481F-A3EA-DB27243B2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412B6C9-EA76-45A7-B819-E19F37B72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A71D5-228A-40EA-A1D6-6050C0464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BF35D-9927-4E62-9B8B-B96E19F0F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E2F65A0-F40D-4294-BE4D-A43491442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390C802-1845-498E-B08E-3609CCD35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A7DBD17-B34E-484D-8461-F7FD537EB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8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DB5CA88-F42C-45AF-AEF7-1CCCD1476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3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4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5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29E238E-1767-4DA7-B791-310F504D0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73FFE-49B1-4586-A7FE-717153B7F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03AA4-CBA6-4EA2-89BB-E8DFBC17E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CD0F1-63B5-4BF9-AEE0-1628688C0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80940-8A7B-4566-9A47-8A63B49FC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15C0DD-6275-497F-80FE-0BD051FFB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E2FF44-0A6B-45AA-B404-6402B2F87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F385E8-AF77-4D9A-943F-2CDC792CF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BB02AE-ADA2-448B-B22E-FD0BE77DA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8FF7CE-D45E-44B8-8660-DDB7B2CBC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C6D4D-A0D1-4418-B3E4-1CCEDE000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B7F6DB-A75F-4511-968E-3A3F1E93B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57AE18-DD40-489C-8502-7F2EC1F2D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41DD55-78F2-469A-967E-8C568DCFF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AC79CD-EE92-42D1-BE63-445D48F30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C7C7DF-266B-4A25-8400-CA69CB464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D73EA4-3DB3-4591-8A55-B802CD631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682A5A-80DD-4939-9F87-1D8C72332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6D83E0-6E75-4495-A8A6-A437E781D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E40DC6-AA6E-4792-9DD4-54621A7EA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86CF63-8A9D-415E-AE2D-6CD1E7729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22181-8962-4B0E-A3FF-DF2FD8981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BC6656-DCB5-4B6D-AEA2-CDE8DBA46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2BEB33-250A-4AA8-B05C-E909BE735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5EEEEC-CD9C-4F1C-8138-1D0FD8F86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F01ED1-58E9-434F-98E6-EFD35FC8A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40A660-E653-4CCB-8731-B0F2FE7B3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23FB7E-6AB5-41F0-B49F-B79C3D5F7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AB5DD9-3547-4230-8C13-B2852870D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0D7F80-3318-416A-8080-6F22E12C3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9A7ED3-34C5-4310-8FE0-775713D23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09CA95-F3A1-4AB3-8FF2-211F4B9CD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506F0-0C11-46D6-92F4-9CC1CFA4E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12EDAE-DEA6-4407-80D6-1D0587023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300188-C263-43B3-A0C0-01DE52393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DAB489-F25E-4815-AFE7-9DCD00FCF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1627BF-C54F-40D3-A500-95EB76135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866DFA-ED8F-4FA8-B970-47AC4A35D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221242-6063-4AC2-AF96-5288F4FD4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D2CB62-6009-4732-B77B-DE8208067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510D41-9F46-4557-B2AD-D4A648FD2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5D1A60-6C1E-4632-BA7B-69395C1FD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9B844D-7880-4C8D-9AF7-BEE615493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F94F6-BACC-4E14-9F59-4C3F8DC33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EA132A-0F47-46F2-B929-FB97E03AC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5A254B-FC07-43FF-BC83-E9C5FAB52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E0EB95-61AA-4AE1-B135-14625B3E7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AE0A21-4329-4C1F-907B-5B2997A3C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23B01A-7E12-47E7-873F-2CE72A29E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25ACC3-44E0-443E-BFC7-AEBF39C9F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3EEC3A-751D-467B-8467-3EE1AC780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E8F3E7-3110-4BDB-A686-62894499A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4CD8B7-763C-4B5F-9A09-C25052700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5B2299-4C6A-4B14-9D4F-1928054ED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C6E98-BA21-4CF1-82F6-0FAF7C4F9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D60CF1-EE1D-4634-9617-0CCEEF72A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22A1A2-FE74-4B4E-9DC0-B74E06D1B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5B0E4A-989E-4FA4-A3BC-87B010DDF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7874E0-26A5-4099-8079-A96029614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6E45D6-10DD-4FC2-A81D-C79C8920F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425AF0-57C8-4782-BB2F-1397B52B4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692D65-192D-44A6-AA96-35DC932E5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A68FB3-B527-457D-AEC5-03AB542AB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8CF818-8FF1-43D2-83DD-1A7B480B2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9161A5-65E5-46C7-A3F7-BD4224EFC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DFE5F-55C1-419B-A365-98225E43E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9949C6-DCE5-4033-8F8E-9D343FD9C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78137E-990C-4BE3-B0F3-30CE6DF20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B0E394-5935-4C09-A2F5-9C77C6FFB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14B606-0162-4C33-A6C4-032FF04CF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8BD6D6-9311-422E-8642-790D92586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364249-78A4-4DDA-84CE-3D5C98C51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23BD45-86BE-4E56-91DF-B22A34E96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F83037-02B1-419B-A03A-C79AA1E32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2DDC3B-E9CC-4F8E-B7F5-513CC0BD9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1AAF72-D94C-4018-8820-A5B99BD0A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7A3DF-014B-4FD7-B995-1245233ED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5AB55C-F577-4302-8676-D358070FA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DB8631-46B6-41D8-8E41-1545DE8DA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2A1934-8E57-4A71-9732-AFC54F214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2E8E19-66E0-4BBC-8CE7-0AD961350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C7A18D-8C35-44B8-A12C-C5AFAAAA1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15CDF7-4470-4E53-BB78-31B827BCF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9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0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78EAC2-71F0-4DA3-9C81-EEF4821A9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F9F189-DFFB-4448-AB7D-A6B285F58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6B19A8-AF04-4AAA-AB27-22DD53104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154726-B27B-4EE5-B0ED-CFD15480C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4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238BE-4913-41A4-9E0D-E46119497A3D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0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21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3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634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6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28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29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30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41BB0-9CA1-4E58-82B6-FEEFD7BE8BF0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9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70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 type="dt" idx="31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 type="ftr" idx="32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 type="sldNum" idx="33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A4A0D-B69B-43A8-9E6D-C17BE8EDDC0A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75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77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TextBox 34"/>
          <p:cNvSpPr/>
          <p:nvPr/>
        </p:nvSpPr>
        <p:spPr>
          <a:xfrm>
            <a:off x="1808280" y="6476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TextBox 62"/>
          <p:cNvSpPr/>
          <p:nvPr/>
        </p:nvSpPr>
        <p:spPr>
          <a:xfrm>
            <a:off x="8169120" y="2905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 type="dt" idx="34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 type="ftr" idx="35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5"/>
          <p:cNvSpPr>
            <a:spLocks noGrp="1"/>
          </p:cNvSpPr>
          <p:nvPr>
            <p:ph type="sldNum" idx="36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5BF6E-92D1-4496-8EF6-5D3E44D8F033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83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84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 type="dt" idx="37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 type="ftr" idx="38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5"/>
          <p:cNvSpPr>
            <a:spLocks noGrp="1"/>
          </p:cNvSpPr>
          <p:nvPr>
            <p:ph type="sldNum" idx="39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9D575-C78D-45F3-BDB2-1E27B9D53C0A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89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91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TextBox 34"/>
          <p:cNvSpPr/>
          <p:nvPr/>
        </p:nvSpPr>
        <p:spPr>
          <a:xfrm>
            <a:off x="1808280" y="6476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TextBox 62"/>
          <p:cNvSpPr/>
          <p:nvPr/>
        </p:nvSpPr>
        <p:spPr>
          <a:xfrm>
            <a:off x="8169120" y="2905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 type="dt" idx="40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 type="ftr" idx="41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5"/>
          <p:cNvSpPr>
            <a:spLocks noGrp="1"/>
          </p:cNvSpPr>
          <p:nvPr>
            <p:ph type="sldNum" idx="42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C8D7E-F3F4-46A5-B31B-6EBC4425D043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97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98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 type="dt" idx="43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 type="ftr" idx="44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5"/>
          <p:cNvSpPr>
            <a:spLocks noGrp="1"/>
          </p:cNvSpPr>
          <p:nvPr>
            <p:ph type="sldNum" idx="45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4365F-9611-4EBF-AF23-1419E3B8D492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03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05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 type="dt" idx="46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 type="ftr" idx="47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 type="sldNum" idx="48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0FC72-02BB-43D8-B2B9-2F810A2DDD66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7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108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0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121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3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 type="dt" idx="49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PlaceHolder 4"/>
          <p:cNvSpPr>
            <a:spLocks noGrp="1"/>
          </p:cNvSpPr>
          <p:nvPr>
            <p:ph type="ftr" idx="50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5"/>
          <p:cNvSpPr>
            <a:spLocks noGrp="1"/>
          </p:cNvSpPr>
          <p:nvPr>
            <p:ph type="sldNum" idx="51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9BAEB-A6E7-4F67-AE3D-03B2CEE9C9EC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8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Freeform 8"/>
          <p:cNvSpPr/>
          <p:nvPr/>
        </p:nvSpPr>
        <p:spPr>
          <a:xfrm>
            <a:off x="-31680" y="4321080"/>
            <a:ext cx="1395360" cy="781200"/>
          </a:xfrm>
          <a:custGeom>
            <a:avLst/>
            <a:gdLst/>
            <a:ahLst/>
            <a:rect l="l" t="t" r="r" b="b"/>
            <a:pathLst>
              <a:path w="8042" h="10000">
                <a:moveTo>
                  <a:pt x="5799" y="10000"/>
                </a:moveTo>
                <a:cubicBezTo>
                  <a:pt x="5880" y="10000"/>
                  <a:pt x="5934" y="9940"/>
                  <a:pt x="5961" y="9880"/>
                </a:cubicBezTo>
                <a:cubicBezTo>
                  <a:pt x="5961" y="9820"/>
                  <a:pt x="5988" y="9820"/>
                  <a:pt x="5988" y="9820"/>
                </a:cubicBezTo>
                <a:lnTo>
                  <a:pt x="8042" y="5260"/>
                </a:lnTo>
                <a:cubicBezTo>
                  <a:pt x="8096" y="5140"/>
                  <a:pt x="8096" y="4901"/>
                  <a:pt x="8042" y="4721"/>
                </a:cubicBezTo>
                <a:lnTo>
                  <a:pt x="5988" y="221"/>
                </a:lnTo>
                <a:cubicBezTo>
                  <a:pt x="5988" y="160"/>
                  <a:pt x="5961" y="160"/>
                  <a:pt x="5961" y="160"/>
                </a:cubicBezTo>
                <a:cubicBezTo>
                  <a:pt x="5934" y="101"/>
                  <a:pt x="5880" y="41"/>
                  <a:pt x="5799" y="41"/>
                </a:cubicBezTo>
                <a:lnTo>
                  <a:pt x="18" y="0"/>
                </a:lnTo>
                <a:cubicBezTo>
                  <a:pt x="12" y="3330"/>
                  <a:pt x="6" y="6661"/>
                  <a:pt x="0" y="9991"/>
                </a:cubicBezTo>
                <a:lnTo>
                  <a:pt x="5799" y="10000"/>
                </a:ln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4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5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6"/>
          </p:nvPr>
        </p:nvSpPr>
        <p:spPr>
          <a:xfrm>
            <a:off x="423360" y="4529160"/>
            <a:ext cx="584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49F79-4008-4E64-B0C1-E988C722A98B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38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51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7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8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9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4778A-7CD1-41F3-B2F4-70A422D265B9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207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220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dt" idx="10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ftr" idx="11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sldNum" idx="12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BF0BB-E60E-4F38-AB46-759B1DDBE5C1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5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276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8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289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1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13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14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15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B7A68-764F-48D4-947E-40C4D3AB345F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4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345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7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358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0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16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17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18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77882-ECF4-47F7-845E-9BDB229C4ECE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3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414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6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427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9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dt" idx="19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ftr" idx="20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sldNum" idx="21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8C733-9E34-46BE-99D1-6BBA3E594A39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2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483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5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496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8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 type="dt" idx="22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 type="ftr" idx="23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 type="sldNum" idx="24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EA1BE-3008-41CE-8579-4C158874D834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1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552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4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565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7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 type="dt" idx="25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 type="ftr" idx="26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 type="sldNum" idx="27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0658E-3B5A-4B8B-A29C-BEA7B82F06AA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262626"/>
                </a:solidFill>
                <a:latin typeface="Century Gothic"/>
              </a:rPr>
              <a:t>Опыт использования транскраниальной электростимуляции в комплексном лечении алкогольного абстинентного синдрома</a:t>
            </a:r>
            <a:br>
              <a:rPr sz="3600"/>
            </a:b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595959"/>
                </a:solidFill>
                <a:latin typeface="Century Gothic"/>
              </a:rPr>
              <a:t> 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595959"/>
                </a:solidFill>
                <a:latin typeface="Century Gothic"/>
              </a:rPr>
              <a:t>Бикетов А.Н. –заведующий отделением неотложной наркологической помощи филиала « Новотроицкий наркологический диспансер»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262626"/>
                </a:solidFill>
                <a:latin typeface="Century Gothic"/>
              </a:rPr>
              <a:t>Рассмотренные эффекты ТЭС-терапии играют важную роль при решении наркологических проблем:</a:t>
            </a:r>
            <a:endParaRPr b="0" lang="en-US" sz="24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1942920" y="2133360"/>
            <a:ext cx="659124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1700" spc="-1" strike="noStrike">
                <a:solidFill>
                  <a:srgbClr val="404040"/>
                </a:solidFill>
                <a:latin typeface="Century Gothic"/>
              </a:rPr>
              <a:t>нормализация психофизиологического статуса снижает побудительные причины алкоголизации и наркомании, служат повышению социальной адаптации. При ТЭС-терапии уже сложившейся патологии происходит повышение настроения, нормализация самочувствия, сна, ликвидация тревожности и других аффективных расстройств, уменьшается патологическое влечение и зависимость от психоактивных веществ. Высока эффективность ТЭС-терапии при лечении синдрома дефицита внимания с гиперактивностью у детей и подростков, что рассматривается специалистами как профилактика возможного развития у них алкоголизма и наркомании </a:t>
            </a: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"/>
          <p:cNvSpPr txBox="1"/>
          <p:nvPr/>
        </p:nvSpPr>
        <p:spPr>
          <a:xfrm>
            <a:off x="1942920" y="1267920"/>
            <a:ext cx="6591240" cy="46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7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1900" spc="-1" strike="noStrike">
                <a:solidFill>
                  <a:srgbClr val="404040"/>
                </a:solidFill>
                <a:latin typeface="Century Gothic"/>
              </a:rPr>
              <a:t>ТЭС-терапия  купирует любые болевые синдромы, в том числе и сопутствующие абстинентным состояниям, препятствует развитию зависимости от анальгетиков </a:t>
            </a:r>
            <a:endParaRPr b="0" lang="en-US" sz="19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lnSpc>
                <a:spcPct val="7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1900" spc="-1" strike="noStrike">
                <a:solidFill>
                  <a:srgbClr val="404040"/>
                </a:solidFill>
                <a:latin typeface="Century Gothic"/>
              </a:rPr>
              <a:t>ТЭС-терапия ускоряет заживление слизистой желудка и 12-перстной кишки при язвенных поражениях, часто сопровождающих чрезмерное употребление алкоголя </a:t>
            </a:r>
            <a:endParaRPr b="0" lang="en-US" sz="19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lnSpc>
                <a:spcPct val="7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1900" spc="-1" strike="noStrike">
                <a:solidFill>
                  <a:srgbClr val="404040"/>
                </a:solidFill>
                <a:latin typeface="Century Gothic"/>
              </a:rPr>
              <a:t>ТЭС-терапия устраняет жировую дегенерацию печени и стимулирует репаративную регенерацию гепатоцитов без формирования цирроза. Препятствует жировой дистрофии печени. Восстанавливает синтетическую и дезинтоксикационную функции печени, обладает онкопротекторным эффектом</a:t>
            </a:r>
            <a:r>
              <a:rPr b="0" lang="en-US" sz="1900" spc="-1" strike="noStrike">
                <a:solidFill>
                  <a:srgbClr val="404040"/>
                </a:solidFill>
                <a:latin typeface="Century Gothic"/>
              </a:rPr>
              <a:t> </a:t>
            </a:r>
            <a:endParaRPr b="0" lang="en-US" sz="19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lnSpc>
                <a:spcPct val="7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1900" spc="-1" strike="noStrike">
                <a:solidFill>
                  <a:srgbClr val="404040"/>
                </a:solidFill>
                <a:latin typeface="Century Gothic"/>
              </a:rPr>
              <a:t>ТЭС-терапия нормализует артериальное давление, как правило, повышенное у алкоголиков и наркоманов Стимулирует иммунитет</a:t>
            </a:r>
            <a:r>
              <a:rPr b="0" lang="en-US" sz="1900" spc="-1" strike="noStrike">
                <a:solidFill>
                  <a:srgbClr val="404040"/>
                </a:solidFill>
                <a:latin typeface="Century Gothic"/>
              </a:rPr>
              <a:t> </a:t>
            </a:r>
            <a:endParaRPr b="0" lang="en-US" sz="19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262626"/>
                </a:solidFill>
                <a:latin typeface="Century Gothic"/>
              </a:rPr>
              <a:t>Обоснование применения ТЭС-терапии для купирования</a:t>
            </a:r>
            <a:br>
              <a:rPr sz="2400"/>
            </a:br>
            <a:r>
              <a:rPr b="1" lang="ru-RU" sz="2400" spc="-1" strike="noStrike">
                <a:solidFill>
                  <a:srgbClr val="262626"/>
                </a:solidFill>
                <a:latin typeface="Century Gothic"/>
              </a:rPr>
              <a:t>алкогольного абстинентного синдрома</a:t>
            </a:r>
            <a:endParaRPr b="0" lang="en-US" sz="24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05" name=""/>
          <p:cNvSpPr txBox="1"/>
          <p:nvPr/>
        </p:nvSpPr>
        <p:spPr>
          <a:xfrm>
            <a:off x="1942920" y="2133360"/>
            <a:ext cx="659124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Медикаментозные препараты, их комбинации и нарастающее количество создает дополнительную нагрузку на уже пораженную печень и ставит ряд серьезных проблем, обусловленных выраженными побочными действиями, осложнениями, развитием аллергизации, толерантности, привыкания и зависимости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/>
          </p:nvPr>
        </p:nvSpPr>
        <p:spPr>
          <a:xfrm>
            <a:off x="1942920" y="1052640"/>
            <a:ext cx="659124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Для купирования алкогольного абстинентного синдрома применяются аппараты «Трансаир» любой модификации. но наиболее эффективно применение аппаратом «Трансаир-04», позволяющих сочетать монополярный импульсный ток с постоянным током. Курс лечения состоит из 5-7 процедур по 30 минут. Первые 2-3 дня возможно проведение 2-х процедур в день (по состоянию). Обычно проводится по одной процедуре ежедневно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При использовании аппаратов «Трансаир-03», не имеющих постоянной составляющей режим выбирается врачом с учетом личного опыта.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262626"/>
                </a:solidFill>
                <a:latin typeface="Century Gothic"/>
              </a:rPr>
              <a:t>«Трансаир-3» и «Трансаир-4»</a:t>
            </a:r>
            <a:endParaRPr b="0" lang="en-US" sz="2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209" name="Picture 4" descr="Трансаир-3"/>
          <p:cNvPicPr/>
          <p:nvPr/>
        </p:nvPicPr>
        <p:blipFill>
          <a:blip r:embed="rId1"/>
          <a:stretch/>
        </p:blipFill>
        <p:spPr>
          <a:xfrm>
            <a:off x="1763640" y="2133720"/>
            <a:ext cx="3327480" cy="2438280"/>
          </a:xfrm>
          <a:prstGeom prst="rect">
            <a:avLst/>
          </a:prstGeom>
          <a:ln w="0">
            <a:noFill/>
          </a:ln>
        </p:spPr>
      </p:pic>
      <p:pic>
        <p:nvPicPr>
          <p:cNvPr id="1210" name="Picture 5" descr="Трансаир-4"/>
          <p:cNvPicPr/>
          <p:nvPr/>
        </p:nvPicPr>
        <p:blipFill>
          <a:blip r:embed="rId2"/>
          <a:stretch/>
        </p:blipFill>
        <p:spPr>
          <a:xfrm>
            <a:off x="5003640" y="4221000"/>
            <a:ext cx="3327480" cy="18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262626"/>
                </a:solidFill>
                <a:latin typeface="Century Gothic"/>
              </a:rPr>
              <a:t>ТЭС-терапия для восстановления функции печени</a:t>
            </a:r>
            <a:endParaRPr b="0" lang="en-US" sz="2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Одновременное применение ТЭС-терапии и «Эссенциале» и его аналогов не показано, так как многочисленные исследования говорят о снижении эффективности данного сочетания и о большей сравнительной эффективности ТЭС-терапии, проводимой в моноварианте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ТЭС-терапия хорошо сочетается с применением витаминов группы В, никотиновой кислоты, карсила и других аналогичных фармацевтических  препаратов. Более того, их применение на фоне ТЭС-терапии дает более убедительные положительные результаты. Это является следствием эндорфинергической активизации гомеостатических систем организма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262626"/>
                </a:solidFill>
                <a:latin typeface="Century Gothic"/>
              </a:rPr>
              <a:t>Противопоказания к ТЭС-терапии.</a:t>
            </a:r>
            <a:endParaRPr b="0" lang="en-US" sz="2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Судорожные состояния, эпилепсия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Острые травмы и опухоли головного мозга, острые инфекционные поражения ЦНС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Артериальная гипертензия </a:t>
            </a: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III</a:t>
            </a: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 ст. в период кризов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Гидроцефалия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Острые психические расстройства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Тиреотоксикоз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Наличие повреждений кожи в местах наложения электродов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Наличие вживленных кардиостимуляторов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Возраст до 5 лет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262626"/>
                </a:solidFill>
                <a:latin typeface="Century Gothic"/>
              </a:rPr>
              <a:t>Материалы и методы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16" name=""/>
          <p:cNvSpPr txBox="1"/>
          <p:nvPr/>
        </p:nvSpPr>
        <p:spPr>
          <a:xfrm>
            <a:off x="1942920" y="2133360"/>
            <a:ext cx="659124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За годы работы в отделении неотложной наркологической помощи методом ТЭС было пролечено более 150 пациентов с алкогольным абстинентным состоянием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Я проанализировал истории болезни 20пациетов с диагнозом АСС  к которым применялся метод ТЭС и 20 пациентов к которым метод ТЭС не применялся. Обе группы получали стандартную медикаментозную терапию. Результаты представлены ниже на слайде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1</a:t>
            </a:r>
            <a:r>
              <a:rPr b="0" lang="ru-RU" sz="1800" spc="-1" strike="noStrike">
                <a:solidFill>
                  <a:srgbClr val="404040"/>
                </a:solidFill>
                <a:latin typeface="Arial"/>
              </a:rPr>
              <a:t>группа : Возраст от 32 до 47 лет, 15 мужчин, 5 женщин. Диагноз: Абстинентное состояние неосложненное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Arial"/>
              </a:rPr>
              <a:t>2 группа (контрольная): Возраст от 34 до 45 лет, 17 мужчин и 3 женщины. Диагноз: Абстинентное состояние неосложненное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Arial"/>
              </a:rPr>
              <a:t>Применялась одинаковая медикаментозная терапия: инфузионная терапия, коррекция электролитного баланса, кислотно-щелочного состояния, транквилизаторы, бета-блокаторы, антиконвульсанты, витаминотерапия, диуретики, ноотропы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Arial"/>
              </a:rPr>
              <a:t>1 группа : в течении 3 дней проводилась процедура ТЭС-терапии аппаратом « Трансаир-4» в режиме: «Монополярный с ДПС» . Данный параметр  рекомендован авторами в указанных выше статьях.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Arial"/>
              </a:rPr>
              <a:t>Сила тока 0.95-2.23 мА - регулировалась по индивидуальным ощущениям.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Arial"/>
              </a:rPr>
              <a:t>Продолжительность процедуры 60 минут.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Arial"/>
              </a:rPr>
              <a:t>У 18 человек процедура проводилась в первой половине дня, 2 человека в вечерние часы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"/>
          <p:cNvSpPr txBox="1"/>
          <p:nvPr/>
        </p:nvSpPr>
        <p:spPr>
          <a:xfrm>
            <a:off x="1942920" y="1052640"/>
            <a:ext cx="659124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Одним из современных эффективных патогенетических методов лечения алкогольного абстинентного синдрома является транскраниальная электростимуляция защитных механизмов мозга – ТЭС-терапия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186" name="Рисунок 1" descr=""/>
          <p:cNvPicPr/>
          <p:nvPr/>
        </p:nvPicPr>
        <p:blipFill>
          <a:blip r:embed="rId1"/>
          <a:stretch/>
        </p:blipFill>
        <p:spPr>
          <a:xfrm>
            <a:off x="900000" y="3389400"/>
            <a:ext cx="4037040" cy="2958840"/>
          </a:xfrm>
          <a:prstGeom prst="rect">
            <a:avLst/>
          </a:prstGeom>
          <a:ln w="0">
            <a:noFill/>
          </a:ln>
        </p:spPr>
      </p:pic>
      <p:pic>
        <p:nvPicPr>
          <p:cNvPr id="1187" name="Рисунок 2" descr=""/>
          <p:cNvPicPr/>
          <p:nvPr/>
        </p:nvPicPr>
        <p:blipFill>
          <a:blip r:embed="rId2"/>
          <a:stretch/>
        </p:blipFill>
        <p:spPr>
          <a:xfrm>
            <a:off x="4748040" y="2708280"/>
            <a:ext cx="398628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20" name="Объект 10"/>
          <p:cNvGraphicFramePr/>
          <p:nvPr/>
        </p:nvGraphicFramePr>
        <p:xfrm>
          <a:off x="1305000" y="722160"/>
          <a:ext cx="7230960" cy="5659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1" name="Объект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05000" y="722160"/>
                    <a:ext cx="7230960" cy="565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Century Gothic"/>
              </a:rPr>
              <a:t>Динамика частоты пульса в группе пациентов с применением ТЭС  без неё.</a:t>
            </a:r>
            <a:endParaRPr b="0" lang="en-US" sz="2400" spc="-1" strike="noStrike">
              <a:solidFill>
                <a:srgbClr val="262626"/>
              </a:solidFill>
              <a:latin typeface="Century Gothic"/>
            </a:endParaRPr>
          </a:p>
        </p:txBody>
      </p:sp>
      <p:graphicFrame>
        <p:nvGraphicFramePr>
          <p:cNvPr id="1223" name="Объект 9"/>
          <p:cNvGraphicFramePr/>
          <p:nvPr/>
        </p:nvGraphicFramePr>
        <p:xfrm>
          <a:off x="1892160" y="2225520"/>
          <a:ext cx="6693120" cy="4681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4" name="Объект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92160" y="2225520"/>
                    <a:ext cx="6693120" cy="468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1763640" y="623880"/>
            <a:ext cx="6770880" cy="7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Century Gothic"/>
              </a:rPr>
              <a:t>Динамика систолического артериального давления в группе пациентов с применением ТЭС  без неё.</a:t>
            </a:r>
            <a:endParaRPr b="0" lang="en-US" sz="2400" spc="-1" strike="noStrike">
              <a:solidFill>
                <a:srgbClr val="262626"/>
              </a:solidFill>
              <a:latin typeface="Century Gothic"/>
            </a:endParaRPr>
          </a:p>
        </p:txBody>
      </p:sp>
      <p:graphicFrame>
        <p:nvGraphicFramePr>
          <p:cNvPr id="1226" name="Объект 9"/>
          <p:cNvGraphicFramePr/>
          <p:nvPr/>
        </p:nvGraphicFramePr>
        <p:xfrm>
          <a:off x="1892160" y="2082960"/>
          <a:ext cx="6693120" cy="3879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7" name="Объект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92160" y="2082960"/>
                    <a:ext cx="6693120" cy="387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Century Gothic"/>
              </a:rPr>
              <a:t>Таким образом мы видим, что ТЭС-терапия является высокоэффективной для купирования алкогольного абстинентного синдрома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262626"/>
                </a:solidFill>
                <a:latin typeface="Century Gothic"/>
              </a:rPr>
              <a:t>Результаты и выводы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0" name="PlaceHolder 2"/>
          <p:cNvSpPr>
            <a:spLocks noGrp="1"/>
          </p:cNvSpPr>
          <p:nvPr>
            <p:ph/>
          </p:nvPr>
        </p:nvSpPr>
        <p:spPr>
          <a:xfrm>
            <a:off x="1942920" y="1267920"/>
            <a:ext cx="6591240" cy="475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Century Gothic"/>
              </a:rPr>
              <a:t>ТЭС-терапия, начатая в период максимальной выраженности абстинентной симптоматики (1-й день лечения), уже через 30-60 минут после процедуры приводила к уменьшению большинства симптомов ААС на 50% и более, а практически полное купирование ААС средней тяжести происходило за 2-3 дня.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marL="332640" indent="-3326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Century Gothic"/>
              </a:rPr>
              <a:t>применение ТЭС-терапии достоверно снижает интенсивность абстинентной симптоматики. Уже после 1-2 процедур отчетливо улучшалось самочувствие, уменьшалась тяжесть соматоневрологических расстройств. Купировались симптомы апатии, астении, повышались настроение и аппетит. Исчезали тяжесть в голове, озноб и тремор, нормализовывался сон. Купировались нарушения координации (устойчивость в позе Ромберга, пальце-носовая проба), исчезал горизонтальный нистагм. От процедуры к процедуре отмечалось нарастание положительной динамики. Стабилизировалось АД, выравнивался пульс. Пациенты отмечали отчетливое снижение влечения к алкоголю, купирование жажды и сухости во рту.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1" name="Прямоугольник 2" descr=""/>
          <p:cNvPicPr/>
          <p:nvPr/>
        </p:nvPicPr>
        <p:blipFill>
          <a:blip r:embed="rId1"/>
          <a:stretch/>
        </p:blipFill>
        <p:spPr>
          <a:xfrm>
            <a:off x="1981080" y="2968560"/>
            <a:ext cx="6973920" cy="1755720"/>
          </a:xfrm>
          <a:prstGeom prst="rect">
            <a:avLst/>
          </a:prstGeom>
          <a:ln w="0">
            <a:noFill/>
          </a:ln>
        </p:spPr>
      </p:pic>
      <p:pic>
        <p:nvPicPr>
          <p:cNvPr id="1232" name="Рисунок 4" descr=""/>
          <p:cNvPicPr/>
          <p:nvPr/>
        </p:nvPicPr>
        <p:blipFill>
          <a:blip r:embed="rId2"/>
          <a:stretch/>
        </p:blipFill>
        <p:spPr>
          <a:xfrm>
            <a:off x="4140360" y="566640"/>
            <a:ext cx="1904760" cy="24004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"/>
          <p:cNvSpPr txBox="1"/>
          <p:nvPr/>
        </p:nvSpPr>
        <p:spPr>
          <a:xfrm>
            <a:off x="1942920" y="475920"/>
            <a:ext cx="6591240" cy="54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Известно, что ТЭС-терапия избирательно повышает выработку эндогенных опиоидных пептидов, в первую очередь β-эндорфина, и за счет этого нормализует эмоциональный статус, настроение, мотивационную сферу, регулирует поведение, средовую и социальную адаптацию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189" name="Рисунок 1" descr=""/>
          <p:cNvPicPr/>
          <p:nvPr/>
        </p:nvPicPr>
        <p:blipFill>
          <a:blip r:embed="rId1"/>
          <a:stretch/>
        </p:blipFill>
        <p:spPr>
          <a:xfrm>
            <a:off x="2558880" y="2205000"/>
            <a:ext cx="448956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"/>
          <p:cNvSpPr txBox="1"/>
          <p:nvPr/>
        </p:nvSpPr>
        <p:spPr>
          <a:xfrm>
            <a:off x="1942920" y="2133360"/>
            <a:ext cx="659124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Помимо этого ТЭС-терапия эффективно купирует болевые синдромы, стимулирует репаративные процессы в организме, восстанавливает иммунитет, нормализует артериальное давление. Таким образом, ТЭС-терапия имеет комплексную и системную гомеостатическую направленность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91" name="Rectangle 4"/>
          <p:cNvSpPr/>
          <p:nvPr/>
        </p:nvSpPr>
        <p:spPr>
          <a:xfrm>
            <a:off x="-817560" y="3246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"/>
          <p:cNvSpPr txBox="1"/>
          <p:nvPr/>
        </p:nvSpPr>
        <p:spPr>
          <a:xfrm>
            <a:off x="1942920" y="1341360"/>
            <a:ext cx="6591240" cy="457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Century Gothic"/>
              </a:rPr>
              <a:t>Метод транскраниальной электростимуляции был разработан в начале 80-х годов в Институте физиологии им. И.П.Павлова РАН, Санкт-Петербург, группой ученых под руководством Лауреата Государственной Премии СССР, профессора В.П.Лебедева , а также создана аппаратура для реализации этого метода 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Rectangle 3"/>
          <p:cNvSpPr/>
          <p:nvPr/>
        </p:nvSpPr>
        <p:spPr>
          <a:xfrm>
            <a:off x="1978200" y="1695600"/>
            <a:ext cx="6591240" cy="47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700" spc="-1" strike="noStrike">
                <a:solidFill>
                  <a:srgbClr val="404040"/>
                </a:solidFill>
                <a:latin typeface="Arial"/>
                <a:ea typeface="Arial"/>
              </a:rPr>
              <a:t>Гриненко А.Я., Крупицкий Е.М., Лебедев В.П. и др. Лечение алкогольного абстинентного синдрома с помощью транскраниального электрического воздействия. «Вопросы наркологии», 1988, №3, с.27-30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700" spc="-1" strike="noStrike">
                <a:solidFill>
                  <a:srgbClr val="404040"/>
                </a:solidFill>
                <a:latin typeface="Arial"/>
                <a:ea typeface="Arial"/>
              </a:rPr>
              <a:t>Гриненко А.Я., Крупицкий Е.М., Шабанов П.Д. и соавт. Нетрадиционные методы лечения алкоголизма. СПб., «Гиппократ». 1993, 192 с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700" spc="-1" strike="noStrike">
                <a:solidFill>
                  <a:srgbClr val="404040"/>
                </a:solidFill>
                <a:latin typeface="Arial"/>
                <a:ea typeface="Arial"/>
              </a:rPr>
              <a:t>Крупицкий Е.М., Бураков А.М., Карандашева Г.Ф. и соавт. Об одном из методов лечения аффективных нарушений у больных алкоголизмом. «Журнал невропатологии и психиатрии им. С.С.Корсакова», 1991, Т.91, № 4, с. 90-94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700" spc="-1" strike="noStrike">
                <a:solidFill>
                  <a:srgbClr val="404040"/>
                </a:solidFill>
                <a:latin typeface="Arial"/>
                <a:ea typeface="Arial"/>
              </a:rPr>
              <a:t>Мелихова М.В., Нечипоренко С.П., Колбасов С.Е., Стройкова Г.С. Транскраниальная электростимуляция как регулятор процессов репарации токсически поврежденной печени. «Электростимуляция 2002» : Сб. работ. – М.: ВНИИМП-ВИТА. 2002, с. 15-23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1944720" y="691920"/>
            <a:ext cx="601200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Century Gothic"/>
              </a:rPr>
              <a:t>Тогда же , в 80-е годы метод ТЭС стали применять в наркологии для лечения абстинентного алкогольного синдрома: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26262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1360440" y="115560"/>
            <a:ext cx="6588000" cy="171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262626"/>
                </a:solidFill>
                <a:latin typeface="Century Gothic"/>
              </a:rPr>
              <a:t>Основные лечебные эффекты ТЭС-терапии:</a:t>
            </a: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6" name=""/>
          <p:cNvSpPr txBox="1"/>
          <p:nvPr/>
        </p:nvSpPr>
        <p:spPr>
          <a:xfrm>
            <a:off x="539640" y="1700280"/>
            <a:ext cx="8229600" cy="402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 u="sng">
                <a:solidFill>
                  <a:srgbClr val="404040"/>
                </a:solidFill>
                <a:uFillTx/>
                <a:latin typeface="Century Gothic"/>
              </a:rPr>
              <a:t>Нормализация психофизиологического статуса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ТЭС-терапия обладает выраженным стресс-лимитирующим действием  Отмечается устранение симптомов депрессии, снятие утомления, нервного напряжения, повышение нейропсихической устойчивости, нормализация настроения и сна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 u="sng">
                <a:solidFill>
                  <a:srgbClr val="404040"/>
                </a:solidFill>
                <a:uFillTx/>
                <a:latin typeface="Century Gothic"/>
              </a:rPr>
              <a:t>Купирование болевых синдромов</a:t>
            </a:r>
            <a:r>
              <a:rPr b="0" lang="ru-RU" sz="1800" spc="-1" strike="noStrike" u="sng">
                <a:solidFill>
                  <a:srgbClr val="404040"/>
                </a:solidFill>
                <a:uFillTx/>
                <a:latin typeface="Century Gothic"/>
              </a:rPr>
              <a:t>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В результате ТЭС-терапии происходит снижение чувствительности периферических болевых рецепторов, блокируется проведение болевых импульсов в спинном мозге, в том числе за счет эндорфинного торможения выделения субстанции Р, также блокируется проведение болевых импульсов на уровне ядер таламуса  В связи с этим анальгетический эффект ТЭС-терапии не зависит от причины и локализации боли. Он наступает уже через 10-15 минут после начала электростимуляции, что связано с достижением высокой концентрации β-эндорфина в мозге, ликворе и крови. Анальгезия имеет длительное последействие, увеличивающееся по мере проведения курсового лечения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262626"/>
                </a:solidFill>
                <a:latin typeface="Century Gothic"/>
              </a:rPr>
              <a:t>Основные лечебные эффекты ТЭС-терапии:</a:t>
            </a:r>
            <a:br>
              <a:rPr sz="5400"/>
            </a:br>
            <a:endParaRPr b="0" lang="en-US" sz="32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8" name=""/>
          <p:cNvSpPr txBox="1"/>
          <p:nvPr/>
        </p:nvSpPr>
        <p:spPr>
          <a:xfrm>
            <a:off x="1942920" y="2133360"/>
            <a:ext cx="659124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900" spc="-1" strike="noStrike" u="sng">
                <a:solidFill>
                  <a:srgbClr val="404040"/>
                </a:solidFill>
                <a:uFillTx/>
                <a:latin typeface="Century Gothic"/>
              </a:rPr>
              <a:t>Нормализация артериального давления</a:t>
            </a:r>
            <a:r>
              <a:rPr b="0" lang="ru-RU" sz="1900" spc="-1" strike="noStrike" u="sng">
                <a:solidFill>
                  <a:srgbClr val="404040"/>
                </a:solidFill>
                <a:uFillTx/>
                <a:latin typeface="Century Gothic"/>
              </a:rPr>
              <a:t>.</a:t>
            </a:r>
            <a:endParaRPr b="0" lang="en-US" sz="19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900" spc="-1" strike="noStrike">
                <a:solidFill>
                  <a:srgbClr val="404040"/>
                </a:solidFill>
                <a:latin typeface="Century Gothic"/>
              </a:rPr>
              <a:t>В ряде работ показано, что при ТЭС-терапии происходит ослабление как стимулирующих, так и тормозящих влияний на вазомоторные бульбоспинальные нейроны, расположенные в вентролатеральной области продолговатого мозга. Стимуляция опиоидных систем мозга не только восстанавливает центральную регуляцию гемодинамики, но и нормализует периферическое кровообращение в конечностях и коже </a:t>
            </a:r>
            <a:endParaRPr b="0" lang="en-US" sz="19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900" spc="-1" strike="noStrike" u="sng">
                <a:solidFill>
                  <a:srgbClr val="404040"/>
                </a:solidFill>
                <a:uFillTx/>
                <a:latin typeface="Century Gothic"/>
              </a:rPr>
              <a:t>Стимуляция процессов репарации</a:t>
            </a:r>
            <a:r>
              <a:rPr b="0" lang="ru-RU" sz="1900" spc="-1" strike="noStrike" u="sng">
                <a:solidFill>
                  <a:srgbClr val="404040"/>
                </a:solidFill>
                <a:uFillTx/>
                <a:latin typeface="Century Gothic"/>
              </a:rPr>
              <a:t>.</a:t>
            </a:r>
            <a:endParaRPr b="0" lang="en-US" sz="19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900" spc="-1" strike="noStrike">
                <a:solidFill>
                  <a:srgbClr val="404040"/>
                </a:solidFill>
                <a:latin typeface="Century Gothic"/>
              </a:rPr>
              <a:t>ТЭС-терапия достоверно ускоряет репаративную регенерацию при повреждениях тканей разного типа и разной этиологии: кожного и желудочного эпителия, соединительной ткани, гепатоцитов, нервных периферических волокон </a:t>
            </a:r>
            <a:endParaRPr b="0" lang="en-US" sz="19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262626"/>
                </a:solidFill>
                <a:latin typeface="Century Gothic"/>
              </a:rPr>
              <a:t>Основные лечебные эффекты ТЭС-терапии:</a:t>
            </a:r>
            <a:br>
              <a:rPr sz="5400"/>
            </a:br>
            <a:endParaRPr b="0" lang="en-US" sz="32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00" name=""/>
          <p:cNvSpPr txBox="1"/>
          <p:nvPr/>
        </p:nvSpPr>
        <p:spPr>
          <a:xfrm>
            <a:off x="1942920" y="2133360"/>
            <a:ext cx="659124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700" spc="-1" strike="noStrike" u="sng">
                <a:solidFill>
                  <a:srgbClr val="404040"/>
                </a:solidFill>
                <a:uFillTx/>
                <a:latin typeface="Century Gothic"/>
              </a:rPr>
              <a:t>Стимуляция иммунитета, торможение роста опухолей, антиаллергический эффект</a:t>
            </a:r>
            <a:r>
              <a:rPr b="0" lang="ru-RU" sz="1700" spc="-1" strike="noStrike" u="sng">
                <a:solidFill>
                  <a:srgbClr val="404040"/>
                </a:solidFill>
                <a:uFillTx/>
                <a:latin typeface="Century Gothic"/>
              </a:rPr>
              <a:t>.</a:t>
            </a: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700" spc="-1" strike="noStrike">
                <a:solidFill>
                  <a:srgbClr val="404040"/>
                </a:solidFill>
                <a:latin typeface="Century Gothic"/>
              </a:rPr>
              <a:t>ТЭС-терапия выраженно усиливает образование </a:t>
            </a:r>
            <a:r>
              <a:rPr b="0" lang="en-US" sz="1700" spc="-1" strike="noStrike">
                <a:solidFill>
                  <a:srgbClr val="404040"/>
                </a:solidFill>
                <a:latin typeface="Century Gothic"/>
              </a:rPr>
              <a:t>IgM</a:t>
            </a:r>
            <a:r>
              <a:rPr b="0" lang="ru-RU" sz="1700" spc="-1" strike="noStrike">
                <a:solidFill>
                  <a:srgbClr val="404040"/>
                </a:solidFill>
                <a:latin typeface="Century Gothic"/>
              </a:rPr>
              <a:t> и подавляет стресс-индуцируемое увеличение синтеза </a:t>
            </a:r>
            <a:r>
              <a:rPr b="0" lang="en-US" sz="1700" spc="-1" strike="noStrike">
                <a:solidFill>
                  <a:srgbClr val="404040"/>
                </a:solidFill>
                <a:latin typeface="Century Gothic"/>
              </a:rPr>
              <a:t>IgE</a:t>
            </a:r>
            <a:r>
              <a:rPr b="0" lang="ru-RU" sz="1700" spc="-1" strike="noStrike">
                <a:solidFill>
                  <a:srgbClr val="404040"/>
                </a:solidFill>
                <a:latin typeface="Century Gothic"/>
              </a:rPr>
              <a:t>. В рамках иммунного ответа β-эндорфин активирует Т-хелперы и </a:t>
            </a:r>
            <a:r>
              <a:rPr b="0" lang="en-US" sz="1700" spc="-1" strike="noStrike">
                <a:solidFill>
                  <a:srgbClr val="404040"/>
                </a:solidFill>
                <a:latin typeface="Century Gothic"/>
              </a:rPr>
              <a:t>NK</a:t>
            </a:r>
            <a:r>
              <a:rPr b="0" lang="ru-RU" sz="1700" spc="-1" strike="noStrike">
                <a:solidFill>
                  <a:srgbClr val="404040"/>
                </a:solidFill>
                <a:latin typeface="Century Gothic"/>
              </a:rPr>
              <a:t>-клетки (естественные киллерные клетки). Доказано, что лимфоциты сами способны к выработке β-эндорфина, а нейроэндокринные и иммунокомпетентные клетки имеют опиатные рецепторы. Повышение концентрации β-эндорфина и его взаимодействие с рецепторами активизирует розеткообразование и завершенный фагоцитоз </a:t>
            </a: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700" spc="-1" strike="noStrike" u="sng">
                <a:solidFill>
                  <a:srgbClr val="404040"/>
                </a:solidFill>
                <a:uFillTx/>
                <a:latin typeface="Century Gothic"/>
              </a:rPr>
              <a:t>Метаболическое действие</a:t>
            </a:r>
            <a:r>
              <a:rPr b="0" lang="ru-RU" sz="1700" spc="-1" strike="noStrike" u="sng">
                <a:solidFill>
                  <a:srgbClr val="404040"/>
                </a:solidFill>
                <a:uFillTx/>
                <a:latin typeface="Century Gothic"/>
              </a:rPr>
              <a:t>:</a:t>
            </a: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700" spc="-1" strike="noStrike">
                <a:solidFill>
                  <a:srgbClr val="404040"/>
                </a:solidFill>
                <a:latin typeface="Century Gothic"/>
              </a:rPr>
              <a:t>ТЭС-терапия нормализует синтетическую и дезинтоксикационную функции печени, способствует нормализации водно-солевого и азотистого обмена, активизирует процессы окислительного фосфорилирования, снижает интенсивность перекисного окисления липидов и др. </a:t>
            </a: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2-08T14:22:25Z</dcterms:created>
  <dc:creator>papa</dc:creator>
  <dc:description/>
  <dc:language>en-US</dc:language>
  <cp:lastModifiedBy>user</cp:lastModifiedBy>
  <dcterms:modified xsi:type="dcterms:W3CDTF">2018-12-17T05:19:42Z</dcterms:modified>
  <cp:revision>22</cp:revision>
  <dc:subject/>
  <dc:title>Опыт использования транскраниальной электростимуляции в комплексном лечении алкогольного абстинентного синдрома</dc:title>
</cp:coreProperties>
</file>