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56D9-E336-4372-BE1E-5250057080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CAED-27D6-4D2F-A886-E405481B6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495F-59B0-47DF-A511-1E757283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DB1-B793-4295-8DBD-3C49777E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50066-3CD8-42F3-877D-5C32CED4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25401-5FCF-422C-B253-5FE620C1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B1BA0-2397-47BE-8943-BF0BBAA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13627-0248-4081-B08E-BD47C69A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2B70B-C988-4292-B52E-640C7B1A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CB598-99FB-4363-B52B-1775BE13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AF90-B008-4425-909E-30F30821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E1FBA-359E-4C2F-90A7-9A21393D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8C32E-80F7-4757-BA23-FC8D9F3C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813A2-0D2D-4015-AA59-CC4F3A6D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A207-04AD-4F8A-8189-F0F813B6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5EC663-1816-4BEB-A7B6-25B39202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FC8AD-616E-41D0-B1AA-E6CCAFE5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192EE-5441-462E-893C-9A88AE1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30316-4CD0-4732-AE55-6F2BA1B1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83103-30EF-4874-B5F0-ABBB3512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8713D-AA34-4DFE-99A3-4E2E923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8E671-4D24-4A73-AD1F-079FD727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1118C-4C6F-4AF6-8D6D-945274A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FE965-1F22-4BD8-8E03-6CF6BEC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BE1B1-C1EE-4E43-A7E8-970606E7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3B7-4D0D-4B90-BDEA-2979BC68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5152F-7858-43F2-B47E-3B15F1D5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7542F-9EB5-449C-A841-8B05F560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A14F6-0AE8-4499-A7A9-7D319543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48487-9D86-456C-8B63-3DBF3207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A8F08-FCEF-40B3-8296-D02BE770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8EFC5-9384-4352-9B7D-56F1E1CF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C64A1-6679-4DD4-86D2-B4742428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B725F-0B81-4B97-B4CD-D08A2841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A728B-AA50-4D61-AF09-602ACD87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75581-D12C-497E-A612-E9930E45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1835-A270-4F22-A9A9-F302F02E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B4C09-2C78-4DF5-9C92-C41A4F7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93DB1-34CD-4332-BE75-6B7C3F51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AC4F5-FC90-4FC3-B72C-00AF1665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AE45C-8CE8-4DB9-91DA-C6FBEEE2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5ED86-BFAC-4B85-9C1C-C47A7A23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63B80-73F6-4B95-A89F-3C1ACB80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44680-3727-4FC6-AEA2-8EC34E18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4D7FA-12BD-45C3-AB74-33D30E03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CC469-D3F4-4958-8161-2C8E2523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D5572-3E21-4673-AB80-702C2798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2BE1-86FE-4BE0-8301-2D5DB61F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21BB9-FC7C-4D38-A93A-715697D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7B5F6-ABFA-4040-84FE-26109C7B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0019F-4456-4CBD-BAD1-6CD4DD07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130AE-5347-4CB4-AB98-45712463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1F272-9129-4F62-8F33-B35E1374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32AEE-AF76-43D0-944A-DD40EA9E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51490F-8958-4BF4-B2B0-589440DF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F13B2-ED6D-4807-8A03-063A5341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567056-C693-4CDA-8DCD-8A77A212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A7BF4C-A77F-4692-A519-927766A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A542-BA6B-47BD-84FE-C87C619D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1D3533-3050-4F8D-89CD-DEB36C9C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BE08B7-6746-4749-B147-7BC79A0E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E1BF22-C906-4799-872D-CE49DCB5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D646EE-EB34-4571-895D-383DD6D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67930-8E41-4E52-B75F-5143561B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1201A4-3E2D-49BC-AC12-54E13DC8A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47F02-6D23-43D4-ABE4-20A9ABBA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40A6E-63C4-4200-BF66-1D9A0F99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46D565-C95B-443B-9DA2-04F88867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AE063-0C38-4DE3-A438-E2EFD2AF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88A1-5A8E-4F0C-934E-FA013DD3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190C92-8AB8-4137-934D-681C9BCD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48221-D533-48E8-B40E-87A976A7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C12F5A-AA40-40DA-802B-1A469EAF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913A4-CF37-49F8-9C35-6A5FA68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845B1-B4E9-48EA-A56A-EE7D91C1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2D2F1-1B58-499B-9D1D-7CD1AE4D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3E5CF2-3A0F-4374-982B-D33ABCAF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7E661-3684-453F-B454-3971306BB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FEEB0-EE61-4EAD-B280-CE26BA8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F242F-6554-4D7C-B7D2-3CAFD954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E3AE-2E59-461C-AFAE-56DB6FDD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3E3DE8-9F32-4E3D-8690-A3437A9E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EF7BA-92CE-4CA1-9B4C-52525F74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6BE24C-56B0-40C9-B728-ABC130E0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5C05B-7DDB-4CF0-856A-D4AF1AD8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751A5-E7C4-4C75-B4B1-B81B1816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C68D2B-71C5-402C-8915-E9967EF1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8A85FF-3285-49FE-AD85-D875276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7ABB6-6F43-45A0-BA0B-3C604CCB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21CCA-3777-43D7-B876-20C5981A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9E016-7101-49B6-A3E5-35C3A31E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426C-6057-4309-931B-5552ED01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017D5A-6569-443D-8614-56567E58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193F6E-6E02-4DFE-9D26-1A21F9B28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E75406-CA07-4C69-8020-94DC2F55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EA596C-1065-41A8-B298-2D0D19F4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558066-E27C-4EE3-AF41-0E6F0A00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7988A-769F-4B6C-A0CC-BF3F9459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A225F1-7F26-440B-BA53-14C52FC1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FCA401-7E2E-41D2-9F61-25A9962B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6FB2DB-FFA7-4064-93B4-9D2B4ECB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9EE4C-E26A-4C39-81A4-082D4658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6BAA-775D-4B85-AA33-47A763D9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619BA-3831-4F99-8E52-95F2D65E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57EC80-0EE6-4722-AF99-4332F420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3EE32A-CF8B-4D72-B9BA-62289907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597CA-88D4-4E3D-B89B-A4D794F4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5E333D-A91D-4EBF-907B-285C1C71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EC5EC-EA42-46B2-B314-F966BCA9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4DFA0-2728-4F4F-A1ED-CBCDC493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DA62C-1850-4528-8E8B-CBF73E3D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705BC3-42D2-4071-AB8E-0ACEA808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3FECE-F5AB-462C-AD97-8C269768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787-D966-48D3-95E4-E0CB4008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F46F-C6DD-42C0-BBB1-A7E3B819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8E801-C371-4E0D-954C-FECAD6C5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AFEB1-6E1D-44EF-B8EB-057B5115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D379D4-BA88-47E4-B994-D3837D58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A58DE8-054E-45F6-B9B6-25CC5693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30DD9-5950-4109-BF95-F7A767D6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04BA-8DA1-4741-A1F7-FB5391A2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568A-B257-4040-A2E9-77BD123C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704E-19F7-4D54-9232-248B9DC9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C0B1-5EEF-468E-B521-3E5072FA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B558-60AB-41C0-AF15-06B71C63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71EF-31C3-4BFF-8B3B-826022DB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B85E7-AC17-46D8-91BE-1AE2D90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7B45-FBAA-4666-B98C-3C45383F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B6DCA-759D-49FA-8E41-50F70CCC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F15-E7E9-432A-9160-8DEF91A0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B9CB-EED3-438B-AC78-DE5CD94A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E416-D789-4266-BBF9-345CA64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91F74-FBB7-4104-A8BA-00D00D50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F5B5-1370-46CB-8D21-62AEDC5F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699E-7FBA-41B2-86EF-11F204D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6EE90-9BD1-4A99-B330-049A0339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AD248-4754-4607-9674-B46C4DAD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46C1-AF47-4DF3-9747-4BB9D2D5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8B11-51DF-42C7-91D5-76C676FB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ADCA-271D-40C9-AEE8-F15A4044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186D-45B3-45EE-AAC9-34D3CBC5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3E189-71D3-486C-B460-92D61172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9FE17-5D45-4D77-9907-E7669FFE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2AD4-EF7A-408A-891C-0A70930B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00A99-CDBA-4D03-BDA3-164D55DA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209AD-FB00-43E8-803E-E3BEA3DA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2D5E6-32CA-49A4-A16A-098E07A9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7ADD8-63E6-456D-B76A-01131D40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C91D-CF6C-4206-8BF8-A06A3849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34A94-ED86-4A68-8CD8-D68AC75D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4A79-3D52-4E73-9BD1-0A3385DF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018D-0787-4F85-8EB6-B1CAA96D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22C8-BB57-4740-A7E8-E621D649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27BD-CAA5-48E8-A098-8DD0DA28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97DDF-A1AC-40FC-B3A9-F7618FC1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66A0E-BC6E-48CE-9FB2-DAAECF30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50E6-19B9-4E72-8791-F8460FAA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94138-4C1F-4543-A022-2A4B8B9D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F2FAF-0357-4B99-8FB6-3D26A2A3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A5705-DC61-4447-8A38-DCB6D788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113B9-4F96-4482-B157-81D3F789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B1F2-C165-4A72-A837-4401E206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1A4-AA14-4040-A2B1-20601B33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AD00C-5DD5-4E6F-BB65-80D4BFDF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A85F6-0DF2-49ED-B021-A1BF46D2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57893-AC0C-42F3-AB9A-2DE5C9E9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226D5-80A7-4764-8B0F-EB382291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949FA-4692-4BDE-AF8B-2F1B4CBC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03921-828F-4A88-A9A9-F34C489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F8F37-2BA6-42ED-A3B1-A35B1ABB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7643-778E-455C-A835-0F299D93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E468B-7172-435A-98F3-2D55506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A1378-2F21-4825-906B-6429EBF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3344-637A-4714-9935-CC062378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5CF15-D36A-40C8-8A9E-0AB6F462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3680A-2243-4899-A7EA-60D20737D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384A3-5E85-4DD5-8FFD-EF092ABE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4FF4-0EA1-4059-8E81-C17E15F5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2C176-C9FE-4E93-B224-ADAC4C66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E7C1B-D28A-4554-A1A3-2650E302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1360-0CDB-47BC-8380-AFE044BD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AEC7E-FF49-4CAB-828C-2E2613CE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04C9B-630F-49E4-85A9-73E933C0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DA2F7-4E28-404B-950A-E4555948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FF6-6E94-4DDE-B846-1DB4A7AE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B275A-760D-4708-97B6-A803AA11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CD58E-1571-451C-B8F4-FE1F4F6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12F2-F45A-429C-A1CF-333D205A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684AA-AB2A-4C57-A1F2-69BF417C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004D0-6296-4551-8667-254222A6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9C3F2-D805-4880-813E-5EDBA57F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C97F1-8271-4363-82BD-624016BB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EEB47-FFE7-43B6-9B30-F629FF06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BDBAF-9D94-4395-B277-44DF45B0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FC837-1474-4E03-BA45-21542E5D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4C6-86F1-46C2-959F-02FD6119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9C7F-500E-403C-9DB6-3B303C89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D1AC7-341D-42C2-B285-BD06C37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28992-FBFD-45B0-A5F5-9DF9E26C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75C15-B572-4142-A3DF-90CAA358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C061-0B67-4A54-BC6D-19922FF1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F2018-D011-4C40-87A8-BCC35346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3031D-59DD-4D9E-8177-9617621F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22C93-F766-46C9-9286-B1843C9F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74B9C-B76A-4546-B202-3859ECED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BFF12-745A-4C8D-83DD-F5C5C38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DBE6-0D44-432B-85DE-77F7F969BAD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B1E4-BC3A-49B3-BC30-18B1E94980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5CA3-8EE4-4C61-BAB3-DF6C03B1D7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15E-5F5C-4E7F-90B2-F7980A3EE1E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02F4-F92F-40E4-8A08-7867DC3CE5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42C-90E7-4CC2-B6C0-458ACB93E31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09E9-2951-4080-8DB8-B244844F12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F224-8295-42D5-9ABE-1364D75D977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ECD1-BB30-46F5-A11E-39F350D6FF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0BB2-61C2-4886-B92D-9B17001D589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6F36-14EE-4F3D-9ECD-C040819205B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9088-801C-4277-A299-7FF01E3DF7B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643E-A418-4DF3-A161-4B9078BA3E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3C02-0A6A-44A8-935B-7FDBF802661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5623-BEDA-4F13-81E2-E4A7538478C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7543-E210-4B60-967D-1B5E76978E1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B503-2B76-4199-A03B-B6C43A44AE6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ыт использования транскраниальной электростимуляции в комплексном лечении алкогольного абстинентного синдрома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Бикетов А.Н. –заведующий отделением неотложной наркологической помощи филиала « Новотроицкий наркологический диспансер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ассмотренные эффекты ТЭС-терапии играют важную роль при решении наркологических проблем: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ормализация психофизиологического статуса снижает побудительные причины алкоголизации и наркомании, служат повышению социальной адаптации. При ТЭС-терапии уже сложившейся патологии происходит повышение настроения, нормализация самочувствия, сна, ликвидация тревожности и других аффективных расстройств, уменьшается патологическое влечение и зависимость от психоактивных веществ. Высока эффективность ТЭС-терапии при лечении синдрома дефицита внимания с гиперактивностью у детей и подростков, что рассматривается специалистами как профилактика возможного развития у них алкоголизма и наркомании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1942920" y="1267920"/>
            <a:ext cx="6591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 купирует любые болевые синдромы, в том числе и сопутствующие абстинентным состояниям, препятствует развитию зависимости от анальгетиков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коряет заживление слизистой желудка и 12-перстной кишки при язвенных поражениях, часто сопровождающих чрезмерное употребление алкоголя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траняет жировую дегенерацию печени и стимулирует репаративную регенерацию гепатоцитов без формирования цирроза. Препятствует жировой дистрофии печени. Восстанавливает синтетическую и дезинтоксикационную функции печени, обладает онкопротекторным эффектом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нормализует артериальное давление, как правило, повышенное у алкоголиков и наркоманов Стимулирует иммунитет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Обоснование применения ТЭС-терапии для купирования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алкогольного абстинентного синдром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дикаментозные препараты, их комбинации и нарастающее количество создает дополнительную нагрузку на уже пораженную печень и ставит ряд серьезных проблем, обусловленных выраженными побочными действиями, осложнениями, развитием аллергизации, толерантности, привыкания и зависимост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1942920" y="1052640"/>
            <a:ext cx="659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купирования алкогольного абстинентного синдрома применяются аппараты «Трансаир» любой модификации. но наиболее эффективно применение аппаратом «Трансаир-04», позволяющих сочетать монополярный импульсный ток с постоянным током. Курс лечения состоит из 5-7 процедур по 30 минут. Первые 2-3 дня возможно проведение 2-х процедур в день (по состоянию). Обычно проводится по одной процедуре ежедневн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использовании аппаратов «Трансаир-03», не имеющих постоянной составляющей режим выбирается врачом с учетом личного опыт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«Трансаир-3» и «Трансаир-4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9" name="Picture 4" descr="Трансаир-3"/>
          <p:cNvPicPr/>
          <p:nvPr/>
        </p:nvPicPr>
        <p:blipFill>
          <a:blip r:embed="rId1"/>
          <a:stretch/>
        </p:blipFill>
        <p:spPr>
          <a:xfrm>
            <a:off x="1763640" y="2133720"/>
            <a:ext cx="3327480" cy="24382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5" descr="Трансаир-4"/>
          <p:cNvPicPr/>
          <p:nvPr/>
        </p:nvPicPr>
        <p:blipFill>
          <a:blip r:embed="rId2"/>
          <a:stretch/>
        </p:blipFill>
        <p:spPr>
          <a:xfrm>
            <a:off x="5003640" y="4221000"/>
            <a:ext cx="33274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ТЭС-терапия для восстановления функции печен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овременное применение ТЭС-терапии и «Эссенциале» и его аналогов не показано, так как многочисленные исследования говорят о снижении эффективности данного сочетания и о большей сравнительной эффективности ТЭС-терапии, проводимой в моновариан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хорошо сочетается с применением витаминов группы В, никотиновой кислоты, карсила и других аналогичных фармацевтических  препаратов. Более того, их применение на фоне ТЭС-терапии дает более убедительные положительные результаты. Это является следствием эндорфинергической активизации гомеостатических систем организм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Противопоказания к ТЭС-терапии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удорожные состояния, эпилепс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травмы и опухоли головного мозга, острые инфекционные поражения ЦН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ртериальная гипертензи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II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ст. в период криз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идроцефал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психические расстройств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иреотоксико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повреждений кожи в местах наложения электрод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вживленных кардиостимулятор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раст до 5 л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териалы и мет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годы работы в отделении неотложной наркологической помощи методом ТЭС было пролечено более 150 пациентов с алкогольным абстинентным состояние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Я проанализировал истории болезни 20пациетов с диагнозом АСС  к которым применялся метод ТЭС и 20 пациентов к которым метод ТЭС не применялся. Обе группы получали стандартную медикаментозную терапию. Результаты представлены ниже на слайд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группа : Возраст от 32 до 47 лет, 15 мужчин, 5 женщин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 группа (контрольная): Возраст от 34 до 45 лет, 17 мужчин и 3 женщины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именялась одинаковая медикаментозная терапия: инфузионная терапия, коррекция электролитного баланса, кислотно-щелочного состояния, транквилизаторы, бета-блокаторы, антиконвульсанты, витаминотерапия, диуретики, ноотроп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1 группа : в течении 3 дней проводилась процедура ТЭС-терапии аппаратом « Трансаир-4» в режиме: «Монополярный с ДПС» . Данный параметр  рекомендован авторами в указанных выше статья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ила тока 0.95-2.23 мА - регулировалась по индивидуальным ощущения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одолжительность процедуры 60 мину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 18 человек процедура проводилась в первой половине дня, 2 человека в вечерние час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1942920" y="1052640"/>
            <a:ext cx="65912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им из современных эффективных патогенетических методов лечения алкогольного абстинентного синдрома является транскраниальная электростимуляция защитных механизмов мозга – ТЭС-терап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Рисунок 1" descr=""/>
          <p:cNvPicPr/>
          <p:nvPr/>
        </p:nvPicPr>
        <p:blipFill>
          <a:blip r:embed="rId1"/>
          <a:stretch/>
        </p:blipFill>
        <p:spPr>
          <a:xfrm>
            <a:off x="900000" y="3389400"/>
            <a:ext cx="4037040" cy="295884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2" descr=""/>
          <p:cNvPicPr/>
          <p:nvPr/>
        </p:nvPicPr>
        <p:blipFill>
          <a:blip r:embed="rId2"/>
          <a:stretch/>
        </p:blipFill>
        <p:spPr>
          <a:xfrm>
            <a:off x="4748040" y="2708280"/>
            <a:ext cx="3986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0" name="Объект 10"/>
          <p:cNvGraphicFramePr/>
          <p:nvPr/>
        </p:nvGraphicFramePr>
        <p:xfrm>
          <a:off x="1305000" y="722160"/>
          <a:ext cx="7230960" cy="565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1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722160"/>
                    <a:ext cx="723096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частоты пульса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3" name="Объект 9"/>
          <p:cNvGraphicFramePr/>
          <p:nvPr/>
        </p:nvGraphicFramePr>
        <p:xfrm>
          <a:off x="1892160" y="2225520"/>
          <a:ext cx="669312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4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225520"/>
                    <a:ext cx="669312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763640" y="623880"/>
            <a:ext cx="677088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систолического артериального давления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6" name="Объект 9"/>
          <p:cNvGraphicFramePr/>
          <p:nvPr/>
        </p:nvGraphicFramePr>
        <p:xfrm>
          <a:off x="1892160" y="208296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7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08296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Таким образом мы видим, что ТЭС-терапия является высокоэффективной для купирования алкогольного абстинентного синдро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езультаты и выв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1267920"/>
            <a:ext cx="65912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ТЭС-терапия, начатая в период максимальной выраженности абстинентной симптоматики (1-й день лечения), уже через 30-60 минут после процедуры приводила к уменьшению большинства симптомов ААС на 50% и более, а практически полное купирование ААС средней тяжести происходило за 2-3 дн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менение ТЭС-терапии достоверно снижает интенсивность абстинентной симптоматики. Уже после 1-2 процедур отчетливо улучшалось самочувствие, уменьшалась тяжесть соматоневрологических расстройств. Купировались симптомы апатии, астении, повышались настроение и аппетит. Исчезали тяжесть в голове, озноб и тремор, нормализовывался сон. Купировались нарушения координации (устойчивость в позе Ромберга, пальце-носовая проба), исчезал горизонтальный нистагм. От процедуры к процедуре отмечалось нарастание положительной динамики. Стабилизировалось АД, выравнивался пульс. Пациенты отмечали отчетливое снижение влечения к алкоголю, купирование жажды и сухости во рту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2968560"/>
            <a:ext cx="6973920" cy="1755720"/>
          </a:xfrm>
          <a:prstGeom prst="rect">
            <a:avLst/>
          </a:prstGeom>
          <a:ln w="0">
            <a:noFill/>
          </a:ln>
        </p:spPr>
      </p:pic>
      <p:pic>
        <p:nvPicPr>
          <p:cNvPr id="1232" name="Рисунок 4" descr=""/>
          <p:cNvPicPr/>
          <p:nvPr/>
        </p:nvPicPr>
        <p:blipFill>
          <a:blip r:embed="rId2"/>
          <a:stretch/>
        </p:blipFill>
        <p:spPr>
          <a:xfrm>
            <a:off x="4140360" y="56664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942920" y="475920"/>
            <a:ext cx="65912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вестно, что ТЭС-терапия избирательно повышает выработку эндогенных опиоидных пептидов, в первую очередь β-эндорфина, и за счет этого нормализует эмоциональный статус, настроение, мотивационную сферу, регулирует поведение, средовую и социальную адаптацию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2558880" y="2205000"/>
            <a:ext cx="4489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мимо этого ТЭС-терапия эффективно купирует болевые синдромы, стимулирует репаративные процессы в организме, восстанавливает иммунитет, нормализует артериальное давление. Таким образом, ТЭС-терапия имеет комплексную и системную гомеостатическую направленность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-8175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1942920" y="1341360"/>
            <a:ext cx="659124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Метод транскраниальной электростимуляции был разработан в начале 80-х годов в Институте физиологии им. И.П.Павлова РАН, Санкт-Петербург, группой ученых под руководством Лауреата Государственной Премии СССР, профессора В.П.Лебедева , а также создана аппаратура для реализации этого метод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3"/>
          <p:cNvSpPr/>
          <p:nvPr/>
        </p:nvSpPr>
        <p:spPr>
          <a:xfrm>
            <a:off x="1978200" y="1695600"/>
            <a:ext cx="65912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Лебедев В.П. и др. Лечение алкогольного абстинентного синдрома с помощью транскраниального электрического воздействия. «Вопросы наркологии», 1988, №3, с.27-3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Шабанов П.Д. и соавт. Нетрадиционные методы лечения алкоголизма. СПб., «Гиппократ». 1993, 192 с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Крупицкий Е.М., Бураков А.М., Карандашева Г.Ф. и соавт. Об одном из методов лечения аффективных нарушений у больных алкоголизмом. «Журнал невропатологии и психиатрии им. С.С.Корсакова», 1991, Т.91, № 4, с. 90-9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Мелихова М.В., Нечипоренко С.П., Колбасов С.Е., Стройкова Г.С. Транскраниальная электростимуляция как регулятор процессов репарации токсически поврежденной печени. «Электростимуляция 2002» : Сб. работ. – М.: ВНИИМП-ВИТА. 2002, с. 15-2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720" y="691920"/>
            <a:ext cx="6012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огда же , в 80-е годы метод ТЭС стали применять в наркологии для лечения абстинентного алкогольного синдрома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360440" y="115560"/>
            <a:ext cx="65880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39640" y="1700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психофизиологического статус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обладает выраженным стресс-лимитирующим действием  Отмечается устранение симптомов депрессии, снятие утомления, нервного напряжения, повышение нейропсихической устойчивости, нормализация настроения и сн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Купирование болевых синдромов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езультате ТЭС-терапии происходит снижение чувствительности периферических болевых рецепторов, блокируется проведение болевых импульсов в спинном мозге, в том числе за счет эндорфинного торможения выделения субстанции Р, также блокируется проведение болевых импульсов на уровне ядер таламуса  В связи с этим анальгетический эффект ТЭС-терапии не зависит от причины и локализации боли. Он наступает уже через 10-15 минут после начала электростимуляции, что связано с достижением высокой концентрации β-эндорфина в мозге, ликворе и крови. Анальгезия имеет длительное последействие, увеличивающееся по мере проведения курсового леч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артериального давления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В ряде работ показано, что при ТЭС-терапии происходит ослабление как стимулирующих, так и тормозящих влияний на вазомоторные бульбоспинальные нейроны, расположенные в вентролатеральной области продолговатого мозга. Стимуляция опиоидных систем мозга не только восстанавливает центральную регуляцию гемодинамики, но и нормализует периферическое кровообращение в конечностях и коже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процессов репарации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достоверно ускоряет репаративную регенерацию при повреждениях тканей разного типа и разной этиологии: кожного и желудочного эпителия, соединительной ткани, гепатоцитов, нервных периферических волокон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иммунитета, торможение роста опухолей, антиаллергический эффект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выраженно усиливает образование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M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и подавляет стресс-индуцируемое увеличение синтеза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E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. В рамках иммунного ответа β-эндорфин активирует Т-хелперы и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NK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-клетки (естественные киллерные клетки). Доказано, что лимфоциты сами способны к выработке β-эндорфина, а нейроэндокринные и иммунокомпетентные клетки имеют опиатные рецепторы. Повышение концентрации β-эндорфина и его взаимодействие с рецепторами активизирует розеткообразование и завершенный фагоцитоз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Метаболическое действие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нормализует синтетическую и дезинтоксикационную функции печени, способствует нормализации водно-солевого и азотистого обмена, активизирует процессы окислительного фосфорилирования, снижает интенсивность перекисного окисления липидов и др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4:22:25Z</dcterms:created>
  <dc:creator>papa</dc:creator>
  <dc:description/>
  <dc:language>en-US</dc:language>
  <cp:lastModifiedBy>user</cp:lastModifiedBy>
  <dcterms:modified xsi:type="dcterms:W3CDTF">2018-12-17T05:19:42Z</dcterms:modified>
  <cp:revision>22</cp:revision>
  <dc:subject/>
  <dc:title>Опыт использования транскраниальной электростимуляции в комплексном лечении алкогольного абстинентного синдрома</dc:title>
</cp:coreProperties>
</file>