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5</c:v>
                </c:pt>
                <c:pt idx="1">
                  <c:v>5</c:v>
                </c:pt>
                <c:pt idx="2">
                  <c:v>4</c:v>
                </c:pt>
                <c:pt idx="3">
                  <c:v>16</c:v>
                </c:pt>
                <c:pt idx="4">
                  <c:v>7</c:v>
                </c:pt>
                <c:pt idx="5">
                  <c:v>16</c:v>
                </c:pt>
                <c:pt idx="6">
                  <c:v>3</c:v>
                </c:pt>
                <c:pt idx="7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8</c:v>
                </c:pt>
                <c:pt idx="1">
                  <c:v>2</c:v>
                </c:pt>
                <c:pt idx="2">
                  <c:v>2</c:v>
                </c:pt>
                <c:pt idx="3">
                  <c:v>18</c:v>
                </c:pt>
                <c:pt idx="4">
                  <c:v>12</c:v>
                </c:pt>
                <c:pt idx="5">
                  <c:v>8</c:v>
                </c:pt>
                <c:pt idx="6">
                  <c:v>4</c:v>
                </c:pt>
                <c:pt idx="7">
                  <c:v>1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6042653"/>
        <c:axId val="5898855"/>
      </c:lineChart>
      <c:catAx>
        <c:axId val="260426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855"/>
        <c:crosses val="autoZero"/>
        <c:auto val="1"/>
        <c:lblAlgn val="ctr"/>
        <c:lblOffset val="100"/>
        <c:noMultiLvlLbl val="0"/>
      </c:catAx>
      <c:valAx>
        <c:axId val="5898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2653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1</c:v>
                </c:pt>
                <c:pt idx="1">
                  <c:v>10</c:v>
                </c:pt>
                <c:pt idx="2">
                  <c:v>3</c:v>
                </c:pt>
                <c:pt idx="3">
                  <c:v>4</c:v>
                </c:pt>
                <c:pt idx="4">
                  <c:v>9</c:v>
                </c:pt>
                <c:pt idx="5">
                  <c:v>7</c:v>
                </c:pt>
                <c:pt idx="6">
                  <c:v>18</c:v>
                </c:pt>
                <c:pt idx="7">
                  <c:v>2</c:v>
                </c:pt>
                <c:pt idx="8">
                  <c:v>3</c:v>
                </c:pt>
                <c:pt idx="9">
                  <c:v>3</c:v>
                </c:pt>
                <c:pt idx="10">
                  <c:v>7</c:v>
                </c:pt>
                <c:pt idx="11">
                  <c:v>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1</c:v>
                </c:pt>
                <c:pt idx="1">
                  <c:v>7</c:v>
                </c:pt>
                <c:pt idx="2">
                  <c:v>6</c:v>
                </c:pt>
                <c:pt idx="3">
                  <c:v>17</c:v>
                </c:pt>
                <c:pt idx="4">
                  <c:v>6</c:v>
                </c:pt>
                <c:pt idx="5">
                  <c:v>4</c:v>
                </c:pt>
                <c:pt idx="6">
                  <c:v>12</c:v>
                </c:pt>
                <c:pt idx="7">
                  <c:v>5</c:v>
                </c:pt>
                <c:pt idx="8">
                  <c:v>7</c:v>
                </c:pt>
                <c:pt idx="9">
                  <c:v>9</c:v>
                </c:pt>
                <c:pt idx="10">
                  <c:v>8</c:v>
                </c:pt>
                <c:pt idx="11">
                  <c:v>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4307996"/>
        <c:axId val="30438598"/>
      </c:lineChart>
      <c:catAx>
        <c:axId val="443079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38598"/>
        <c:crosses val="autoZero"/>
        <c:auto val="1"/>
        <c:lblAlgn val="ctr"/>
        <c:lblOffset val="100"/>
        <c:noMultiLvlLbl val="0"/>
      </c:catAx>
      <c:valAx>
        <c:axId val="30438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7996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</c:v>
                </c:pt>
                <c:pt idx="1">
                  <c:v>1</c:v>
                </c:pt>
                <c:pt idx="2">
                  <c:v>7</c:v>
                </c:pt>
                <c:pt idx="3">
                  <c:v>1</c:v>
                </c:pt>
                <c:pt idx="4">
                  <c:v>1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8</c:v>
                </c:pt>
                <c:pt idx="1">
                  <c:v>2</c:v>
                </c:pt>
                <c:pt idx="2">
                  <c:v>1</c:v>
                </c:pt>
                <c:pt idx="3">
                  <c:v>12</c:v>
                </c:pt>
                <c:pt idx="4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1940991"/>
        <c:axId val="41727542"/>
      </c:lineChart>
      <c:catAx>
        <c:axId val="119409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7542"/>
        <c:crosses val="autoZero"/>
        <c:auto val="1"/>
        <c:lblAlgn val="ctr"/>
        <c:lblOffset val="100"/>
        <c:noMultiLvlLbl val="0"/>
      </c:catAx>
      <c:valAx>
        <c:axId val="41727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0991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2</c:v>
                </c:pt>
                <c:pt idx="2">
                  <c:v>6</c:v>
                </c:pt>
                <c:pt idx="3">
                  <c:v>7</c:v>
                </c:pt>
                <c:pt idx="4">
                  <c:v>9</c:v>
                </c:pt>
                <c:pt idx="5">
                  <c:v>3</c:v>
                </c:pt>
                <c:pt idx="6">
                  <c:v>3</c:v>
                </c:pt>
                <c:pt idx="7">
                  <c:v>18</c:v>
                </c:pt>
                <c:pt idx="8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3</c:v>
                </c:pt>
                <c:pt idx="1">
                  <c:v>7</c:v>
                </c:pt>
                <c:pt idx="2">
                  <c:v>19</c:v>
                </c:pt>
                <c:pt idx="3">
                  <c:v>3</c:v>
                </c:pt>
                <c:pt idx="4">
                  <c:v>7</c:v>
                </c:pt>
                <c:pt idx="5">
                  <c:v>5</c:v>
                </c:pt>
                <c:pt idx="6">
                  <c:v>17</c:v>
                </c:pt>
                <c:pt idx="7">
                  <c:v>15</c:v>
                </c:pt>
                <c:pt idx="8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92587349"/>
        <c:axId val="49286776"/>
      </c:lineChart>
      <c:catAx>
        <c:axId val="925873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6776"/>
        <c:crosses val="autoZero"/>
        <c:auto val="1"/>
        <c:lblAlgn val="ctr"/>
        <c:lblOffset val="100"/>
        <c:noMultiLvlLbl val="0"/>
      </c:catAx>
      <c:valAx>
        <c:axId val="49286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87349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7"/>
          </p:nvPr>
        </p:nvSpPr>
        <p:spPr>
          <a:xfrm>
            <a:off x="-36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1108-21A6-4457-985B-9AD086254E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8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A18E-544F-4932-8684-27037408C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1BEA-3384-4DD2-8578-67F4A76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D2B3-18DF-446F-93AA-26717DB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6024-FB1D-4BF8-9C30-634CBD5F6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4D81-6F57-471E-8FAB-54B77E55F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37EC7-FB26-4C9E-AF90-E3ED562B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43A7F-CFA7-4A84-AD94-E904820F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C0331-BD07-41C3-B32B-27E8AB0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08E5A-98B9-4288-B453-5259F977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97FE5-93BA-405D-BE84-CCA201E2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FA8B-84CA-4204-B9CB-6E38FB1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7C29-9BEE-4EAE-B37C-B1BDFF7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6787-FE8E-451C-8D4F-E415D569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5386-E78F-450F-978A-DFC8A593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CE3C7-45BC-46EF-BD07-D0A09AF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1815D-21A4-4787-8CC1-C5D438C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23C34-3B38-493D-B7C9-27CEDDA84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0C48C-12EC-4783-A62C-A53453B9C6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E31A-3864-4ABE-98F9-D7F23BFA1C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9A71-5CE2-4547-A377-09F739ABB9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63A01-EC28-404B-996B-93A0FA7F38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FD38D-8CE9-49BA-BE20-5FF662BCB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6764-0379-4616-B08B-5E317A9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4A36-377F-465D-B26C-789769858F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6FE0-300B-448D-A122-6ECFD4C17B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012DA-1B1B-4968-A0BE-A85EA9566B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DD86-F25B-4A57-BB62-F076F4033C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2CD9-5D28-4CB2-9488-0D312A3488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0EAC-C082-49E1-9F66-1B4BB92353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C593A-968F-4FC7-9890-0C3448B5D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3B8D-36C2-45A2-982A-EA50C5C4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3E40-B8F7-4E96-ADF2-32D61AA9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EB0E-C925-4DD1-AA3D-AF2CDB81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D6A1-1CA4-4BAD-9778-12DA5AF0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F63B-9531-48AC-AAA8-D31F06F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8E25-DB80-47A0-A98E-12DC30E5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4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A9C96-1F95-47B1-9CB1-45BBC5B526B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299232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095800" cy="58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4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26EA-A2C9-4AB5-BCFB-3692EC6F7D3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781320" y="6324480"/>
            <a:ext cx="18874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85F31-890B-44BF-8D18-C36C95D6A314}" type="slidenum">
              <a:rPr b="0" lang="ru-RU" sz="24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3816360"/>
            <a:ext cx="4643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кворцова Анастасия Михайл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линический психолог ГАУЗ ООК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ащенко Наталья Андр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удентка 6 курса факультета клинической психологии ОрГ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к.м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реча Галина Ильинич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360" y="239400"/>
            <a:ext cx="88567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«Оренбургский государственный медицинский университет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федра психиатрии и нарколог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413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280" y="1806480"/>
            <a:ext cx="9072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 оценка личностных характеристик и особенностей реагирования на болезнь у зависимых от алкоголя в процессе реабили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27280" y="5950080"/>
            <a:ext cx="2376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3672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 шкалам «саморуководство», «самопривязанность» и «конфликт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7280" y="201600"/>
            <a:ext cx="8785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 самоотно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55640"/>
          <a:ext cx="9088560" cy="51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2560"/>
            <a:ext cx="8215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тельный анализ с помощью критерия t-Стъюдента для независимых выбо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6920" y="1681200"/>
            <a:ext cx="85676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ы различия на высоком уровне значимости между женской и мужской выборкам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Мини-Мульт» в шкалах паранояльности и мани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ТОБОЛ» в типах апатический и сенситивны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т смысложизненных ориентаций в шкалах «локус контроля — Я» и «локус контроля — жизнь»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исследования самоотношения в шкалах саморуководство и самопривязан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2760" y="70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44360" y="863640"/>
            <a:ext cx="8710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зучения личностных особенностей, самоотношения, типов отношения к болезни и смысложизненных ориентаций у лиц, зависимых от алкоголя в процессе реабилитации были выявлены: недостаточность волевого контроля у респондентов в некоторых случаях, эмоциональная неустойчивость, импульсивность в действиях и эмоциональных проявлениях, вспыльчив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жличностных отношениях проявление конфликтности, преобладают поверхностность чувств, тенденция к избеганию ответственности, стремление к игровому компоненту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листичное представление о процессе выздоровления, ведущие типы отношения к болезни – сенситивно-апатический: при легкомысленном отношении болезни имеется тревога за представления окружающих о неполноценности обследуемы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лемных вопросах склонны ориентироваться только на себя, имея нереалистичное представление о том, что способны справляться с собственными переживаниями самостоятель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гармоничного типа отношения к болезни рекомендуется коррекция эмоциональной неустойчивости,  чрезмерной импульсивности и взрывчат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эффективным способам распознавания собственных чувст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психотерапевтической атмосферы непримиримости к повторному употребле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психотерапия с целью развития и обучения навыкам конструктивного межличностного взаимодей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287280"/>
            <a:ext cx="871236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В настоящее время проблема употребления алкоголя в российском обществе остается актуальной. Алкоголизм в нашей стра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обрел размеры национального бед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Также акцентируется внимание на профилактике аддиктивного поведения и выявление причин такого поведения. Ведущее значение в лечении алкоголизма сохраняют психологически ориентированные методы, что, в свою очередь, опреде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актуальность социально-психологических исследов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Психология аддиктивного поведения включает изучение психологических предпосылок алкоголизма, психологических механизмов формирования алкогольной зависимости, общих закономерностей изменений психической деятельности на различных этапах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7280" y="0"/>
            <a:ext cx="8567640" cy="67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вопросам посвящено множество исследований, но стоит заметить, что преобладают описания отдельных свойств личности, особенно это касается морально-этических, социальных и бытовых оценок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Вален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8)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Дере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2) в этом случае считают, что собственно специфически алкогольные изменения личности вообще еще не изучены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Иван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Л. Иго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3) подчеркивают, что с помощью отдельных концепций нельзя охватить все многообразие патологических изменений личности при алкоголизме. Здесь необходима сложная схема, которая учитывает системный характер организма и лич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6000" y="360360"/>
            <a:ext cx="8820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чностных характеристик и особенностей реагирования на болезнь у зависимых от алкоголя мужчин и женщин в процессе реабили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общетеоретический анализ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мысложизненных ориент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руктуру и специфику отношения к собственному “Я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и структуру отношения к боле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чностные характери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сти сразнительный анализ между мужской и женской выбор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0772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0360" y="189000"/>
            <a:ext cx="8461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пир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смысложизненных ориентаций Д. Крамбо и Л. Махолика, методика исследования самоотношения С.Р. Пантелеева, Мини-Мульт, методика «Тип отношения к болезни» А.Е. Личко  и Н.Я. Иван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 t - Стьюдента для независимых выб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4800" y="284040"/>
            <a:ext cx="8521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лось на базе ГАУЗ «Оренбургский областной клинический наркологический диспансер» г. Оренбу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было исследова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чело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8 мужчин и 22 женщины в возрасте от 26 до 49 лет, больных алкоголизмом в процессе реабили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6000" y="60480"/>
            <a:ext cx="8712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и-Му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650880"/>
            <a:ext cx="85676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и шкалами в профилях опросника мини-мульт явились шкалы психопатии, психастении, паранояльности и м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000" y="1440000"/>
          <a:ext cx="9117000" cy="511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9367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ние тревожного, апатического и сенстивного ти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71280" y="201600"/>
            <a:ext cx="9215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ика «Тип отношения к болезн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511280"/>
          <a:ext cx="9091440" cy="511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36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ышение по шкалам «Локус контроля - Я» и «Локус контроля - Жизн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01600"/>
            <a:ext cx="8856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ест смысложизненных ориент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80" y="1349280"/>
          <a:ext cx="9128160" cy="513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12:12:17Z</dcterms:created>
  <dc:creator>1</dc:creator>
  <dc:description/>
  <dc:language>en-US</dc:language>
  <cp:lastModifiedBy/>
  <dcterms:modified xsi:type="dcterms:W3CDTF">2017-12-12T13:00:25Z</dcterms:modified>
  <cp:revision>69</cp:revision>
  <dc:subject/>
  <dc:title> ГБОУ ВПО ОрГМУ МИНЗДРАВА Российской Федерации Кафедра психиатрии и нарколог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