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5</c:v>
                </c:pt>
                <c:pt idx="1">
                  <c:v>5</c:v>
                </c:pt>
                <c:pt idx="2">
                  <c:v>4</c:v>
                </c:pt>
                <c:pt idx="3">
                  <c:v>16</c:v>
                </c:pt>
                <c:pt idx="4">
                  <c:v>7</c:v>
                </c:pt>
                <c:pt idx="5">
                  <c:v>16</c:v>
                </c:pt>
                <c:pt idx="6">
                  <c:v>3</c:v>
                </c:pt>
                <c:pt idx="7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8</c:v>
                </c:pt>
                <c:pt idx="1">
                  <c:v>2</c:v>
                </c:pt>
                <c:pt idx="2">
                  <c:v>2</c:v>
                </c:pt>
                <c:pt idx="3">
                  <c:v>18</c:v>
                </c:pt>
                <c:pt idx="4">
                  <c:v>12</c:v>
                </c:pt>
                <c:pt idx="5">
                  <c:v>8</c:v>
                </c:pt>
                <c:pt idx="6">
                  <c:v>4</c:v>
                </c:pt>
                <c:pt idx="7">
                  <c:v>1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9921211"/>
        <c:axId val="19569150"/>
      </c:lineChart>
      <c:catAx>
        <c:axId val="599212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9150"/>
        <c:crosses val="autoZero"/>
        <c:auto val="1"/>
        <c:lblAlgn val="ctr"/>
        <c:lblOffset val="100"/>
        <c:noMultiLvlLbl val="0"/>
      </c:catAx>
      <c:valAx>
        <c:axId val="19569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1211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1</c:v>
                </c:pt>
                <c:pt idx="1">
                  <c:v>10</c:v>
                </c:pt>
                <c:pt idx="2">
                  <c:v>3</c:v>
                </c:pt>
                <c:pt idx="3">
                  <c:v>4</c:v>
                </c:pt>
                <c:pt idx="4">
                  <c:v>9</c:v>
                </c:pt>
                <c:pt idx="5">
                  <c:v>7</c:v>
                </c:pt>
                <c:pt idx="6">
                  <c:v>18</c:v>
                </c:pt>
                <c:pt idx="7">
                  <c:v>2</c:v>
                </c:pt>
                <c:pt idx="8">
                  <c:v>3</c:v>
                </c:pt>
                <c:pt idx="9">
                  <c:v>3</c:v>
                </c:pt>
                <c:pt idx="10">
                  <c:v>7</c:v>
                </c:pt>
                <c:pt idx="11">
                  <c:v>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1</c:v>
                </c:pt>
                <c:pt idx="1">
                  <c:v>7</c:v>
                </c:pt>
                <c:pt idx="2">
                  <c:v>6</c:v>
                </c:pt>
                <c:pt idx="3">
                  <c:v>17</c:v>
                </c:pt>
                <c:pt idx="4">
                  <c:v>6</c:v>
                </c:pt>
                <c:pt idx="5">
                  <c:v>4</c:v>
                </c:pt>
                <c:pt idx="6">
                  <c:v>12</c:v>
                </c:pt>
                <c:pt idx="7">
                  <c:v>5</c:v>
                </c:pt>
                <c:pt idx="8">
                  <c:v>7</c:v>
                </c:pt>
                <c:pt idx="9">
                  <c:v>9</c:v>
                </c:pt>
                <c:pt idx="10">
                  <c:v>8</c:v>
                </c:pt>
                <c:pt idx="11">
                  <c:v>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0680093"/>
        <c:axId val="61585869"/>
      </c:lineChart>
      <c:catAx>
        <c:axId val="306800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85869"/>
        <c:crosses val="autoZero"/>
        <c:auto val="1"/>
        <c:lblAlgn val="ctr"/>
        <c:lblOffset val="100"/>
        <c:noMultiLvlLbl val="0"/>
      </c:catAx>
      <c:valAx>
        <c:axId val="61585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0093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</c:v>
                </c:pt>
                <c:pt idx="1">
                  <c:v>1</c:v>
                </c:pt>
                <c:pt idx="2">
                  <c:v>7</c:v>
                </c:pt>
                <c:pt idx="3">
                  <c:v>1</c:v>
                </c:pt>
                <c:pt idx="4">
                  <c:v>1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8</c:v>
                </c:pt>
                <c:pt idx="1">
                  <c:v>2</c:v>
                </c:pt>
                <c:pt idx="2">
                  <c:v>1</c:v>
                </c:pt>
                <c:pt idx="3">
                  <c:v>12</c:v>
                </c:pt>
                <c:pt idx="4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653641"/>
        <c:axId val="65438318"/>
      </c:lineChart>
      <c:catAx>
        <c:axId val="265364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38318"/>
        <c:crosses val="autoZero"/>
        <c:auto val="1"/>
        <c:lblAlgn val="ctr"/>
        <c:lblOffset val="100"/>
        <c:noMultiLvlLbl val="0"/>
      </c:catAx>
      <c:valAx>
        <c:axId val="65438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641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2</c:v>
                </c:pt>
                <c:pt idx="2">
                  <c:v>6</c:v>
                </c:pt>
                <c:pt idx="3">
                  <c:v>7</c:v>
                </c:pt>
                <c:pt idx="4">
                  <c:v>9</c:v>
                </c:pt>
                <c:pt idx="5">
                  <c:v>3</c:v>
                </c:pt>
                <c:pt idx="6">
                  <c:v>3</c:v>
                </c:pt>
                <c:pt idx="7">
                  <c:v>18</c:v>
                </c:pt>
                <c:pt idx="8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3</c:v>
                </c:pt>
                <c:pt idx="1">
                  <c:v>7</c:v>
                </c:pt>
                <c:pt idx="2">
                  <c:v>19</c:v>
                </c:pt>
                <c:pt idx="3">
                  <c:v>3</c:v>
                </c:pt>
                <c:pt idx="4">
                  <c:v>7</c:v>
                </c:pt>
                <c:pt idx="5">
                  <c:v>5</c:v>
                </c:pt>
                <c:pt idx="6">
                  <c:v>17</c:v>
                </c:pt>
                <c:pt idx="7">
                  <c:v>15</c:v>
                </c:pt>
                <c:pt idx="8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4244814"/>
        <c:axId val="63581179"/>
      </c:lineChart>
      <c:catAx>
        <c:axId val="242448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1179"/>
        <c:crosses val="autoZero"/>
        <c:auto val="1"/>
        <c:lblAlgn val="ctr"/>
        <c:lblOffset val="100"/>
        <c:noMultiLvlLbl val="0"/>
      </c:catAx>
      <c:valAx>
        <c:axId val="63581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4814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7"/>
          </p:nvPr>
        </p:nvSpPr>
        <p:spPr>
          <a:xfrm>
            <a:off x="-36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68FE8-AC46-448C-BEF5-AA6A9A9C18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8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2082-55CA-4628-B142-31E52633F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FA00-9BAE-4C9E-83BE-EC685EF4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0E51-FC3B-4DEA-8109-F5390828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9282-E813-4F62-9E60-7A56633412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641CE-59B2-4BAE-9404-BC4E924E1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6E11F-673B-49FB-9302-46FD0F4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CF31-5D8C-4D30-91CE-2B8F72E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F546-BFFD-4477-BEA6-32A80A7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0BBE6-1AE7-4BFE-8EA1-224F44DD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9FDB-118E-44C4-9767-1B128B60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E4B1C-02F0-41F6-A0DA-309118D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973B-3244-47AC-AE86-9B18D1D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738F7-9E83-4D72-A565-87C6590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D022D-76C9-4C99-B3AA-D664BB3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CB969-73F7-4FD3-9490-94451F10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B53EE-1794-4E38-8203-CF7E462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3E920-851A-4567-989D-C32607DF9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FF3F2-8746-4E31-A063-E2603118A4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78C6-44E0-4059-80DC-9AED73F1DE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0B717-12D0-440E-9AB7-EB72FB5E3F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58F4A-1276-42B3-9D7D-66D44A2799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E1943-68FE-46F8-AA5F-4FADFC258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AE2E-F574-45DF-A5E1-6C18E82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B842-4BD0-441B-8A23-CB03667B67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30A3-BB1B-4F04-9CB2-95557D2888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BD41-AF4D-46EE-ABFA-E73968557B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2DC16-D8B4-44F1-8B09-E387ACC3AE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4A84-56B4-4087-9050-1213A448E0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495D3-EDED-4341-A95A-5FE7DBC04C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C5876-213A-4A45-A89C-66A548144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8B86-687F-426D-B539-9709515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1803-6707-4E41-9F2B-2055F0EE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1D29-2DD0-4DD4-A2A0-6E860D26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ACB8-5A89-4420-B108-993F5A8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BCA7-9348-4E3A-8A18-2E66F79A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C1A8-499C-4B07-89C5-C09C061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4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FD618-6440-4580-8832-ECFFB04DFA9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299232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095800" cy="58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4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ADFA-73DF-42A8-805D-DAAE4B866F8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781320" y="6324480"/>
            <a:ext cx="18874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13DD6-CBCA-4175-8A57-393C4FF58BAE}" type="slidenum">
              <a:rPr b="0" lang="ru-RU" sz="24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3816360"/>
            <a:ext cx="4643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кворцова Анастасия Михайл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линический психолог ГАУЗ ООК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ащенко Наталья Андр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удентка 6 курса факультета клинической психологии ОрГ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к.м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реча Галина Ильинич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360" y="239400"/>
            <a:ext cx="88567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«Оренбургский государственный медицинский университет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федра психиатрии и нарколог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413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280" y="1806480"/>
            <a:ext cx="9072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 оценка личностных характеристик и особенностей реагирования на болезнь у зависимых от алкоголя в процессе реабили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27280" y="5950080"/>
            <a:ext cx="2376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3672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 шкалам «саморуководство», «самопривязанность» и «конфликт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7280" y="201600"/>
            <a:ext cx="8785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 самоотно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55640"/>
          <a:ext cx="9088560" cy="51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2560"/>
            <a:ext cx="8215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тельный анализ с помощью критерия t-Стъюдента для независимых выбо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6920" y="1681200"/>
            <a:ext cx="85676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ы различия на высоком уровне значимости между женской и мужской выборкам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Мини-Мульт» в шкалах паранояльности и мани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ТОБОЛ» в типах апатический и сенситивны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т смысложизненных ориентаций в шкалах «локус контроля — Я» и «локус контроля — жизнь»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исследования самоотношения в шкалах саморуководство и самопривязан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2760" y="70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44360" y="863640"/>
            <a:ext cx="8710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зучения личностных особенностей, самоотношения, типов отношения к болезни и смысложизненных ориентаций у лиц, зависимых от алкоголя в процессе реабилитации были выявлены: недостаточность волевого контроля у респондентов в некоторых случаях, эмоциональная неустойчивость, импульсивность в действиях и эмоциональных проявлениях, вспыльчив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жличностных отношениях проявление конфликтности, преобладают поверхностность чувств, тенденция к избеганию ответственности, стремление к игровому компоненту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листичное представление о процессе выздоровления, ведущие типы отношения к болезни – сенситивно-апатический: при легкомысленном отношении болезни имеется тревога за представления окружающих о неполноценности обследуемы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лемных вопросах склонны ориентироваться только на себя, имея нереалистичное представление о том, что способны справляться с собственными переживаниями самостоятель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гармоничного типа отношения к болезни рекомендуется коррекция эмоциональной неустойчивости,  чрезмерной импульсивности и взрывчат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эффективным способам распознавания собственных чувст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психотерапевтической атмосферы непримиримости к повторному употребле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психотерапия с целью развития и обучения навыкам конструктивного межличностного взаимодей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287280"/>
            <a:ext cx="871236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В настоящее время проблема употребления алкоголя в российском обществе остается актуальной. Алкоголизм в нашей стра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обрел размеры национального бед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Также акцентируется внимание на профилактике аддиктивного поведения и выявление причин такого поведения. Ведущее значение в лечении алкоголизма сохраняют психологически ориентированные методы, что, в свою очередь, опреде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актуальность социально-психологических исследов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Психология аддиктивного поведения включает изучение психологических предпосылок алкоголизма, психологических механизмов формирования алкогольной зависимости, общих закономерностей изменений психической деятельности на различных этапах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7280" y="0"/>
            <a:ext cx="8567640" cy="67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вопросам посвящено множество исследований, но стоит заметить, что преобладают описания отдельных свойств личности, особенно это касается морально-этических, социальных и бытовых оценок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Вален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8)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Дере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2) в этом случае считают, что собственно специфически алкогольные изменения личности вообще еще не изучены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Иван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Л. Иго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3) подчеркивают, что с помощью отдельных концепций нельзя охватить все многообразие патологических изменений личности при алкоголизме. Здесь необходима сложная схема, которая учитывает системный характер организма и лич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6000" y="360360"/>
            <a:ext cx="8820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чностных характеристик и особенностей реагирования на болезнь у зависимых от алкоголя мужчин и женщин в процессе реабили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общетеоретический анализ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мысложизненных ориент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руктуру и специфику отношения к собственному “Я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и структуру отношения к боле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чностные характери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сти сразнительный анализ между мужской и женской выбор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0772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0360" y="189000"/>
            <a:ext cx="8461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пир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смысложизненных ориентаций Д. Крамбо и Л. Махолика, методика исследования самоотношения С.Р. Пантелеева, Мини-Мульт, методика «Тип отношения к болезни» А.Е. Личко  и Н.Я. Иван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 t - Стьюдента для независимых выб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4800" y="284040"/>
            <a:ext cx="8521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лось на базе ГАУЗ «Оренбургский областной клинический наркологический диспансер» г. Оренбу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было исследова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чело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8 мужчин и 22 женщины в возрасте от 26 до 49 лет, больных алкоголизмом в процессе реабили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6000" y="60480"/>
            <a:ext cx="8712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и-Му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650880"/>
            <a:ext cx="85676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и шкалами в профилях опросника мини-мульт явились шкалы психопатии, психастении, паранояльности и м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000" y="1440000"/>
          <a:ext cx="9117000" cy="511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9367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ние тревожного, апатического и сенстивного ти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71280" y="201600"/>
            <a:ext cx="9215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ика «Тип отношения к болезн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511280"/>
          <a:ext cx="9091440" cy="511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36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ышение по шкалам «Локус контроля - Я» и «Локус контроля - Жизн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01600"/>
            <a:ext cx="8856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ест смысложизненных ориент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80" y="1349280"/>
          <a:ext cx="9128160" cy="513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12:12:17Z</dcterms:created>
  <dc:creator>1</dc:creator>
  <dc:description/>
  <dc:language>en-US</dc:language>
  <cp:lastModifiedBy/>
  <dcterms:modified xsi:type="dcterms:W3CDTF">2017-12-12T13:00:25Z</dcterms:modified>
  <cp:revision>69</cp:revision>
  <dc:subject/>
  <dc:title> ГБОУ ВПО ОрГМУ МИНЗДРАВА Российской Федерации Кафедра психиатрии и нарколог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