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ипохондрии</c:v>
                </c:pt>
                <c:pt idx="1">
                  <c:v>депрессии</c:v>
                </c:pt>
                <c:pt idx="2">
                  <c:v>истерии</c:v>
                </c:pt>
                <c:pt idx="3">
                  <c:v>психапатии</c:v>
                </c:pt>
                <c:pt idx="4">
                  <c:v>психастении</c:v>
                </c:pt>
                <c:pt idx="5">
                  <c:v>паранояльности</c:v>
                </c:pt>
                <c:pt idx="6">
                  <c:v>шизоидности</c:v>
                </c:pt>
                <c:pt idx="7">
                  <c:v>мани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5</c:v>
                </c:pt>
                <c:pt idx="1">
                  <c:v>5</c:v>
                </c:pt>
                <c:pt idx="2">
                  <c:v>4</c:v>
                </c:pt>
                <c:pt idx="3">
                  <c:v>16</c:v>
                </c:pt>
                <c:pt idx="4">
                  <c:v>7</c:v>
                </c:pt>
                <c:pt idx="5">
                  <c:v>16</c:v>
                </c:pt>
                <c:pt idx="6">
                  <c:v>3</c:v>
                </c:pt>
                <c:pt idx="7">
                  <c:v>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ипохондрии</c:v>
                </c:pt>
                <c:pt idx="1">
                  <c:v>депрессии</c:v>
                </c:pt>
                <c:pt idx="2">
                  <c:v>истерии</c:v>
                </c:pt>
                <c:pt idx="3">
                  <c:v>психапатии</c:v>
                </c:pt>
                <c:pt idx="4">
                  <c:v>психастении</c:v>
                </c:pt>
                <c:pt idx="5">
                  <c:v>паранояльности</c:v>
                </c:pt>
                <c:pt idx="6">
                  <c:v>шизоидности</c:v>
                </c:pt>
                <c:pt idx="7">
                  <c:v>мании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8</c:v>
                </c:pt>
                <c:pt idx="1">
                  <c:v>2</c:v>
                </c:pt>
                <c:pt idx="2">
                  <c:v>2</c:v>
                </c:pt>
                <c:pt idx="3">
                  <c:v>18</c:v>
                </c:pt>
                <c:pt idx="4">
                  <c:v>12</c:v>
                </c:pt>
                <c:pt idx="5">
                  <c:v>8</c:v>
                </c:pt>
                <c:pt idx="6">
                  <c:v>4</c:v>
                </c:pt>
                <c:pt idx="7">
                  <c:v>1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68726629"/>
        <c:axId val="40760731"/>
      </c:lineChart>
      <c:catAx>
        <c:axId val="687266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0731"/>
        <c:crosses val="autoZero"/>
        <c:auto val="1"/>
        <c:lblAlgn val="ctr"/>
        <c:lblOffset val="100"/>
        <c:noMultiLvlLbl val="0"/>
      </c:catAx>
      <c:valAx>
        <c:axId val="40760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26629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гармоничный</c:v>
                </c:pt>
                <c:pt idx="1">
                  <c:v>тревожный</c:v>
                </c:pt>
                <c:pt idx="2">
                  <c:v>ипохондрический</c:v>
                </c:pt>
                <c:pt idx="3">
                  <c:v>апатический</c:v>
                </c:pt>
                <c:pt idx="4">
                  <c:v>неврастенический</c:v>
                </c:pt>
                <c:pt idx="5">
                  <c:v>обсессивно-фобический</c:v>
                </c:pt>
                <c:pt idx="6">
                  <c:v>сенситивный</c:v>
                </c:pt>
                <c:pt idx="7">
                  <c:v>эгоцентрический</c:v>
                </c:pt>
                <c:pt idx="8">
                  <c:v>эйфорический</c:v>
                </c:pt>
                <c:pt idx="9">
                  <c:v>анозогнозический</c:v>
                </c:pt>
                <c:pt idx="10">
                  <c:v>эргопатический</c:v>
                </c:pt>
                <c:pt idx="11">
                  <c:v>паранойяльны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1</c:v>
                </c:pt>
                <c:pt idx="1">
                  <c:v>10</c:v>
                </c:pt>
                <c:pt idx="2">
                  <c:v>3</c:v>
                </c:pt>
                <c:pt idx="3">
                  <c:v>4</c:v>
                </c:pt>
                <c:pt idx="4">
                  <c:v>9</c:v>
                </c:pt>
                <c:pt idx="5">
                  <c:v>7</c:v>
                </c:pt>
                <c:pt idx="6">
                  <c:v>18</c:v>
                </c:pt>
                <c:pt idx="7">
                  <c:v>2</c:v>
                </c:pt>
                <c:pt idx="8">
                  <c:v>3</c:v>
                </c:pt>
                <c:pt idx="9">
                  <c:v>3</c:v>
                </c:pt>
                <c:pt idx="10">
                  <c:v>7</c:v>
                </c:pt>
                <c:pt idx="11">
                  <c:v>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гармоничный</c:v>
                </c:pt>
                <c:pt idx="1">
                  <c:v>тревожный</c:v>
                </c:pt>
                <c:pt idx="2">
                  <c:v>ипохондрический</c:v>
                </c:pt>
                <c:pt idx="3">
                  <c:v>апатический</c:v>
                </c:pt>
                <c:pt idx="4">
                  <c:v>неврастенический</c:v>
                </c:pt>
                <c:pt idx="5">
                  <c:v>обсессивно-фобический</c:v>
                </c:pt>
                <c:pt idx="6">
                  <c:v>сенситивный</c:v>
                </c:pt>
                <c:pt idx="7">
                  <c:v>эгоцентрический</c:v>
                </c:pt>
                <c:pt idx="8">
                  <c:v>эйфорический</c:v>
                </c:pt>
                <c:pt idx="9">
                  <c:v>анозогнозический</c:v>
                </c:pt>
                <c:pt idx="10">
                  <c:v>эргопатический</c:v>
                </c:pt>
                <c:pt idx="11">
                  <c:v>паранойяльны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2"/>
                <c:pt idx="0">
                  <c:v>1</c:v>
                </c:pt>
                <c:pt idx="1">
                  <c:v>7</c:v>
                </c:pt>
                <c:pt idx="2">
                  <c:v>6</c:v>
                </c:pt>
                <c:pt idx="3">
                  <c:v>17</c:v>
                </c:pt>
                <c:pt idx="4">
                  <c:v>6</c:v>
                </c:pt>
                <c:pt idx="5">
                  <c:v>4</c:v>
                </c:pt>
                <c:pt idx="6">
                  <c:v>12</c:v>
                </c:pt>
                <c:pt idx="7">
                  <c:v>5</c:v>
                </c:pt>
                <c:pt idx="8">
                  <c:v>7</c:v>
                </c:pt>
                <c:pt idx="9">
                  <c:v>9</c:v>
                </c:pt>
                <c:pt idx="10">
                  <c:v>8</c:v>
                </c:pt>
                <c:pt idx="11">
                  <c:v>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81463201"/>
        <c:axId val="27157784"/>
      </c:lineChart>
      <c:catAx>
        <c:axId val="814632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57784"/>
        <c:crosses val="autoZero"/>
        <c:auto val="1"/>
        <c:lblAlgn val="ctr"/>
        <c:lblOffset val="100"/>
        <c:noMultiLvlLbl val="0"/>
      </c:catAx>
      <c:valAx>
        <c:axId val="27157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63201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цели </c:v>
                </c:pt>
                <c:pt idx="1">
                  <c:v>процесс</c:v>
                </c:pt>
                <c:pt idx="2">
                  <c:v>результат</c:v>
                </c:pt>
                <c:pt idx="3">
                  <c:v>ЛК-Я</c:v>
                </c:pt>
                <c:pt idx="4">
                  <c:v>ЛК-Жизнь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2</c:v>
                </c:pt>
                <c:pt idx="1">
                  <c:v>1</c:v>
                </c:pt>
                <c:pt idx="2">
                  <c:v>7</c:v>
                </c:pt>
                <c:pt idx="3">
                  <c:v>1</c:v>
                </c:pt>
                <c:pt idx="4">
                  <c:v>11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цели </c:v>
                </c:pt>
                <c:pt idx="1">
                  <c:v>процесс</c:v>
                </c:pt>
                <c:pt idx="2">
                  <c:v>результат</c:v>
                </c:pt>
                <c:pt idx="3">
                  <c:v>ЛК-Я</c:v>
                </c:pt>
                <c:pt idx="4">
                  <c:v>ЛК-Жизнь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8</c:v>
                </c:pt>
                <c:pt idx="1">
                  <c:v>2</c:v>
                </c:pt>
                <c:pt idx="2">
                  <c:v>1</c:v>
                </c:pt>
                <c:pt idx="3">
                  <c:v>12</c:v>
                </c:pt>
                <c:pt idx="4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67043973"/>
        <c:axId val="85304276"/>
      </c:lineChart>
      <c:catAx>
        <c:axId val="670439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04276"/>
        <c:crosses val="autoZero"/>
        <c:auto val="1"/>
        <c:lblAlgn val="ctr"/>
        <c:lblOffset val="100"/>
        <c:noMultiLvlLbl val="0"/>
      </c:catAx>
      <c:valAx>
        <c:axId val="85304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3973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енщины</c:v>
                </c:pt>
              </c:strCache>
            </c:strRef>
          </c:tx>
          <c:spPr>
            <a:solidFill>
              <a:srgbClr val="004586"/>
            </a:solidFill>
            <a:ln w="2880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открытость </c:v>
                </c:pt>
                <c:pt idx="1">
                  <c:v>самоуверенность</c:v>
                </c:pt>
                <c:pt idx="2">
                  <c:v>саморуководство</c:v>
                </c:pt>
                <c:pt idx="3">
                  <c:v>зеркальное Я</c:v>
                </c:pt>
                <c:pt idx="4">
                  <c:v>самоценность</c:v>
                </c:pt>
                <c:pt idx="5">
                  <c:v>самопринятие</c:v>
                </c:pt>
                <c:pt idx="6">
                  <c:v>самопривязанность</c:v>
                </c:pt>
                <c:pt idx="7">
                  <c:v>конфликтность</c:v>
                </c:pt>
                <c:pt idx="8">
                  <c:v>самообвинени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</c:v>
                </c:pt>
                <c:pt idx="1">
                  <c:v>2</c:v>
                </c:pt>
                <c:pt idx="2">
                  <c:v>6</c:v>
                </c:pt>
                <c:pt idx="3">
                  <c:v>7</c:v>
                </c:pt>
                <c:pt idx="4">
                  <c:v>9</c:v>
                </c:pt>
                <c:pt idx="5">
                  <c:v>3</c:v>
                </c:pt>
                <c:pt idx="6">
                  <c:v>3</c:v>
                </c:pt>
                <c:pt idx="7">
                  <c:v>18</c:v>
                </c:pt>
                <c:pt idx="8">
                  <c:v>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ужчины</c:v>
                </c:pt>
              </c:strCache>
            </c:strRef>
          </c:tx>
          <c:spPr>
            <a:solidFill>
              <a:srgbClr val="ff420e"/>
            </a:solidFill>
            <a:ln w="2880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открытость </c:v>
                </c:pt>
                <c:pt idx="1">
                  <c:v>самоуверенность</c:v>
                </c:pt>
                <c:pt idx="2">
                  <c:v>саморуководство</c:v>
                </c:pt>
                <c:pt idx="3">
                  <c:v>зеркальное Я</c:v>
                </c:pt>
                <c:pt idx="4">
                  <c:v>самоценность</c:v>
                </c:pt>
                <c:pt idx="5">
                  <c:v>самопринятие</c:v>
                </c:pt>
                <c:pt idx="6">
                  <c:v>самопривязанность</c:v>
                </c:pt>
                <c:pt idx="7">
                  <c:v>конфликтность</c:v>
                </c:pt>
                <c:pt idx="8">
                  <c:v>самообвинение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3</c:v>
                </c:pt>
                <c:pt idx="1">
                  <c:v>7</c:v>
                </c:pt>
                <c:pt idx="2">
                  <c:v>19</c:v>
                </c:pt>
                <c:pt idx="3">
                  <c:v>3</c:v>
                </c:pt>
                <c:pt idx="4">
                  <c:v>7</c:v>
                </c:pt>
                <c:pt idx="5">
                  <c:v>5</c:v>
                </c:pt>
                <c:pt idx="6">
                  <c:v>17</c:v>
                </c:pt>
                <c:pt idx="7">
                  <c:v>15</c:v>
                </c:pt>
                <c:pt idx="8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62043469"/>
        <c:axId val="74832720"/>
      </c:lineChart>
      <c:catAx>
        <c:axId val="6204346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32720"/>
        <c:crosses val="autoZero"/>
        <c:auto val="1"/>
        <c:lblAlgn val="ctr"/>
        <c:lblOffset val="100"/>
        <c:noMultiLvlLbl val="0"/>
      </c:catAx>
      <c:valAx>
        <c:axId val="74832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43469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90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6"/>
          </p:nvPr>
        </p:nvSpPr>
        <p:spPr>
          <a:xfrm>
            <a:off x="427788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7"/>
          </p:nvPr>
        </p:nvSpPr>
        <p:spPr>
          <a:xfrm>
            <a:off x="-360" y="1015668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8"/>
          </p:nvPr>
        </p:nvSpPr>
        <p:spPr>
          <a:xfrm>
            <a:off x="4277880" y="1015668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B1756-0931-4F38-8EFD-BE89991495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38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3760" cy="399708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755640" y="5078520"/>
            <a:ext cx="603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3760" cy="399708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755640" y="5078520"/>
            <a:ext cx="603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483F-EB65-450C-9E76-74C0C19CE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5E7E-27F6-4B2B-9863-594FAA24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2B04-BD09-40F2-AF9F-58B1DD7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484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708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AB9A-46F2-42A2-84C5-D5B24656AA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F58BC-10B9-40BB-96F4-B0E962F338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7B247-E9DD-479F-987E-DBB2F059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0B19C-C38E-45FF-9714-1121EFBE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0C34A-6DA6-4E19-8B0D-C57B7314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1BBEF-C239-4D6D-8DEC-3155D585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75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F3949-6050-4258-B8F8-BE85F8C0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25753-64ED-46BD-95DC-AC06358D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1D94-A33D-4A25-86F9-C06EDE83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9DE45-C286-44B8-8CB3-A08D0AB7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E7001-841C-4FBF-B45D-CA870C6E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7A9CC-956B-4D61-9E31-8CE5B3AF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985BB-6105-4A83-818B-148F95C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0484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708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2EC84-C5F8-42B3-BDB5-252352ACC8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92F57-8562-4CA5-BEE4-A3584806C0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5609C-CC57-4724-8C3A-F078C7E582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1B28A-3CFE-4FDA-B3B3-38A0AAF79A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6879F-6E2C-4344-9BE5-73217509FE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7A034-734F-4998-AF0D-06CA5F29A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BDC5-DFD1-49CA-8F6D-034F284A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75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0C195-A31B-4873-A836-787F8F25B3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56DED-082B-4B5D-A8F2-7F825B1433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F5E3-BE01-47B6-A74D-90C9FE73B5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2DEBA-EEB8-41EE-AB8F-1B716D9D0A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19566-D9C7-414C-876B-F80C2FAD78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FD4F6-9071-4B68-997B-17CB7D0485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8260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0484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27080" y="4157640"/>
            <a:ext cx="249696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DFCF4-2F96-41C5-8F0D-0B570E703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6412-ACFE-4645-8D9E-05820723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F696-9B54-4A4D-939B-F4FB4CD7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75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09BB-6126-4272-85A6-BAA8A618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4932-D6EA-486A-B6F7-AE00CD02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6640" y="41576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FDDC-0A80-4251-A8B6-9CC1E27D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57640"/>
            <a:ext cx="77551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C4C7-2815-4E2A-B18D-99BEFCDE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4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347A2-671B-48CC-8E07-CEAEDB55323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299232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095800" cy="58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5800" indent="-3258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4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B9254-033C-4BD7-B060-5E3440753FB6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75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551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781320" y="6324480"/>
            <a:ext cx="18874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75054-615F-40DF-B2FC-69EC6DA893DB}" type="slidenum">
              <a:rPr b="0" lang="ru-RU" sz="24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3816360"/>
            <a:ext cx="4643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кворцова Анастасия Михайл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линический психолог ГАУЗ ООКН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ращенко Наталья Андре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удентка 6 курса факультета клинической психологии ОрГМ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ный руководитель: к.м.н., д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реча Галина Ильинич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360" y="239400"/>
            <a:ext cx="88567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«Оренбургский государственный медицинский университет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федра психиатрии и нарколог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1413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280" y="1806480"/>
            <a:ext cx="90727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я оценка личностных характеристик и особенностей реагирования на болезнь у зависимых от алкоголя в процессе реабили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27280" y="5950080"/>
            <a:ext cx="2376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3672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о шкалам «саморуководство», «самопривязанность» и «конфликтност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7280" y="201600"/>
            <a:ext cx="8785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следования самоотно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1655640"/>
          <a:ext cx="9088560" cy="51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2560"/>
            <a:ext cx="82152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ительный анализ с помощью критерия t-Стъюдента для независимых выбо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6920" y="1681200"/>
            <a:ext cx="85676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ы различия на высоком уровне значимости между женской и мужской выборками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ке «Мини-Мульт» в шкалах паранояльности и мани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ке «ТОБОЛ» в типах апатический и сенситивный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ст смысложизненных ориентаций в шкалах «локус контроля — Я» и «локус контроля — жизнь»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ике исследования самоотношения в шкалах саморуководство и самопривязан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2760" y="70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44360" y="863640"/>
            <a:ext cx="87105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зучения личностных особенностей, самоотношения, типов отношения к болезни и смысложизненных ориентаций у лиц, зависимых от алкоголя в процессе реабилитации были выявлены: недостаточность волевого контроля у респондентов в некоторых случаях, эмоциональная неустойчивость, импульсивность в действиях и эмоциональных проявлениях, вспыльчив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жличностных отношениях проявление конфликтности, преобладают поверхностность чувств, тенденция к избеганию ответственности, стремление к игровому компоненту дея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алистичное представление о процессе выздоровления, ведущие типы отношения к болезни – сенситивно-апатический: при легкомысленном отношении болезни имеется тревога за представления окружающих о неполноценности обследуемы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блемных вопросах склонны ориентироваться только на себя, имея нереалистичное представление о том, что способны справляться с собственными переживаниями самостоятель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рекомендаци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гармоничного типа отношения к болезни рекомендуется коррекция эмоциональной неустойчивости,  чрезмерной импульсивности и взрывчатост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эффективным способам распознавания собственных чувств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психотерапевтической атмосферы непримиримости к повторному употреблени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психотерапия с целью развития и обучения навыкам конструктивного межличностного взаимодейств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287280"/>
            <a:ext cx="871236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В настоящее время проблема употребления алкоголя в российском обществе остается актуальной. Алкоголизм в нашей стран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обрел размеры национального бед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 Также акцентируется внимание на профилактике аддиктивного поведения и выявление причин такого поведения. Ведущее значение в лечении алкоголизма сохраняют психологически ориентированные методы, что, в свою очередь, определя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актуальность социально-психологических исследова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 Психология аддиктивного поведения включает изучение психологических предпосылок алкоголизма, психологических механизмов формирования алкогольной зависимости, общих закономерностей изменений психической деятельности на различных этапах боле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87280" y="0"/>
            <a:ext cx="8567640" cy="67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вопросам посвящено множество исследований, но стоит заметить, что преобладают описания отдельных свойств личности, особенно это касается морально-этических, социальных и бытовых оценок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Валент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8)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 Дереч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2) в этом случае считают, что собственно специфически алкогольные изменения личности вообще еще не изучены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Иван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Л. Игон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3) подчеркивают, что с помощью отдельных концепций нельзя охватить все многообразие патологических изменений личности при алкоголизме. Здесь необходима сложная схема, которая учитывает системный характер организма и лич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6000" y="360360"/>
            <a:ext cx="8820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27240" algn="just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личностных характеристик и особенностей реагирования на болезнь у зависимых от алкоголя мужчин и женщин в процессе реабили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7240" algn="just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ить общетеоретический анализ пробл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смысложизненных ориент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труктуру и специфику отношения к собственному “Я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и структуру отношения к боле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чностные характери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1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сти сразнительный анализ между мужской и женской выбор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07720" algn="just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0360" y="189000"/>
            <a:ext cx="84614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пириче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смысложизненных ориентаций Д. Крамбо и Л. Махолика, методика исследования самоотношения С.Р. Пантелеева, Мини-Мульт, методика «Тип отношения к болезни» А.Е. Личко  и Н.Я. Иван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й t - Стьюдента для независимых выб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34800" y="284040"/>
            <a:ext cx="85219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лось на базе ГАУЗ «Оренбургский областной клинический наркологический диспансер» г. Оренбу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поставленной цели было исследова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 челов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8 мужчин и 22 женщины в возрасте от 26 до 49 лет, больных алкоголизмом в процессе реабилит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6000" y="60480"/>
            <a:ext cx="8712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ни-Му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650880"/>
            <a:ext cx="856764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и шкалами в профилях опросника мини-мульт явились шкалы психопатии, психастении, паранояльности и м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7000" y="1440000"/>
          <a:ext cx="9117000" cy="5118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9367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ние тревожного, апатического и сенстивного тип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71280" y="201600"/>
            <a:ext cx="9215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ика «Тип отношения к болезн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511280"/>
          <a:ext cx="9091440" cy="5111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3672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ышение по шкалам «Локус контроля - Я» и «Локус контроля - Жизн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01600"/>
            <a:ext cx="8856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ест смысложизненных ориент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080" y="1349280"/>
          <a:ext cx="9128160" cy="513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0T12:12:17Z</dcterms:created>
  <dc:creator>1</dc:creator>
  <dc:description/>
  <dc:language>en-US</dc:language>
  <cp:lastModifiedBy/>
  <dcterms:modified xsi:type="dcterms:W3CDTF">2017-12-12T13:00:25Z</dcterms:modified>
  <cp:revision>69</cp:revision>
  <dc:subject/>
  <dc:title> ГБОУ ВПО ОрГМУ МИНЗДРАВА Российской Федерации Кафедра психиатрии и нарколог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