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9.png" ContentType="image/png"/>
  <Override PartName="/ppt/media/image8.png" ContentType="image/png"/>
  <Override PartName="/ppt/media/image7.png" ContentType="image/png"/>
  <Override PartName="/ppt/media/image16.jpeg" ContentType="image/jpeg"/>
  <Override PartName="/ppt/media/image14.png" ContentType="image/pn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089B-E984-4761-8B85-D5C8DD05E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936B-CA75-405C-ADF8-3CBEDD53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B8EC5-3B39-4864-8FA2-F3AB85471FE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B059D-E872-4C10-91F4-363BCB824A5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9ADA-A86B-49B1-8647-2D09084CC81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60D4C-C7C6-4897-8E28-AFCF478D3CF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4D54-AB05-42EF-9EA5-66BF1EED24D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3BA6-41A8-4663-A1A7-99027E745FF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038D-5CA4-407D-A367-37B04DB15A5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F678-99A5-4F0A-8CA5-A403A82A128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F0E3-E03B-438F-B8F4-767025C5087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BDA8EA-4FFD-4D4B-A6D1-4863D718C3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682D-6721-4BC9-8455-D8F4A7BC0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F6F7EB-B9D2-49EE-8C68-70CDA85A355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BFA8B1-61AC-45EE-9A4F-5AB03ABC3C5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3D677E-BA48-4BF7-BE70-5A3FFA2C881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EA51BD-9560-4902-B202-2B4E34F40BA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FA868C-F92C-4D9C-AFD5-6EC647ED58B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9D6F83-C73B-4A36-965F-909011AB4A4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0DD566-9A0D-4C61-84FE-75688E71A40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282429-93B6-4D58-8035-5E31CFF8B40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BEF3B5-8C92-492B-9EAC-3E58579EB1B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485C4F-473D-4FBA-9AFF-1BC85A3470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A5C8-2C38-4BFF-9BCD-FDF6A97A1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3CD1A3-55BB-478F-9565-091671194D5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DD97DF-36D6-486B-9112-9A2B72264D7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63ED95-0EE6-4A14-BC1C-DF0899568C8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F575D6-86DD-4621-989A-3AE5901DBA5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23A3DB-DEAD-4EC2-A02E-65E50586A06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F72DE2-761C-4FF3-A543-A190E3AD797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8AAD67-A6EF-4336-9D8D-DE975A492B3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43578E-BDDC-4E80-B17C-36F91150A91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6BCFC9-9EC2-4781-A5C0-385A4A6923F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AAF09E-E16C-4CCC-80B8-54738CA101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64CDB9-E4DB-4B55-A135-BB920CA392D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24665C-C989-4BFC-A1E7-DEDFBD5283B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A62469-C396-40C9-9D03-928148BB68B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D481A-DBD5-4E25-842A-AE8D605C970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1AEAC-2EDA-4405-AFB4-A9B20BEB3D7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1FECA-AEF1-443E-8045-6F325A401FA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FD2AA-2A74-48A7-81F8-27BEA0A7832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502D7-E7DD-4898-AA93-914EF06B7AE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7969C-4AD5-4023-AEC3-A6498FEDB52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71C29-24D9-4899-9C6F-35B6050904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8AB7C-8B5B-4858-8121-32278F288BF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A2880-CB4C-4FF9-BFC5-B4C369AD86C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B0970-2FC0-4697-8A58-B211E5C999A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7A7E7-75AD-447D-A0EA-F742F32F799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D3242-CAC0-40EB-AD2F-5B0E56C86FD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ABFE67-C327-4850-A33B-3BA3FA738E7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857558-DE03-4F22-9DEA-83A460BEC96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28F73C-3E81-477A-A0CD-ECB44BC6C15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F4D847-431F-433D-85AF-A57FC13B4E5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B2956B-CE0E-4F9C-B205-FE8151FD01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835ABA-02B3-42A9-92EB-9DF9A43ABF9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CAE64B-AFC1-408E-96A1-67135FA09C7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395EA4-E8DD-45D7-8BEA-69ED8784747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D7AF32-2724-4BF2-BA66-AAFD821D78D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223FA3-2604-4D22-B44D-C6216363C17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59D4D7-3FC7-4A7F-88D7-10159A3DF5D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2E7DF2-4F30-42D9-8638-EF274C61FD3B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D520CA-1C3E-4DC9-B077-72FF9F123A8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65F7FD-255F-46FB-96D9-9C211F4D2E0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61E409-1643-41AC-87BE-B11784EFD3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C634DC-7805-4BE0-8196-D4572E22C32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EB3B90-2022-4850-835A-95BC7970525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7206E8-4DE2-491B-8A2B-24718653C0C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0A113E-6FC2-4211-A9D9-8FA7487BA8B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3F16A8-6D34-4837-971C-104CFF6BC07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8B5EEF-8D55-462B-81F7-1449F961666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C8F32C-042D-4EB2-94E6-8A21C831F8A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9F1403-9A4B-409E-90D0-A08DDC47304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32E85D-0BE4-461F-BCD1-4B999449F22E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35E3C3-7036-4F47-B31A-E76C1AC3E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508E50-FF88-43BC-84ED-5D259E81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E4E6D4-33F9-4581-8FD7-CABCA78B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076A29-FABE-45BF-882F-B8EB8353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E0A04F-04E4-483B-AC16-9A4FEB90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D4A15F-FFCF-42E1-8D07-CC44A245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171B2A-9B87-4793-8835-2EB22A36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F0C8A8-5E6D-49DD-B2A6-38421852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237C83-8B7B-42FE-AB0B-EFCFD5D7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C1968E-138B-4B4F-A91D-EC58D979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456C1D-C015-46A5-ABD3-BB81E45D6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F05141-644F-4621-A768-A1F493DE5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8BE307-0801-4A3D-8D3A-EA7ECCA6E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ED172D-57AD-461E-93C7-3FA41DC1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5CCFCB-CB6F-457A-8990-10EF570B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4E4950-BEDE-42FC-9E13-A9CD8642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85C67B-899F-4214-8B00-E864F681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3B5CC2-7D74-4303-8CEA-9DED2730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56188E-EB16-4333-88B0-6C5E07F3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38A4-B9F5-492D-82A6-2528DC1C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F06050-6F95-40B7-9A92-8BE36763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B0E192-CE0C-4ED0-870F-C4A14C46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BD3209-22BA-472A-8DDE-206DE892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72DA99-E799-4BDC-A9E5-89CFAA64E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9486C8-E5B1-47D9-8EBD-EF0F942C0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955868-3222-4FD7-97CF-147D6513B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2F18D4-50BE-4E26-A88D-586D4EB2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146E48-C775-4A48-AB55-571048B2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D65236-5AF6-43F2-90F6-53DA1B23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84324D-9F0D-49DA-9174-7FBAD586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05B118-6FE0-461A-A297-F318C5B5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DB148B-1BAC-49E6-B220-5895621E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6AA11A-670A-4C81-A8CC-5A8243D9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7FECFD-47F0-45CF-B15B-8E41A217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78C76F-AC81-4B1E-8927-D01FBF17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C902B3-A23F-43D2-9753-6D7390B90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5B4FA8-ED56-4D34-B81B-1A13F698E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D1E032-B575-44D6-B845-ADDDDB96B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4A6C22-3CE4-4A05-BF23-C41EDBF1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9E6197-9272-47E9-8024-057AAA46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AE98B1-321D-4DAA-BEEE-59075CD9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391C0D-9442-4E3F-95BC-1F1E4947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F6C62C-FF42-486D-9F13-20C6681B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34504C-E448-4D86-BE39-87DC9ADF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604184-CFA1-4AFF-ADB5-3AFDCD04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D8F9E4-ED93-44E5-BA0F-3C0AC839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945DFE-93FA-462F-B870-91B6FC56D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864B8E-AD9F-4ECC-98AC-DAD540F25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99CE91-9D8F-47B5-82F8-3B65E1123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2DDD-FDA2-40BB-B537-CAB3F47C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63AA-9CCB-4307-B70F-437C73B3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CF92-1AC3-4AF0-91CB-1DBCFF1C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C1EC-79E5-40B5-B31B-A275EE5B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74BA-33FA-40B3-8962-AAA72557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0E60D1-F4FE-462A-B51F-3255D4580C0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CF0DD0-57AF-4A65-8A85-3EA578964CE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E1E6B-C749-47FE-8BBE-F6F287ED951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5CF62-ED07-4ADE-91A6-A816415476C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757AA-4748-418B-A616-FCD2AB11EA6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53AE14-AA41-4AD7-A80E-55A1C38174A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48E78-DCC0-4B5B-806E-A2EE926B87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50F3-4817-4E3A-BC48-E82E2473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262EF0-CE71-4362-95B6-91352840565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FC94E5-6C64-4573-8928-2FEE36EE579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1CF57-63F2-4913-A768-5866AD1DF13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91DC1-D046-4500-BA45-DED26AC1051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297B9C-B92F-4AD6-A1ED-0B66B5D581E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922AC-D44A-4154-9307-EEA81DED9D0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80DCE8-4119-47AD-8FFC-B7AF14A4309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EE789-B75E-4CCC-9EA7-D533F2A0404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C1375-94DF-4E31-B075-6B7670C2887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408061-8AD2-4063-8990-73156C17B1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ABB5-7243-45FA-B9F4-0B63CAF8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141B9-C8ED-4264-9666-42B4813FF7E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2A960C-6EFE-4CC1-BBB3-9F47E0AA694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75F6C-EEFD-4C87-B160-C0BA03230C3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50E01-9DCC-46CD-8527-1359B916FDE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355CB8-1E49-410F-838A-0523099ECD6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431062-4DFC-4224-8E9D-5EBB97AF040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37576-B750-4974-8691-11FFDD512F4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4B7D-EC72-43DA-9843-297590A6D4E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AAC7-81EF-4272-9525-763C5CB212D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8BEA-5C90-455E-BD8F-57FB180552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169.xml"/><Relationship Id="rId17" Type="http://schemas.openxmlformats.org/officeDocument/2006/relationships/slideLayout" Target="../slideLayouts/slideLayout170.xml"/><Relationship Id="rId18" Type="http://schemas.openxmlformats.org/officeDocument/2006/relationships/slideLayout" Target="../slideLayouts/slideLayout171.xml"/><Relationship Id="rId19" Type="http://schemas.openxmlformats.org/officeDocument/2006/relationships/slideLayout" Target="../slideLayouts/slideLayout172.xml"/><Relationship Id="rId20" Type="http://schemas.openxmlformats.org/officeDocument/2006/relationships/slideLayout" Target="../slideLayouts/slideLayout173.xml"/><Relationship Id="rId21" Type="http://schemas.openxmlformats.org/officeDocument/2006/relationships/slideLayout" Target="../slideLayouts/slideLayout174.xml"/><Relationship Id="rId22" Type="http://schemas.openxmlformats.org/officeDocument/2006/relationships/slideLayout" Target="../slideLayouts/slideLayout175.xml"/><Relationship Id="rId23" Type="http://schemas.openxmlformats.org/officeDocument/2006/relationships/slideLayout" Target="../slideLayouts/slideLayout176.xml"/><Relationship Id="rId24" Type="http://schemas.openxmlformats.org/officeDocument/2006/relationships/slideLayout" Target="../slideLayouts/slideLayout177.xml"/><Relationship Id="rId25" Type="http://schemas.openxmlformats.org/officeDocument/2006/relationships/slideLayout" Target="../slideLayouts/slideLayout178.xml"/><Relationship Id="rId26" Type="http://schemas.openxmlformats.org/officeDocument/2006/relationships/slideLayout" Target="../slideLayouts/slideLayout179.xml"/><Relationship Id="rId2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484C-8A96-4FD1-A495-C62C5E782FF8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6" descr=""/>
          <p:cNvPicPr/>
          <p:nvPr/>
        </p:nvPicPr>
        <p:blipFill>
          <a:blip r:embed="rId2"/>
          <a:stretch/>
        </p:blipFill>
        <p:spPr>
          <a:xfrm>
            <a:off x="216000" y="6280200"/>
            <a:ext cx="396720" cy="3888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sldNum" idx="7"/>
          </p:nvPr>
        </p:nvSpPr>
        <p:spPr>
          <a:xfrm>
            <a:off x="8765640" y="6408720"/>
            <a:ext cx="44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C539-C45C-4139-B9C1-DCACFADB0CF9}" type="slidenum">
              <a:rPr b="1" lang="en-GB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6" descr=""/>
          <p:cNvPicPr/>
          <p:nvPr/>
        </p:nvPicPr>
        <p:blipFill>
          <a:blip r:embed="rId2"/>
          <a:stretch/>
        </p:blipFill>
        <p:spPr>
          <a:xfrm>
            <a:off x="216000" y="6280200"/>
            <a:ext cx="396720" cy="38880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sldNum" idx="8"/>
          </p:nvPr>
        </p:nvSpPr>
        <p:spPr>
          <a:xfrm>
            <a:off x="8765640" y="6408720"/>
            <a:ext cx="44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60DF-8262-4942-950B-4C77DFBC1D30}" type="slidenum">
              <a:rPr b="1" lang="en-GB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6" descr=""/>
          <p:cNvPicPr/>
          <p:nvPr/>
        </p:nvPicPr>
        <p:blipFill>
          <a:blip r:embed="rId2"/>
          <a:stretch/>
        </p:blipFill>
        <p:spPr>
          <a:xfrm>
            <a:off x="216000" y="6280200"/>
            <a:ext cx="396720" cy="38880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9"/>
          </p:nvPr>
        </p:nvSpPr>
        <p:spPr>
          <a:xfrm>
            <a:off x="8765640" y="6408720"/>
            <a:ext cx="44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654A-A138-4536-8DF1-D9EF521B835E}" type="slidenum">
              <a:rPr b="1" lang="en-GB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6" descr=""/>
          <p:cNvPicPr/>
          <p:nvPr/>
        </p:nvPicPr>
        <p:blipFill>
          <a:blip r:embed="rId2"/>
          <a:stretch/>
        </p:blipFill>
        <p:spPr>
          <a:xfrm>
            <a:off x="216000" y="6280200"/>
            <a:ext cx="396720" cy="3888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sldNum" idx="10"/>
          </p:nvPr>
        </p:nvSpPr>
        <p:spPr>
          <a:xfrm>
            <a:off x="8765640" y="6408720"/>
            <a:ext cx="44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396C-2420-4315-8180-56EEDBF319F8}" type="slidenum">
              <a:rPr b="1" lang="en-GB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6" descr=""/>
          <p:cNvPicPr/>
          <p:nvPr/>
        </p:nvPicPr>
        <p:blipFill>
          <a:blip r:embed="rId2"/>
          <a:stretch/>
        </p:blipFill>
        <p:spPr>
          <a:xfrm>
            <a:off x="216000" y="6280200"/>
            <a:ext cx="396720" cy="38880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sldNum" idx="11"/>
          </p:nvPr>
        </p:nvSpPr>
        <p:spPr>
          <a:xfrm>
            <a:off x="8765640" y="6408720"/>
            <a:ext cx="44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0D66-7909-43D8-A9AF-96506E9E47D5}" type="slidenum">
              <a:rPr b="1" lang="en-GB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6" descr=""/>
          <p:cNvPicPr/>
          <p:nvPr/>
        </p:nvPicPr>
        <p:blipFill>
          <a:blip r:embed="rId2"/>
          <a:stretch/>
        </p:blipFill>
        <p:spPr>
          <a:xfrm>
            <a:off x="431640" y="431640"/>
            <a:ext cx="3081600" cy="79236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7" descr=""/>
          <p:cNvPicPr/>
          <p:nvPr/>
        </p:nvPicPr>
        <p:blipFill>
          <a:blip r:embed="rId3"/>
          <a:stretch/>
        </p:blipFill>
        <p:spPr>
          <a:xfrm>
            <a:off x="6372360" y="4824360"/>
            <a:ext cx="2255760" cy="1579680"/>
          </a:xfrm>
          <a:prstGeom prst="rect">
            <a:avLst/>
          </a:prstGeom>
          <a:ln w="0">
            <a:noFill/>
          </a:ln>
        </p:spPr>
      </p:pic>
      <p:pic>
        <p:nvPicPr>
          <p:cNvPr id="565" name="Flickr" descr=""/>
          <p:cNvPicPr/>
          <p:nvPr/>
        </p:nvPicPr>
        <p:blipFill>
          <a:blip r:embed="rId4"/>
          <a:stretch/>
        </p:blipFill>
        <p:spPr>
          <a:xfrm>
            <a:off x="6300720" y="6173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566" name="YouTube" descr=""/>
          <p:cNvPicPr/>
          <p:nvPr/>
        </p:nvPicPr>
        <p:blipFill>
          <a:blip r:embed="rId5"/>
          <a:stretch/>
        </p:blipFill>
        <p:spPr>
          <a:xfrm>
            <a:off x="6300720" y="587700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567" name="FaceBook" descr=""/>
          <p:cNvPicPr/>
          <p:nvPr/>
        </p:nvPicPr>
        <p:blipFill>
          <a:blip r:embed="rId6"/>
          <a:stretch/>
        </p:blipFill>
        <p:spPr>
          <a:xfrm>
            <a:off x="6300720" y="554832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568" name="Twitter" descr=""/>
          <p:cNvPicPr/>
          <p:nvPr/>
        </p:nvPicPr>
        <p:blipFill>
          <a:blip r:embed="rId7"/>
          <a:stretch/>
        </p:blipFill>
        <p:spPr>
          <a:xfrm>
            <a:off x="6300720" y="522936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569" name="Flickr" descr=""/>
          <p:cNvPicPr/>
          <p:nvPr/>
        </p:nvPicPr>
        <p:blipFill>
          <a:blip r:embed="rId8"/>
          <a:stretch/>
        </p:blipFill>
        <p:spPr>
          <a:xfrm>
            <a:off x="6300720" y="6173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570" name="YouTube" descr=""/>
          <p:cNvPicPr/>
          <p:nvPr/>
        </p:nvPicPr>
        <p:blipFill>
          <a:blip r:embed="rId9"/>
          <a:stretch/>
        </p:blipFill>
        <p:spPr>
          <a:xfrm>
            <a:off x="6300720" y="587700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571" name="FaceBook" descr=""/>
          <p:cNvPicPr/>
          <p:nvPr/>
        </p:nvPicPr>
        <p:blipFill>
          <a:blip r:embed="rId10"/>
          <a:stretch/>
        </p:blipFill>
        <p:spPr>
          <a:xfrm>
            <a:off x="6300720" y="554832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572" name="Twitter" descr=""/>
          <p:cNvPicPr/>
          <p:nvPr/>
        </p:nvPicPr>
        <p:blipFill>
          <a:blip r:embed="rId11"/>
          <a:stretch/>
        </p:blipFill>
        <p:spPr>
          <a:xfrm>
            <a:off x="6300720" y="522936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573" name="Flickr" descr=""/>
          <p:cNvPicPr/>
          <p:nvPr/>
        </p:nvPicPr>
        <p:blipFill>
          <a:blip r:embed="rId12"/>
          <a:stretch/>
        </p:blipFill>
        <p:spPr>
          <a:xfrm>
            <a:off x="6300720" y="6173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574" name="YouTube" descr=""/>
          <p:cNvPicPr/>
          <p:nvPr/>
        </p:nvPicPr>
        <p:blipFill>
          <a:blip r:embed="rId13"/>
          <a:stretch/>
        </p:blipFill>
        <p:spPr>
          <a:xfrm>
            <a:off x="6300720" y="587700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575" name="FaceBook" descr=""/>
          <p:cNvPicPr/>
          <p:nvPr/>
        </p:nvPicPr>
        <p:blipFill>
          <a:blip r:embed="rId14"/>
          <a:stretch/>
        </p:blipFill>
        <p:spPr>
          <a:xfrm>
            <a:off x="6300720" y="554832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576" name="Twitter" descr=""/>
          <p:cNvPicPr/>
          <p:nvPr/>
        </p:nvPicPr>
        <p:blipFill>
          <a:blip r:embed="rId15"/>
          <a:stretch/>
        </p:blipFill>
        <p:spPr>
          <a:xfrm>
            <a:off x="6300720" y="522936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16"/>
    <p:sldLayoutId id="2147483832" r:id="rId17"/>
    <p:sldLayoutId id="2147483833" r:id="rId18"/>
    <p:sldLayoutId id="2147483834" r:id="rId19"/>
    <p:sldLayoutId id="2147483835" r:id="rId20"/>
    <p:sldLayoutId id="2147483836" r:id="rId21"/>
    <p:sldLayoutId id="2147483837" r:id="rId22"/>
    <p:sldLayoutId id="2147483838" r:id="rId23"/>
    <p:sldLayoutId id="2147483839" r:id="rId24"/>
    <p:sldLayoutId id="2147483840" r:id="rId25"/>
    <p:sldLayoutId id="2147483841" r:id="rId26"/>
    <p:sldLayoutId id="2147483842" r:id="rId2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881D-EFCA-48CC-8384-866DF9559C45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573D-8323-44A1-8C1C-E0A1348A6F18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2A36-5A99-43D5-A858-AA160CFC3094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6411-5730-45DD-BF26-166F3237FDB7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431640" y="431640"/>
            <a:ext cx="3081600" cy="792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"/>
          <p:cNvPicPr/>
          <p:nvPr/>
        </p:nvPicPr>
        <p:blipFill>
          <a:blip r:embed="rId2"/>
          <a:stretch/>
        </p:blipFill>
        <p:spPr>
          <a:xfrm>
            <a:off x="431640" y="431640"/>
            <a:ext cx="3081600" cy="7923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431640" y="431640"/>
            <a:ext cx="3081600" cy="7923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7"/>
          <p:cNvSpPr/>
          <p:nvPr/>
        </p:nvSpPr>
        <p:spPr>
          <a:xfrm>
            <a:off x="612720" y="2135160"/>
            <a:ext cx="39592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6500"/>
              </a:lnSpc>
              <a:tabLst>
                <a:tab algn="l" pos="0"/>
                <a:tab algn="l" pos="8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431640" y="4797360"/>
            <a:ext cx="3081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Arial"/>
                <a:ea typeface="MS PGothic"/>
              </a:rPr>
              <a:t>Trends and develop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" descr=""/>
          <p:cNvPicPr/>
          <p:nvPr/>
        </p:nvPicPr>
        <p:blipFill>
          <a:blip r:embed="rId3"/>
          <a:stretch/>
        </p:blipFill>
        <p:spPr>
          <a:xfrm>
            <a:off x="468360" y="2133720"/>
            <a:ext cx="3733920" cy="2447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"/>
          <p:cNvPicPr/>
          <p:nvPr/>
        </p:nvPicPr>
        <p:blipFill>
          <a:blip r:embed="rId4"/>
          <a:stretch/>
        </p:blipFill>
        <p:spPr>
          <a:xfrm>
            <a:off x="468360" y="2133720"/>
            <a:ext cx="3733920" cy="24476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8028000" y="431640"/>
            <a:ext cx="679320" cy="846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6" descr=""/>
          <p:cNvPicPr/>
          <p:nvPr/>
        </p:nvPicPr>
        <p:blipFill>
          <a:blip r:embed="rId2"/>
          <a:stretch/>
        </p:blipFill>
        <p:spPr>
          <a:xfrm>
            <a:off x="8028000" y="431640"/>
            <a:ext cx="679320" cy="84636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6" descr=""/>
          <p:cNvPicPr/>
          <p:nvPr/>
        </p:nvPicPr>
        <p:blipFill>
          <a:blip r:embed="rId2"/>
          <a:stretch/>
        </p:blipFill>
        <p:spPr>
          <a:xfrm>
            <a:off x="216000" y="6280200"/>
            <a:ext cx="396720" cy="388800"/>
          </a:xfrm>
          <a:prstGeom prst="rect">
            <a:avLst/>
          </a:prstGeom>
          <a:ln w="0">
            <a:noFill/>
          </a:ln>
        </p:spPr>
      </p:pic>
      <p:pic>
        <p:nvPicPr>
          <p:cNvPr id="241" name="Logo" descr=""/>
          <p:cNvPicPr/>
          <p:nvPr/>
        </p:nvPicPr>
        <p:blipFill>
          <a:blip r:embed="rId3"/>
          <a:stretch/>
        </p:blipFill>
        <p:spPr>
          <a:xfrm>
            <a:off x="216000" y="6280200"/>
            <a:ext cx="396720" cy="388800"/>
          </a:xfrm>
          <a:prstGeom prst="rect">
            <a:avLst/>
          </a:prstGeom>
          <a:ln w="0">
            <a:noFill/>
          </a:ln>
        </p:spPr>
      </p:pic>
      <p:pic>
        <p:nvPicPr>
          <p:cNvPr id="242" name="Logo" descr=""/>
          <p:cNvPicPr/>
          <p:nvPr/>
        </p:nvPicPr>
        <p:blipFill>
          <a:blip r:embed="rId4"/>
          <a:stretch/>
        </p:blipFill>
        <p:spPr>
          <a:xfrm>
            <a:off x="216000" y="6280200"/>
            <a:ext cx="396720" cy="388800"/>
          </a:xfrm>
          <a:prstGeom prst="rect">
            <a:avLst/>
          </a:prstGeom>
          <a:ln w="0">
            <a:noFill/>
          </a:ln>
        </p:spPr>
      </p:pic>
      <p:pic>
        <p:nvPicPr>
          <p:cNvPr id="243" name="Logo" descr=""/>
          <p:cNvPicPr/>
          <p:nvPr/>
        </p:nvPicPr>
        <p:blipFill>
          <a:blip r:embed="rId5"/>
          <a:stretch/>
        </p:blipFill>
        <p:spPr>
          <a:xfrm>
            <a:off x="216000" y="6280200"/>
            <a:ext cx="396720" cy="3888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Num" idx="4"/>
          </p:nvPr>
        </p:nvSpPr>
        <p:spPr>
          <a:xfrm>
            <a:off x="8765640" y="6408720"/>
            <a:ext cx="44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6303-643D-4726-BCCE-718CB58E0151}" type="slidenum">
              <a:rPr b="1" lang="en-GB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6" descr=""/>
          <p:cNvPicPr/>
          <p:nvPr/>
        </p:nvPicPr>
        <p:blipFill>
          <a:blip r:embed="rId2"/>
          <a:stretch/>
        </p:blipFill>
        <p:spPr>
          <a:xfrm>
            <a:off x="216000" y="6280200"/>
            <a:ext cx="396720" cy="3888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Num" idx="5"/>
          </p:nvPr>
        </p:nvSpPr>
        <p:spPr>
          <a:xfrm>
            <a:off x="8765640" y="6408720"/>
            <a:ext cx="44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BF12-496B-4E35-A2E9-F6FA950C5A6C}" type="slidenum">
              <a:rPr b="1" lang="en-GB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6" descr=""/>
          <p:cNvPicPr/>
          <p:nvPr/>
        </p:nvPicPr>
        <p:blipFill>
          <a:blip r:embed="rId2"/>
          <a:stretch/>
        </p:blipFill>
        <p:spPr>
          <a:xfrm>
            <a:off x="216000" y="6280200"/>
            <a:ext cx="396720" cy="38880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sldNum" idx="6"/>
          </p:nvPr>
        </p:nvSpPr>
        <p:spPr>
          <a:xfrm>
            <a:off x="8765640" y="6408720"/>
            <a:ext cx="44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D099-E73D-4B72-9EA7-27714B1D08F9}" type="slidenum">
              <a:rPr b="1" lang="en-GB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9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9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31680" y="304560"/>
            <a:ext cx="873144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4ea2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временные подходы к лечению синдрома зависимости от алкоголя с делирием</a:t>
            </a:r>
            <a:endParaRPr b="1" lang="en-US" sz="3600" spc="-1" strike="noStrike">
              <a:solidFill>
                <a:srgbClr val="034ea2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дующий </a:t>
            </a: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кологическим </a:t>
            </a: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ением с палатой </a:t>
            </a: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нимации и </a:t>
            </a: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нсивной терапии   </a:t>
            </a: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УЗ «ООКНД»</a:t>
            </a: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.Г. Носова  </a:t>
            </a: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4ea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34ea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34ea2"/>
              </a:solidFill>
              <a:latin typeface="Arial"/>
            </a:endParaRPr>
          </a:p>
        </p:txBody>
      </p:sp>
      <p:pic>
        <p:nvPicPr>
          <p:cNvPr id="780" name="Picture 4" descr=""/>
          <p:cNvPicPr/>
          <p:nvPr/>
        </p:nvPicPr>
        <p:blipFill>
          <a:blip r:embed="rId1"/>
          <a:stretch/>
        </p:blipFill>
        <p:spPr>
          <a:xfrm>
            <a:off x="0" y="2286000"/>
            <a:ext cx="48006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Arial"/>
              </a:rPr>
              <a:t>Схемы назначения бензодиазепинов:</a:t>
            </a:r>
            <a:br>
              <a:rPr sz="3000"/>
            </a:b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ксированная;</a:t>
            </a:r>
            <a:endParaRPr b="1" lang="en-US" sz="32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атическая;</a:t>
            </a:r>
            <a:endParaRPr b="1" lang="en-US" sz="32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использованием «нагрузочной дозы»</a:t>
            </a:r>
            <a:endParaRPr b="1" lang="en-US" sz="32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помогательные (альтернативные) препараты</a:t>
            </a:r>
            <a:endParaRPr b="1" lang="en-US" sz="28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4ea2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ные бутирофенона (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алоперидол, дроперидо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(считаются самыми безопасными и эффективными антипсихотиками для терапии делирия) </a:t>
            </a: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алоперидол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вводиться перорально, внутримышечно или внутривенно в дозе 1-2 мг каждые 2-4 часа по мере необходимости (0,25-0,5 мг каждые 4 часа по мере необходимости для пожилых пациентов), с титрованием до более высоких доз для пациентов, которые продолжают оставаться в состоянии психомоторного возбуждения, но не более 10 мг/сутки </a:t>
            </a: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ние!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431640" y="1218960"/>
            <a:ext cx="81727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 назначении галоперидола, дроперидола производить регистрацию ЭКГ с особым вниманием к длине интервала QT. Удлинение интервала QT диагностируют в том случае, если длительность QTc превышает 0,44 с.  Удлинение интервала QT до более чем 0,45 с. или более чем на 25% по сравнению с предыдущими ЭКГ может послужить основанием для консультации кардиолога, снижению дозы или прекращению приема препарата;</a:t>
            </a:r>
            <a:endParaRPr b="1" lang="en-US" sz="27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 в этом случае целесообразно контролировать уровни содержания магния и калия в сыворотке крови </a:t>
            </a: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431640" y="685800"/>
            <a:ext cx="8172720" cy="54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современных антиконвульсантов больше всего свидетельств, указывающих на эффективность при лечении синдрома отмены с делирием имеет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абапентин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уется также обязательное введение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иамин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й следует вводить перед введением глюкозы (обычная доза тиамина, необходимая для профилактики или терапии энцефалопатии Вернике у большинства пациентов, с алкогольным делирием составляет более 500 мг в сутки парентерально 2-4 раза в день)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фузионно - трансфузионная терапия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22860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4ea2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алансированные растворы кристаллоидов</a:t>
            </a: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и гипернатриемии (причины: профузное потоотделение, диарея, рвота, тахипноэ, лихорадка) используют кристаллоиды с пониженным содержанием натрия (Нормофундин Г-5**, Дисоль** ,Трисоль** , Ацесоль**); </a:t>
            </a: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ля инфузионной терапии при изотонической дегидратации используется изотонический сбалансированный кристаллоид (Стерофундин изотонический);</a:t>
            </a: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и гипонатриемии препаратом выбора является раствор натрия хлорида 0,9%** и сбалансированные изотонические кристаллоиды.</a:t>
            </a: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комендуется контроль за состоянием водно-электролитного баланса !</a:t>
            </a:r>
            <a:endParaRPr b="1" lang="en-US" sz="22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Arial"/>
              </a:rPr>
              <a:t>Нейрометаболическая терапия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380880" y="1066320"/>
            <a:ext cx="8172720" cy="49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4ea2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 себя несколько групп препаратов : ноотропные, сосудистые, адаптогены, витамины, аминокислоты, антиоксиданты: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тофлавин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мберин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ксидол 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аксон 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цин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йропептиды  (кортексиин, церебролизин, актовегин)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филактика и терапия осложнений алкогольного делирия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456840" y="1295280"/>
            <a:ext cx="817236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4ea2"/>
                </a:solidFill>
                <a:latin typeface="Arial"/>
              </a:rPr>
              <a:t>	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актика развития отека головного мозга включает:</a:t>
            </a:r>
            <a:endParaRPr b="1" lang="en-US" sz="27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циональное, обоснованное применение инфузионной терапии (под контролем ЦВД, электролитного баланса, КЩС крови, диуреза);</a:t>
            </a:r>
            <a:endParaRPr b="1" lang="en-US" sz="27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одиуретики:;</a:t>
            </a:r>
            <a:endParaRPr b="1" lang="en-US" sz="27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ния сульфат;</a:t>
            </a:r>
            <a:endParaRPr b="1" lang="en-US" sz="27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ьба с метаболическим ацидозом;</a:t>
            </a:r>
            <a:endParaRPr b="1" lang="en-US" sz="27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ие использования для инфузионной терапии растворов  5% глюкозы;</a:t>
            </a:r>
            <a:endParaRPr b="1" lang="en-US" sz="27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тикализация пациента</a:t>
            </a:r>
            <a:endParaRPr b="1" lang="en-US" sz="27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филактика пневмонии</a:t>
            </a:r>
            <a:endParaRPr b="1" lang="en-US" sz="36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4ea2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мощных антибиотиков    из группы карбапенемов:</a:t>
            </a:r>
            <a:endParaRPr b="1" lang="en-US" sz="36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енам</a:t>
            </a:r>
            <a:endParaRPr b="1" lang="en-US" sz="36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ипрекс</a:t>
            </a:r>
            <a:endParaRPr b="1" lang="en-US" sz="36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2" name="Picture 2" descr="http://vseostresse.ru/wp-content/uploads/2015/11/24-12-2013_11-16--800x400.jpg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Picture 2" descr="https://ds04.infourok.ru/uploads/ex/0796/00018e35-b0e68943/img13.jpg"/>
          <p:cNvPicPr/>
          <p:nvPr/>
        </p:nvPicPr>
        <p:blipFill>
          <a:blip r:embed="rId1"/>
          <a:stretch/>
        </p:blipFill>
        <p:spPr>
          <a:xfrm>
            <a:off x="380880" y="533520"/>
            <a:ext cx="7925040" cy="55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Объект 4" descr=""/>
          <p:cNvPicPr/>
          <p:nvPr/>
        </p:nvPicPr>
        <p:blipFill>
          <a:blip r:embed="rId1"/>
          <a:stretch/>
        </p:blipFill>
        <p:spPr>
          <a:xfrm>
            <a:off x="5486400" y="228600"/>
            <a:ext cx="3530520" cy="3124080"/>
          </a:xfrm>
          <a:prstGeom prst="rect">
            <a:avLst/>
          </a:prstGeom>
          <a:ln w="0">
            <a:noFill/>
          </a:ln>
        </p:spPr>
      </p:pic>
      <p:sp>
        <p:nvSpPr>
          <p:cNvPr id="782" name="Нижний колонтитул 3"/>
          <p:cNvSpPr/>
          <p:nvPr/>
        </p:nvSpPr>
        <p:spPr>
          <a:xfrm>
            <a:off x="380880" y="76320"/>
            <a:ext cx="50292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бстинентное состояние</a:t>
            </a:r>
            <a:r>
              <a:rPr b="0" lang="ru-RU" sz="2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индром отмены) с делирием – кратковременное (преходящее), вызванное психоактивными веществами (преимущественно алкоголем и некоторыми другими), иногда опасное для жизни острое психотическое состояние, протекающее с расстройством сознания, галлюцинациями и сопутствующими соматическими расстройств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зникает обычн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ледствие полного или частичного прекращения приема алкоголя   у лиц с зависимостью от него, употребляющих алкоголь  в течение долгого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 txBox="1"/>
          <p:nvPr/>
        </p:nvSpPr>
        <p:spPr>
          <a:xfrm>
            <a:off x="914400" y="160020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ЛАГОДАРЮ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 ВНИМАНИЕ!</a:t>
            </a:r>
            <a:endParaRPr b="1" lang="en-US" sz="44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Arial"/>
              </a:rPr>
              <a:t>Этиология и патогенез 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304560" y="1066680"/>
            <a:ext cx="883908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marL="267480" indent="-26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ём алкоголя вызывает:</a:t>
            </a: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е увеличение ингибирующей нейротрансмиссии;</a:t>
            </a:r>
            <a:endParaRPr b="1" lang="en-US" sz="2200" spc="-1" strike="noStrike">
              <a:solidFill>
                <a:srgbClr val="034ea2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гические изменения в возбуждающей нейротрансмиссии;</a:t>
            </a:r>
            <a:endParaRPr b="1" lang="en-US" sz="2200" spc="-1" strike="noStrike">
              <a:solidFill>
                <a:srgbClr val="034ea2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можение связывания глицина с N-метил-D-аспартатными (NMDA) рецепторами головного мозга,  предотвращая действие основного возбуждающего нейротрансмиттераглутамата на NMDA-рецепторы, что приводит к постепенному повышению экспрессии NMDA-рецепторов и компенсаторному подавлению  рецепторов ГАМК;</a:t>
            </a:r>
            <a:endParaRPr b="1" lang="en-US" sz="2200" spc="-1" strike="noStrike">
              <a:solidFill>
                <a:srgbClr val="034ea2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компенсация и приводит к толерантности и результирующей потребности в более высоких уровнях содержания алкоголя в крови для достижения того же эффекта.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рисутствие алкоголя является постоянным, равновесие в возбуждающих и тормозных действиях сохраняется </a:t>
            </a:r>
            <a:r>
              <a:rPr b="1" i="1" lang="ru-RU" sz="2200" spc="-1" strike="noStrike">
                <a:solidFill>
                  <a:srgbClr val="034ea2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34ea2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marL="267480" indent="-26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marL="267480" indent="-26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marL="267480" indent="-26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marL="267480" indent="-26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4ea2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Arial"/>
              </a:rPr>
              <a:t>Элиминация алкоголя из организма вызывает: 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431640" y="1294920"/>
            <a:ext cx="81727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 в регуляции глутаматнейротрансмиссии и подавлению активности ГАМК, что ведет к возникновению синдрома отмены алкоголя, а в тяжелых случаях – алкогольного абстинентного синдрома с делирием;</a:t>
            </a:r>
            <a:endParaRPr b="1" lang="en-US" sz="26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уровня дофамина в ЦНС, что вызывает гипервозбуждение и галлюцинации;</a:t>
            </a:r>
            <a:endParaRPr b="1" lang="en-US" sz="26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цит тиамина из-за недостаточности питания, снижения абсорбции желудочно-кишечного тракта, снижение превращения тиамина в активную форму и уменьшения его депо в тканях печени</a:t>
            </a:r>
            <a:endParaRPr b="1" lang="en-US" sz="26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Нижний колонтитул 3"/>
          <p:cNvSpPr/>
          <p:nvPr/>
        </p:nvSpPr>
        <p:spPr>
          <a:xfrm>
            <a:off x="152280" y="304920"/>
            <a:ext cx="5867640" cy="64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MS PGothic"/>
              </a:rPr>
              <a:t>Многочисленные повторные эпизод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алкогольного абстинентного синдрома приводят к снижению порога судорожной готовности и развитию судорожных пароксизмов, являющихся частым предиктором алкогольного делир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	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MS PGothic"/>
              </a:rPr>
              <a:t>В ряде случае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возникновению алкогольного делирия предшествуют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провоцирующие фактор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травмы, особенно черепно-мозговые, хирургические операции, сопутствующая соматическая патология, инфекционные заболевания, интоксикации другими веществами и лек. препара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Picture 2" descr="Ð¿ÑÐ¸Ð·Ð½Ð°ÐºÐ¸ Ð°Ð±ÑÑÐ¸Ð½ÐµÐ½ÑÐ½Ð¾Ð³Ð¾ ÑÐ¸Ð½Ð´ÑÐ¾Ð¼Ð°"/>
          <p:cNvPicPr/>
          <p:nvPr/>
        </p:nvPicPr>
        <p:blipFill>
          <a:blip r:embed="rId1"/>
          <a:stretch/>
        </p:blipFill>
        <p:spPr>
          <a:xfrm>
            <a:off x="5715000" y="380880"/>
            <a:ext cx="33526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Нижний колонтитул 3"/>
          <p:cNvSpPr/>
          <p:nvPr/>
        </p:nvSpPr>
        <p:spPr>
          <a:xfrm>
            <a:off x="380880" y="304920"/>
            <a:ext cx="518184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MS PGothic"/>
              </a:rPr>
              <a:t>Классификация по МКБ 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1х.40 —Абстинентное состояние (синдром отмены) с делирием («классический делирий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1х.41 —Абстинентное состояние (синдром отмены) с делирием с судорожными припадк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1х.42 —Абстинентное состояние (синдром отмены) с мусситирующим делирием («бормочущий» делирий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1х.43 —Абстинентное состояние (синдром отмены) с «профессиональным» делир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1х.44 —Абстинентное состояние (синдром отмены) с делирием без галлюцинаций (люцидный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1х.45—Абстинентное состояние (синдром отмены) с делирием абортивным F1х.48 —Абстинентное состояние (синдром отмены) с делирием другим F1х.49 —Абстинентное состояние (синдром отмены) с делирием неуточнен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2" descr="http://ru.haejuclinic.com/wp-content/uploads/sites/2/2016/12/13.jpg"/>
          <p:cNvPicPr/>
          <p:nvPr/>
        </p:nvPicPr>
        <p:blipFill>
          <a:blip r:embed="rId1"/>
          <a:stretch/>
        </p:blipFill>
        <p:spPr>
          <a:xfrm>
            <a:off x="5562720" y="76320"/>
            <a:ext cx="3581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Нижний колонтитул 3"/>
          <p:cNvSpPr/>
          <p:nvPr/>
        </p:nvSpPr>
        <p:spPr>
          <a:xfrm>
            <a:off x="380880" y="76320"/>
            <a:ext cx="495324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MS PGothic"/>
              </a:rPr>
              <a:t>Принципы терап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лечебно-охранный режи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мониторинг жизненно важных функци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круглосуточное наблюдени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рациональная фармакотерап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	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Лечение синдрома отмены с делирием  необходимо проводить в условиях стационара (в отделении интенсивной терапии или реанимации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	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В состоянии возбуждения или спутанного сознания целесообразно применение физической фиксац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Объект 4" descr=""/>
          <p:cNvPicPr/>
          <p:nvPr/>
        </p:nvPicPr>
        <p:blipFill>
          <a:blip r:embed="rId1"/>
          <a:stretch/>
        </p:blipFill>
        <p:spPr>
          <a:xfrm>
            <a:off x="5468760" y="0"/>
            <a:ext cx="3657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31640" y="252000"/>
            <a:ext cx="8172720" cy="11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обходимость применения мер как медикаментозной, так и физической фиксации должна быть обоснована и отражена в медицинской документации  ПАЦИЕНТА</a:t>
            </a:r>
            <a:endParaRPr b="1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5800" indent="-32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комендовано:</a:t>
            </a:r>
            <a:r>
              <a:rPr b="1" lang="ru-RU" sz="2400" spc="-1" strike="noStrike">
                <a:solidFill>
                  <a:srgbClr val="034ea2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ной конец кровати приподнять и установить под углом 15-30%, для облегчения венозного оттока из полости черепа. Нарушение  венозного оттока может быть и следствием длительного пребывания больного на кровати без подушки при опущенном головном конце кровати. </a:t>
            </a:r>
            <a:endParaRPr b="1" lang="en-US" sz="2300" spc="-1" strike="noStrike">
              <a:solidFill>
                <a:srgbClr val="034ea2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ая смена положения больного, дыхательные упражнения, проведение перкуторного массажа грудной клетки (для профилактики гипостатической пневмонии;</a:t>
            </a:r>
            <a:endParaRPr b="1" lang="en-US" sz="2300" spc="-1" strike="noStrike">
              <a:solidFill>
                <a:srgbClr val="034ea2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тритивная поддержка.  Предпочтительным является естественное (оральное) сбалансированное питание или раннее (на 2-3 сутки лечения) начало энтерального питания </a:t>
            </a:r>
            <a:endParaRPr b="1" lang="en-US" sz="2300" spc="-1" strike="noStrike">
              <a:solidFill>
                <a:srgbClr val="034ea2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Arial"/>
              </a:rPr>
              <a:t>Медикаментозная терапия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304560" y="11426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4ea2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34ea2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дативная терапия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4ea2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терапия препаратами бензодиазепинового ряда: диазепам, (феназепам) - вводят в/в или в/м 10-20 мг, при обязательном мониторинге состояния пациента до достижения адекватной седации;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одолжающемся психомоторном возбуждении в течение часа, введение бензодиазепина повторяется (до 40 мг/сут. в диазепамовом эквиваленте) пока пациент не станет спокойным в течение ≥1 часа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8-12-19T03:58:21Z</dcterms:modified>
  <cp:revision>2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