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6.jpeg" ContentType="image/jpeg"/>
  <Override PartName="/ppt/media/image14.png" ContentType="image/pn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3C4-DF01-4B94-8CEA-522DDB28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4ECD-2482-46CD-A7D2-735675E6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5F2A-EC3E-4D3F-AFD8-39D443CB53F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2800-9EBF-49B0-B397-229CFC6076B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0685-872F-45C5-871C-4845C49FBAC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A276-9156-4E50-8D2F-1060BB55A45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EE64-66BD-4FF0-9DAE-BD72FC260D8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7BA5-C3B1-4C31-A185-438805FB01F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9567-B1D9-440C-A122-349F896F951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5DFD-2EB9-4458-A4C1-05CB449DE00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5B8A-41E4-4B6B-ACF0-A3503F6C469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88CE80-01D4-4C4C-AC56-4DF3691A1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663-2578-46CC-A290-2E35CFA0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DAD300-FA6B-41BA-B277-FD1EAE80A5A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18C14C-C1B0-46A6-9C29-77502BE0717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C36BDC-4DCA-4A18-93FC-106CBB11385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5DABF2-7DCE-45F7-AFD6-1294D140D6A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1C969B-CCF3-4681-91DB-7CC288063B9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341761-98A7-45B6-BDB5-3D991BE98EB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BE48FE-3A58-4672-B7F1-E2E168A8F9E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0A2807-9C7E-4738-A528-17452CE7456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2C67D8-A7D5-4D53-B827-058091BDD88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A7A770-2778-41B0-A138-0EBC6AFE0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301-D11F-4F75-A82C-5CAE112C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EFB242-4795-4544-A517-1186F67A0CA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DF2A5-4011-4D2E-B926-96BEEA6355C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96B09C-A66E-4163-B0BE-58D992980D8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140B63-5D1B-4316-B206-D7EE05F76BF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506CB-0B87-4DD5-8302-92C5FB424D9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29E34-5509-44D5-9660-5BB85BF9CA7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A1126A-695F-4243-ACCD-E3625D5843B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910D20-92A4-4D5C-ABD1-B18AF708CB0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916ABB-40BD-43AA-BB1E-4D67CC21C93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98866-F1F4-4227-809E-961FCFCF0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7B1747-AA99-4155-B646-150F9A6B853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F861C-3755-4D92-BA63-27C50810A28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17B083-2FE5-47B9-9F89-71D8D82F7AB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39FA0-2E5F-47D9-B316-7F6AC2E8C14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8BA75-B39D-48CE-91C5-AF0740D2F52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9850F-F384-4FC8-8E12-5103C66E2CB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E1AAA-C586-4D86-B522-A3569EC66CC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8761A-330D-456C-B54F-A29C856728F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08BE4-B29D-42C5-98F7-CA2A701249B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5276C-14AF-452B-8698-F11D14564B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0B07E-94E4-4C7A-B099-C0924E43305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C3934-BA27-4093-8572-27DD8F4DBAC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0F8D0-28F8-4A5A-948B-ED925A1E11D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ADC5A-F565-404A-BD7F-7A906391DA3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4E448-78B5-4D2F-AED2-AC7A981469B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47BB56-05BE-4EA6-B16D-38B7F96E0AB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14F6D3-79F7-4C52-8741-9C7014D01BA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6BCE55-1982-48A4-AD9B-E09619576F9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957E22-5B66-4A30-8DFC-D79517E0A93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F5A502-D7BC-4634-9E94-92F9693CDA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885CF1-F05E-4D5A-8B63-D6E9E615EF6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34D9F8-F484-4356-A61D-B66E06CADF8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6907D9-9498-4940-8272-BB62059AF60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34026C-5F31-43B9-B3B6-7B633E0D16C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2FF6F8-8F49-4CE8-A573-B602F910AD5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AB1158-84C2-4289-B883-CACCF6D27EB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EC0C32-41D8-493C-9D9E-DE53D2966DB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D43B9B-57AE-4648-9F29-09E1C9AB5CD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692717-962B-4E1A-8D06-ED19869BF3F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41E697-9758-4D38-A2D7-D40B1EE73D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E454D8-BF81-4F60-8E9D-4BA9AAD5761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82ECD3-BA2B-47E1-B4D7-F9CFEA9C6B4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B1C364-C3E4-4269-AE8F-0F8B6AB861C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C07D65-1BB4-4FCC-9081-2A175E09419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376D30-41FD-48E2-AE70-1872F474473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A66B8F-C102-4108-BCBE-82A1C1149AD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653840-029D-43EC-9F1D-C8A8C528A48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FB3FC4-D89F-43FB-AE17-9242889EE01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0AD2A4-A2D8-4D64-851F-E2630C00902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F414A1-0D35-4AAC-BA36-FEB899C7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92BA3-1A28-406F-AD9C-2C8E54B4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6B402A-54EE-4A9D-BDF0-A230719E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ACD187-C331-43EA-AE5D-2A445332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FC4FD9-AEA2-41D2-8A9F-CD75CFF4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C46104-2A00-48A0-A6B5-0066D2D6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CCE6A2-8325-4ADE-BCEB-789FA798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17EBBE-1A0B-4E3E-B251-33F8DCB4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5E9CB-7F5B-42E0-8E41-6FDB5CF5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B23CE0-CB48-4D5A-B035-26CE8326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F8E4A8-5D3E-4107-A7EE-25DCA853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CC3808-5F3B-4F4E-B3A8-4950EC64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A49066-904E-4B9B-9392-E6AA942F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616947-2129-481C-AAF3-3EE56D88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70E06C-80CC-4952-BE5B-C83C3AC2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D5A904-2E3E-4A0B-AB11-363A086B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EF6B2C-77CB-47B6-A747-5E9EB043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A442BD-B0FD-4753-AA4D-2E062EFC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21F3BC-38D3-4566-9267-22C76A78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F91-ECBA-4ACA-9368-A0F08AF6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FF9517-88D6-4268-BDFD-ADA4B20E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D3652-14C4-44A5-BC9C-6FDC5D0B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23BE63-E2E6-4C15-814C-603EBE34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9C3D2A-6341-43EA-B088-49D24A14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47239A-63F7-49AD-8F5D-1A0B7402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517520-1086-4540-817C-9B6ED930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EDD93B-C662-425B-8C24-C679936C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8EBF46-29DC-4AD2-A254-03BC3AC2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9D7BA1-C6F9-4CC6-B6B7-BA739C63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24D04B-24B2-4807-9B8F-07C05206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C98C7D-2DD2-4A1B-AAC6-9ADF96FB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901ADB-7C46-4EF9-8B2E-DDA8DAAD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28E957-B0F8-480D-9CAF-742BACF2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03BCBD-F631-4991-BAB1-E84D1D68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D888BD-639D-4C1D-B0B7-D6DE5C91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4EF6E9-CED1-4F7D-9A1A-6D93519B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BFDCB6-9994-4A7D-8970-409512A1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F53D94-7E74-4E93-ABF8-3731396C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A9A1A0-526A-4A41-851C-0600B2F4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4CCF23-149D-42B6-907C-29014998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A420CE-A6F6-48A2-9B25-2D80A624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62DD79-FFC6-44AF-A533-B064C037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C8F4DA-9104-4D3E-8005-59FED081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CCC1C0-A6C5-4F1F-BE0A-493FDA38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95948C-96C7-4C5D-BD3D-6F55FEB6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276703-1CC8-40C3-AEB6-0F0B01FF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1EDB7D-1D9E-484F-9857-FFD294A8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645950-13FE-4302-8E72-5D39BC75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F4A66E-98EE-4587-9E5F-65716163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FA53-7FDE-4568-9F7A-337C3D34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85B-E71D-4D9C-9D9B-A8749204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BA4-92E2-446F-84A5-90D32A1F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92BD-C17B-47F9-B57E-D604802E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101-F4A2-48AB-B8DE-1EEE1C69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304D8-5AA5-4B24-BC48-FA1F1FE70A9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30156-6D61-4EC5-880B-4E9ED858EE0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7C9FE-6DF0-4E67-8B8F-0F4961E7D2F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8919E-CCD7-415A-85BD-67B1902D10C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3970C-3E0A-4551-9584-DF2C2AF168E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45582-4504-483C-90A0-3D8C550AF04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9CB72-EA5A-4E9B-B0A9-2224BB7BB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714-4501-4D7D-8ABA-A3728D49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5BB59-60C9-479B-A6C6-AE2414A1664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A8C06-D625-4211-B55C-031CDBD0B3A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D7A80-0744-4671-9D99-A9E22DC314C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69E7F-455F-418B-A9D2-839C48957D4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B0322-B8A1-4438-88D8-0B616763505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99D9A-4606-41AF-87E2-CF8A35C400A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69240-95CD-4626-B4F6-E6494D23F1D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24131-4412-4BD0-BA97-AE0623D8864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D5FB5-2637-4FA8-AD15-FFB7EA1C033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B6AA0-7FFB-45CC-9B66-9085E5305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C467-805A-43D0-A2BD-2ABA4333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31640" y="252360"/>
            <a:ext cx="8172720" cy="35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256E2-4166-4381-91A0-564FFAA2E4E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DFFC0-9EBD-4C54-93F2-8FDF7F64D98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72C44-812D-4B4B-A98B-CB0022A4CCB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FCB86-4729-43E1-A5F3-A52B8D0D0BE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31640" y="3964320"/>
            <a:ext cx="81727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E29B7-76C0-403E-81CE-4F7424280F4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19520" y="160020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3164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19520" y="3964320"/>
            <a:ext cx="3988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A2B5D-9A5A-4680-A4DC-0EF6C7C2BD7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195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58000" y="160020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3164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195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58000" y="3964320"/>
            <a:ext cx="2631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64309-CDEE-4576-9D57-5625A64EA09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607F-2211-484C-93F8-C60B4F7C59C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D7FC-A77F-4A69-9ABA-F54EE509A1E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5BCC-484E-475E-86F9-497BCED8F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69.xml"/><Relationship Id="rId17" Type="http://schemas.openxmlformats.org/officeDocument/2006/relationships/slideLayout" Target="../slideLayouts/slideLayout170.xml"/><Relationship Id="rId18" Type="http://schemas.openxmlformats.org/officeDocument/2006/relationships/slideLayout" Target="../slideLayouts/slideLayout171.xml"/><Relationship Id="rId19" Type="http://schemas.openxmlformats.org/officeDocument/2006/relationships/slideLayout" Target="../slideLayouts/slideLayout172.xml"/><Relationship Id="rId20" Type="http://schemas.openxmlformats.org/officeDocument/2006/relationships/slideLayout" Target="../slideLayouts/slideLayout173.xml"/><Relationship Id="rId21" Type="http://schemas.openxmlformats.org/officeDocument/2006/relationships/slideLayout" Target="../slideLayouts/slideLayout174.xml"/><Relationship Id="rId22" Type="http://schemas.openxmlformats.org/officeDocument/2006/relationships/slideLayout" Target="../slideLayouts/slideLayout175.xml"/><Relationship Id="rId23" Type="http://schemas.openxmlformats.org/officeDocument/2006/relationships/slideLayout" Target="../slideLayouts/slideLayout176.xml"/><Relationship Id="rId24" Type="http://schemas.openxmlformats.org/officeDocument/2006/relationships/slideLayout" Target="../slideLayouts/slideLayout177.xml"/><Relationship Id="rId25" Type="http://schemas.openxmlformats.org/officeDocument/2006/relationships/slideLayout" Target="../slideLayouts/slideLayout178.xml"/><Relationship Id="rId26" Type="http://schemas.openxmlformats.org/officeDocument/2006/relationships/slideLayout" Target="../slideLayouts/slideLayout179.xml"/><Relationship Id="rId2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047C-9489-4AE7-84DB-E01FD25D9247}" type="slidenum">
              <a:rPr b="0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Num" idx="7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010E-054B-472D-B80D-8A3637BBBC07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Num" idx="8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1D60-3704-4661-8B70-3DF0391B2ED4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9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A6BF-8105-42EA-A90F-07A44112F4B0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sldNum" idx="10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BAF9-B8E0-4B6A-B492-C43DB010E2CE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Num" idx="11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2B88-F0E1-476D-8459-AD3D9CA292C5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6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3081600" cy="7923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6372360" y="4824360"/>
            <a:ext cx="2255760" cy="1579680"/>
          </a:xfrm>
          <a:prstGeom prst="rect">
            <a:avLst/>
          </a:prstGeom>
          <a:ln w="0">
            <a:noFill/>
          </a:ln>
        </p:spPr>
      </p:pic>
      <p:pic>
        <p:nvPicPr>
          <p:cNvPr id="565" name="Flickr" descr=""/>
          <p:cNvPicPr/>
          <p:nvPr/>
        </p:nvPicPr>
        <p:blipFill>
          <a:blip r:embed="rId4"/>
          <a:stretch/>
        </p:blipFill>
        <p:spPr>
          <a:xfrm>
            <a:off x="6300720" y="6173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66" name="YouTube" descr=""/>
          <p:cNvPicPr/>
          <p:nvPr/>
        </p:nvPicPr>
        <p:blipFill>
          <a:blip r:embed="rId5"/>
          <a:stretch/>
        </p:blipFill>
        <p:spPr>
          <a:xfrm>
            <a:off x="6300720" y="5877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67" name="FaceBook" descr=""/>
          <p:cNvPicPr/>
          <p:nvPr/>
        </p:nvPicPr>
        <p:blipFill>
          <a:blip r:embed="rId6"/>
          <a:stretch/>
        </p:blipFill>
        <p:spPr>
          <a:xfrm>
            <a:off x="6300720" y="55483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68" name="Twitter" descr=""/>
          <p:cNvPicPr/>
          <p:nvPr/>
        </p:nvPicPr>
        <p:blipFill>
          <a:blip r:embed="rId7"/>
          <a:stretch/>
        </p:blipFill>
        <p:spPr>
          <a:xfrm>
            <a:off x="6300720" y="522936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69" name="Flickr" descr=""/>
          <p:cNvPicPr/>
          <p:nvPr/>
        </p:nvPicPr>
        <p:blipFill>
          <a:blip r:embed="rId8"/>
          <a:stretch/>
        </p:blipFill>
        <p:spPr>
          <a:xfrm>
            <a:off x="6300720" y="6173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0" name="YouTube" descr=""/>
          <p:cNvPicPr/>
          <p:nvPr/>
        </p:nvPicPr>
        <p:blipFill>
          <a:blip r:embed="rId9"/>
          <a:stretch/>
        </p:blipFill>
        <p:spPr>
          <a:xfrm>
            <a:off x="6300720" y="5877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1" name="FaceBook" descr=""/>
          <p:cNvPicPr/>
          <p:nvPr/>
        </p:nvPicPr>
        <p:blipFill>
          <a:blip r:embed="rId10"/>
          <a:stretch/>
        </p:blipFill>
        <p:spPr>
          <a:xfrm>
            <a:off x="6300720" y="55483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2" name="Twitter" descr=""/>
          <p:cNvPicPr/>
          <p:nvPr/>
        </p:nvPicPr>
        <p:blipFill>
          <a:blip r:embed="rId11"/>
          <a:stretch/>
        </p:blipFill>
        <p:spPr>
          <a:xfrm>
            <a:off x="6300720" y="522936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73" name="Flickr" descr=""/>
          <p:cNvPicPr/>
          <p:nvPr/>
        </p:nvPicPr>
        <p:blipFill>
          <a:blip r:embed="rId12"/>
          <a:stretch/>
        </p:blipFill>
        <p:spPr>
          <a:xfrm>
            <a:off x="6300720" y="6173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4" name="YouTube" descr=""/>
          <p:cNvPicPr/>
          <p:nvPr/>
        </p:nvPicPr>
        <p:blipFill>
          <a:blip r:embed="rId13"/>
          <a:stretch/>
        </p:blipFill>
        <p:spPr>
          <a:xfrm>
            <a:off x="6300720" y="587700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5" name="FaceBook" descr=""/>
          <p:cNvPicPr/>
          <p:nvPr/>
        </p:nvPicPr>
        <p:blipFill>
          <a:blip r:embed="rId14"/>
          <a:stretch/>
        </p:blipFill>
        <p:spPr>
          <a:xfrm>
            <a:off x="6300720" y="554832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576" name="Twitter" descr=""/>
          <p:cNvPicPr/>
          <p:nvPr/>
        </p:nvPicPr>
        <p:blipFill>
          <a:blip r:embed="rId15"/>
          <a:stretch/>
        </p:blipFill>
        <p:spPr>
          <a:xfrm>
            <a:off x="6300720" y="522936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6"/>
    <p:sldLayoutId id="2147483832" r:id="rId17"/>
    <p:sldLayoutId id="2147483833" r:id="rId18"/>
    <p:sldLayoutId id="2147483834" r:id="rId19"/>
    <p:sldLayoutId id="2147483835" r:id="rId20"/>
    <p:sldLayoutId id="2147483836" r:id="rId21"/>
    <p:sldLayoutId id="2147483837" r:id="rId22"/>
    <p:sldLayoutId id="2147483838" r:id="rId23"/>
    <p:sldLayoutId id="2147483839" r:id="rId24"/>
    <p:sldLayoutId id="2147483840" r:id="rId25"/>
    <p:sldLayoutId id="2147483841" r:id="rId26"/>
    <p:sldLayoutId id="2147483842" r:id="rId2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9C06-EEB0-40EE-A521-0D57BA58C2C0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F44C-8C11-4059-A6A9-B443226B4405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4CAF-A77A-4A4B-AD2C-2D5300669F5E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D0BB-A25D-4341-B1F1-E31D48934285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3081600" cy="792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3081600" cy="792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431640" y="431640"/>
            <a:ext cx="3081600" cy="7923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7"/>
          <p:cNvSpPr/>
          <p:nvPr/>
        </p:nvSpPr>
        <p:spPr>
          <a:xfrm>
            <a:off x="612720" y="2135160"/>
            <a:ext cx="39592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6500"/>
              </a:lnSpc>
              <a:tabLst>
                <a:tab algn="l" pos="0"/>
                <a:tab algn="l" pos="8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431640" y="4797360"/>
            <a:ext cx="3081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Arial"/>
                <a:ea typeface="MS PGothic"/>
              </a:rPr>
              <a:t>Trends and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3733920" cy="244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4"/>
          <a:stretch/>
        </p:blipFill>
        <p:spPr>
          <a:xfrm>
            <a:off x="468360" y="2133720"/>
            <a:ext cx="3733920" cy="2447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8028000" y="431640"/>
            <a:ext cx="679320" cy="846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8028000" y="431640"/>
            <a:ext cx="679320" cy="846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pic>
        <p:nvPicPr>
          <p:cNvPr id="241" name="Logo" descr=""/>
          <p:cNvPicPr/>
          <p:nvPr/>
        </p:nvPicPr>
        <p:blipFill>
          <a:blip r:embed="rId3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pic>
        <p:nvPicPr>
          <p:cNvPr id="242" name="Logo" descr=""/>
          <p:cNvPicPr/>
          <p:nvPr/>
        </p:nvPicPr>
        <p:blipFill>
          <a:blip r:embed="rId4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pic>
        <p:nvPicPr>
          <p:cNvPr id="243" name="Logo" descr=""/>
          <p:cNvPicPr/>
          <p:nvPr/>
        </p:nvPicPr>
        <p:blipFill>
          <a:blip r:embed="rId5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4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5D33-3776-48E3-BC77-26B8D75EFC1B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Num" idx="5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7A3F-E6BE-40D7-9FAB-CB68980A152E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6" descr=""/>
          <p:cNvPicPr/>
          <p:nvPr/>
        </p:nvPicPr>
        <p:blipFill>
          <a:blip r:embed="rId2"/>
          <a:stretch/>
        </p:blipFill>
        <p:spPr>
          <a:xfrm>
            <a:off x="216000" y="6280200"/>
            <a:ext cx="396720" cy="3888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8595b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034e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2" marL="179280" indent="-179280">
              <a:buClr>
                <a:srgbClr val="034ea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3" marL="358920" indent="-179640">
              <a:buClr>
                <a:srgbClr val="bfbf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4ea2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6"/>
          </p:nvPr>
        </p:nvSpPr>
        <p:spPr>
          <a:xfrm>
            <a:off x="8765640" y="6408720"/>
            <a:ext cx="44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33B2-970F-4E98-A48A-370F137CC2D4}" type="slidenum">
              <a:rPr b="1" lang="en-GB" sz="1200" spc="-1" strike="noStrike">
                <a:solidFill>
                  <a:srgbClr val="898989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9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31680" y="304560"/>
            <a:ext cx="873144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ременные подходы к лечению синдрома зависимости от алкоголя с делирием</a:t>
            </a: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кологическим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ением с палатой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нимации и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сивной терапии  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УЗ «ООКНД»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Г. Носова 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34ea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34ea2"/>
              </a:solidFill>
              <a:latin typeface="Arial"/>
            </a:endParaRPr>
          </a:p>
        </p:txBody>
      </p:sp>
      <p:pic>
        <p:nvPicPr>
          <p:cNvPr id="780" name="Picture 4" descr=""/>
          <p:cNvPicPr/>
          <p:nvPr/>
        </p:nvPicPr>
        <p:blipFill>
          <a:blip r:embed="rId1"/>
          <a:stretch/>
        </p:blipFill>
        <p:spPr>
          <a:xfrm>
            <a:off x="0" y="2286000"/>
            <a:ext cx="4800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Схемы назначения бензодиазепинов:</a:t>
            </a:r>
            <a:br>
              <a:rPr sz="3000"/>
            </a:b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ксированная;</a:t>
            </a:r>
            <a:endParaRPr b="1" lang="en-US" sz="32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атическая;</a:t>
            </a:r>
            <a:endParaRPr b="1" lang="en-US" sz="32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использованием «нагрузочной дозы»</a:t>
            </a:r>
            <a:endParaRPr b="1" lang="en-US" sz="32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помогательные (альтернативные) препараты</a:t>
            </a:r>
            <a:endParaRPr b="1" lang="en-US" sz="28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ные бутирофенона (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оперидол, дроперидо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(считаются самыми безопасными и эффективными антипсихотиками для терапии делирия)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оперидол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вводиться перорально, внутримышечно или внутривенно в дозе 1-2 мг каждые 2-4 часа по мере необходимости (0,25-0,5 мг каждые 4 часа по мере необходимости для пожилых пациентов), с титрованием до более высоких доз для пациентов, которые продолжают оставаться в состоянии психомоторного возбуждения, но не более 10 мг/сутки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ние!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31640" y="1218960"/>
            <a:ext cx="8172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 назначении галоперидола, дроперидола производить регистрацию ЭКГ с особым вниманием к длине интервала QT. Удлинение интервала QT диагностируют в том случае, если длительность QTc превышает 0,44 с.  Удлинение интервала QT до более чем 0,45 с. или более чем на 25% по сравнению с предыдущими ЭКГ может послужить основанием для консультации кардиолога, снижению дозы или прекращению приема препарата;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в этом случае целесообразно контролировать уровни содержания магния и калия в сыворотке крови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431640" y="685800"/>
            <a:ext cx="8172720" cy="54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овременных антиконвульсантов больше всего свидетельств, указывающих на эффективность при лечении синдрома отмены с делирием имеет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бапентин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уется также обязательное введение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иами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следует вводить перед введением глюкозы (обычная доза тиамина, необходимая для профилактики или терапии энцефалопатии Вернике у большинства пациентов, с алкогольным делирием составляет более 500 мг в сутки парентерально 2-4 раза в день)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фузионно - трансфузионная терапия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22860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алансированные растворы кристаллоидов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 гипернатриемии (причины: профузное потоотделение, диарея, рвота, тахипноэ, лихорадка) используют кристаллоиды с пониженным содержанием натрия (Нормофундин Г-5**, Дисоль** ,Трисоль** , Ацесоль**);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ля инфузионной терапии при изотонической дегидратации используется изотонический сбалансированный кристаллоид (Стерофундин изотонический);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 гипонатриемии препаратом выбора является раствор натрия хлорида 0,9%** и сбалансированные изотонические кристаллоиды.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уется контроль за состоянием водно-электролитного баланса !</a:t>
            </a:r>
            <a:endParaRPr b="1" lang="en-US" sz="22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Нейрометаболическая терапия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80880" y="1066320"/>
            <a:ext cx="8172720" cy="49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несколько групп препаратов : ноотропные, сосудистые, адаптогены, витамины, аминокислоты, антиоксиданты: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офлавин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мберин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сидол 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аксон 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ин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йропептиды  (кортексиин, церебролизин, актовегин)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илактика и терапия осложнений алкогольного делирия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456840" y="1295280"/>
            <a:ext cx="81723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	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а развития отека головного мозга включает: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ое, обоснованное применение инфузионной терапии (под контролем ЦВД, электролитного баланса, КЩС крови, диуреза);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одиуретики:;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ния сульфат;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ьба с метаболическим ацидозом;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е использования для инфузионной терапии растворов  5% глюкозы;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тикализация пациента</a:t>
            </a:r>
            <a:endParaRPr b="1" lang="en-US" sz="2700" spc="-1" strike="noStrike">
              <a:solidFill>
                <a:srgbClr val="034ea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илактика пневмонии</a:t>
            </a:r>
            <a:endParaRPr b="1" lang="en-US" sz="36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мощных антибиотиков    из группы карбапенемов:</a:t>
            </a: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енам</a:t>
            </a: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ипрекс</a:t>
            </a: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2" descr="http://vseostresse.ru/wp-content/uploads/2015/11/24-12-2013_11-16--800x400.jpg"/>
          <p:cNvPicPr/>
          <p:nvPr/>
        </p:nvPicPr>
        <p:blipFill>
          <a:blip r:embed="rId1"/>
          <a:stretch/>
        </p:blipFill>
        <p:spPr>
          <a:xfrm>
            <a:off x="838080" y="685800"/>
            <a:ext cx="7620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Picture 2" descr="https://ds04.infourok.ru/uploads/ex/0796/00018e35-b0e68943/img13.jpg"/>
          <p:cNvPicPr/>
          <p:nvPr/>
        </p:nvPicPr>
        <p:blipFill>
          <a:blip r:embed="rId1"/>
          <a:stretch/>
        </p:blipFill>
        <p:spPr>
          <a:xfrm>
            <a:off x="380880" y="533520"/>
            <a:ext cx="792504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Объект 4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3530520" cy="3124080"/>
          </a:xfrm>
          <a:prstGeom prst="rect">
            <a:avLst/>
          </a:prstGeom>
          <a:ln w="0">
            <a:noFill/>
          </a:ln>
        </p:spPr>
      </p:pic>
      <p:sp>
        <p:nvSpPr>
          <p:cNvPr id="782" name="Нижний колонтитул 3"/>
          <p:cNvSpPr/>
          <p:nvPr/>
        </p:nvSpPr>
        <p:spPr>
          <a:xfrm>
            <a:off x="380880" y="76320"/>
            <a:ext cx="5029200" cy="67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стинентное состояние</a:t>
            </a:r>
            <a:r>
              <a:rPr b="0" lang="ru-RU" sz="2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индром отмены) с делирием – кратковременное (преходящее), вызванное психоактивными веществами (преимущественно алкоголем и некоторыми другими), иногда опасное для жизни острое психотическое состояние, протекающее с расстройством сознания, галлюцинациями и сопутствующими соматическими расстройств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зникает обычн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ледствие полного или частичного прекращения приема алкоголя   у лиц с зависимостью от него, употребляющих алкоголь  в течение долг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914400" y="160020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ГОДАРЮ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 ВНИМАНИЕ!</a:t>
            </a:r>
            <a:endParaRPr b="1" lang="en-US" sz="44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Этиология и патогенез 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304560" y="1066680"/>
            <a:ext cx="8839080" cy="505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67480" indent="-26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алкоголя вызывает: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увеличение ингибирующей нейротрансмиссии;</a:t>
            </a:r>
            <a:endParaRPr b="1" lang="en-US" sz="22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ческие изменения в возбуждающей нейротрансмиссии;</a:t>
            </a:r>
            <a:endParaRPr b="1" lang="en-US" sz="22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можение связывания глицина с N-метил-D-аспартатными (NMDA) рецепторами головного мозга,  предотвращая действие основного возбуждающего нейротрансмиттераглутамата на NMDA-рецепторы, что приводит к постепенному повышению экспрессии NMDA-рецепторов и компенсаторному подавлению  рецепторов ГАМК;</a:t>
            </a:r>
            <a:endParaRPr b="1" lang="en-US" sz="22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компенсация и приводит к толерантности и результирующей потребности в более высоких уровнях содержания алкоголя в крови для достижения того же эффекта.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исутствие алкоголя является постоянным, равновесие в возбуждающих и тормозных действиях сохраняется </a:t>
            </a:r>
            <a:r>
              <a:rPr b="1" i="1" lang="ru-RU" sz="2200" spc="-1" strike="noStrike">
                <a:solidFill>
                  <a:srgbClr val="034ea2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Элиминация алкоголя из организма вызывает: 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31640" y="1294920"/>
            <a:ext cx="8172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в регуляции глутаматнейротрансмиссии и подавлению активности ГАМК, что ведет к возникновению синдрома отмены алкоголя, а в тяжелых случаях – алкогольного абстинентного синдрома с делирием;</a:t>
            </a:r>
            <a:endParaRPr b="1" lang="en-US" sz="26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уровня дофамина в ЦНС, что вызывает гипервозбуждение и галлюцинации;</a:t>
            </a:r>
            <a:endParaRPr b="1" lang="en-US" sz="26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цит тиамина из-за недостаточности питания, снижения абсорбции желудочно-кишечного тракта, снижение превращения тиамина в активную форму и уменьшения его депо в тканях печени</a:t>
            </a:r>
            <a:endParaRPr b="1" lang="en-US" sz="26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Нижний колонтитул 3"/>
          <p:cNvSpPr/>
          <p:nvPr/>
        </p:nvSpPr>
        <p:spPr>
          <a:xfrm>
            <a:off x="152280" y="304920"/>
            <a:ext cx="5867640" cy="64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MS PGothic"/>
              </a:rPr>
              <a:t>Многочисленные повторные эпизод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алкогольного абстинентного синдрома приводят к снижению порога судорожной готовности и развитию судорожных пароксизмов, являющихся частым предиктором алкогольного дели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MS PGothic"/>
              </a:rPr>
              <a:t>В ряде случае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возникновению алкогольного делирия предшествуют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провоцирующие фактор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травмы, особенно черепно-мозговые, хирургические операции, сопутствующая соматическая патология, инфекционные заболевания, интоксикации другими веществами и лек. препара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2" descr="Ð¿ÑÐ¸Ð·Ð½Ð°ÐºÐ¸ Ð°Ð±ÑÑÐ¸Ð½ÐµÐ½ÑÐ½Ð¾Ð³Ð¾ ÑÐ¸Ð½Ð´ÑÐ¾Ð¼Ð°"/>
          <p:cNvPicPr/>
          <p:nvPr/>
        </p:nvPicPr>
        <p:blipFill>
          <a:blip r:embed="rId1"/>
          <a:stretch/>
        </p:blipFill>
        <p:spPr>
          <a:xfrm>
            <a:off x="5715000" y="380880"/>
            <a:ext cx="3352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Нижний колонтитул 3"/>
          <p:cNvSpPr/>
          <p:nvPr/>
        </p:nvSpPr>
        <p:spPr>
          <a:xfrm>
            <a:off x="380880" y="304920"/>
            <a:ext cx="518184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MS PGothic"/>
              </a:rPr>
              <a:t>Классификация по МКБ -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1х.40 —Абстинентное состояние (синдром отмены) с делирием («классический делири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1х.41 —Абстинентное состояние (синдром отмены) с делирием с судорожными припадк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1х.42 —Абстинентное состояние (синдром отмены) с мусситирующим делирием («бормочущий» делири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1х.43 —Абстинентное состояние (синдром отмены) с «профессиональным» делир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1х.44 —Абстинентное состояние (синдром отмены) с делирием без галлюцинаций (люцидны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х.45—Абстинентное состояние (синдром отмены) с делирием абортивным F1х.48 —Абстинентное состояние (синдром отмены) с делирием другим F1х.49 —Абстинентное состояние (синдром отмены) с делирием неуточнен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http://ru.haejuclinic.com/wp-content/uploads/sites/2/2016/12/13.jpg"/>
          <p:cNvPicPr/>
          <p:nvPr/>
        </p:nvPicPr>
        <p:blipFill>
          <a:blip r:embed="rId1"/>
          <a:stretch/>
        </p:blipFill>
        <p:spPr>
          <a:xfrm>
            <a:off x="5562720" y="76320"/>
            <a:ext cx="3581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Нижний колонтитул 3"/>
          <p:cNvSpPr/>
          <p:nvPr/>
        </p:nvSpPr>
        <p:spPr>
          <a:xfrm>
            <a:off x="380880" y="76320"/>
            <a:ext cx="495324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Arial"/>
                <a:ea typeface="MS PGothic"/>
              </a:rPr>
              <a:t>Принципы терап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лечебно-охранный режи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мониторинг жизненно важных функц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круглосуточное наблюдени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рациональная фармакотерап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Лечение синдрома отмены с делирием  необходимо проводить в условиях стационара (в отделении интенсивной терапии или реанимации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В состоянии возбуждения или спутанного сознания целесообразно применение физической фикса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Объект 4" descr=""/>
          <p:cNvPicPr/>
          <p:nvPr/>
        </p:nvPicPr>
        <p:blipFill>
          <a:blip r:embed="rId1"/>
          <a:stretch/>
        </p:blipFill>
        <p:spPr>
          <a:xfrm>
            <a:off x="5468760" y="0"/>
            <a:ext cx="36576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31640" y="252000"/>
            <a:ext cx="8172720" cy="11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бходимость применения мер как медикаментозной, так и физической фиксации должна быть обоснована и отражена в медицинской документации  ПАЦИЕНТА</a:t>
            </a:r>
            <a:endParaRPr b="1" lang="en-US" sz="24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31640" y="1600200"/>
            <a:ext cx="81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комендовано:</a:t>
            </a:r>
            <a:r>
              <a:rPr b="1" lang="ru-RU" sz="2400" spc="-1" strike="noStrike">
                <a:solidFill>
                  <a:srgbClr val="034ea2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ной конец кровати приподнять и установить под углом 15-30%, для облегчения венозного оттока из полости черепа. Нарушение  венозного оттока может быть и следствием длительного пребывания больного на кровати без подушки при опущенном головном конце кровати. </a:t>
            </a:r>
            <a:endParaRPr b="1" lang="en-US" sz="2300" spc="-1" strike="noStrike">
              <a:solidFill>
                <a:srgbClr val="034ea2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ая смена положения больного, дыхательные упражнения, проведение перкуторного массажа грудной клетки (для профилактики гипостатической пневмонии;</a:t>
            </a:r>
            <a:endParaRPr b="1" lang="en-US" sz="2300" spc="-1" strike="noStrike">
              <a:solidFill>
                <a:srgbClr val="034ea2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тритивная поддержка.  Предпочтительным является естественное (оральное) сбалансированное питание или раннее (на 2-3 сутки лечения) начало энтерального питания </a:t>
            </a:r>
            <a:endParaRPr b="1" lang="en-US" sz="2300" spc="-1" strike="noStrike">
              <a:solidFill>
                <a:srgbClr val="034ea2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31640" y="252360"/>
            <a:ext cx="817272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Arial"/>
              </a:rPr>
              <a:t>Медикаментозная терапия</a:t>
            </a:r>
            <a:endParaRPr b="1" lang="en-US" sz="30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304560" y="11426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дативная терапия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34ea2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терапия препаратами бензодиазепинового ряда: диазепам, (феназепам) - вводят в/в или в/м 10-20 мг, при обязательном мониторинге состояния пациента до достижения адекватной седации;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должающемся психомоторном возбуждении в течение часа, введение бензодиазепина повторяется (до 40 мг/сут. в диазепамовом эквиваленте) пока пациент не станет спокойным в течение ≥1 часа</a:t>
            </a: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4ea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8-12-19T03:58:21Z</dcterms:modified>
  <cp:revision>2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