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0F9-30F7-457A-B834-E58D25B9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D9F-3C6F-4330-921E-A2B98B8B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62F6-7764-4F78-94E7-C5692120879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A809-FDB1-463A-BA3F-E201988185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B6E5-FBEF-4735-8F8F-8E366B7EFBC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6332-F390-4A6B-981B-7B513E4A2B9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C66D-3B72-4CF2-9758-E5494EC8EC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19F0-016A-42D8-9F70-D8D1DAD4D33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886C-F0A7-4566-92A7-A3E1A233AC1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1A4C-3C07-4F0B-98FB-66DA61608AE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F699-CF9F-415A-B54E-85B288AC4A2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DF666-4A02-4070-9E0B-3317B443E6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18EC-5C3A-4CB9-B29C-3AE94654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6EE85B-EE42-4CF7-9078-74D369B4B4E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6EA53-C8EA-4D0B-A607-96AE30C75DA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24965-907A-43EF-9BC0-880B6E1977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BC4832-0E21-4F06-81EB-B7A30707B90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74DDD-1B9B-4921-8417-E153FFA2612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5AE23-5E8A-4C0D-9CAD-FB8B401AA15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E96527-BFB6-4303-91CF-AA4EA56E7F1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495525-A2B4-464D-92B9-FF943093B9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8593AA-4058-4E02-B500-B420C94250A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3E1A5-7057-4C88-8A53-692081A84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353-0042-4094-85E2-31CD82B16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36C29-68B6-4DF7-990D-88100E60927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AE06C-B3D5-4A54-9254-03528213C1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B93FC-9EA0-4F55-BAB1-67F504109F6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47E3D-7681-45B3-91C9-626FF2331C6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B6A85E-23BE-465B-868E-C7B06F368C9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38DAA-30D2-4430-AFE8-AB3EB9A10B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CA9D9-2EB5-47D9-8A9B-822331820A7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3E1D3-3245-459D-8F7D-0B7F922D794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D4D81-3BEC-49AD-ADB4-2E550ED3C55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7C70B-80EC-42DC-9F00-27209758F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C73B8-1122-49F0-B04B-BB929258BAE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D7A59-48CF-44E8-9BF1-A0CAA0604C9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295D6C-57D9-4324-9AD1-3436637A25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0F0C-1A60-400A-AC7C-81C433B07E3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FE730-968A-4401-AAF1-C3E749CD6FC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D3551-90F8-4F91-A88C-FC4295DC60E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3C71D-3C7E-4894-A167-0DCDD69FA1C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AC783-C0F9-4531-803F-E37A61AA868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61CF-0786-45FF-B707-9BCB6904028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7F675-FA0F-4440-A048-C1FAE23A33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924E-B545-4746-A5B0-02BC625C9F0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722B-E59F-4FC6-84AC-D6B39A623A8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3F459-1B0B-4811-BC26-BF960B1BA67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79744-96BC-47FB-806A-EB7D182E776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E072-1E25-49E8-BB1A-44165DEDAFE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465A6-0CC9-47F2-A361-C6CE1CC84AA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EE2476-6E97-4D34-A7EE-1B547C66D6F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17615-39A7-495E-A3DD-C73CCA0EB3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14768-7133-4249-9EEA-9763B585135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656CFA-5013-4021-B47E-B5AB421DCB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2CBB9A-FFCB-4013-8384-6E8A73A406F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3FFBA-F7DE-4661-9D4F-073F2383575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2ABAF-B9E4-46DD-A47A-7051EB0D92F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1F50A4-4384-4B4F-9E1F-881CC21E826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9DB51-AE68-43E9-BD2A-21F32110003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56BA07-5798-40B8-BAAB-FDDFCA427AE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E63960-749F-4EEF-8BC6-76DCDDB0D73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42F518-2EE5-499C-83B4-6F69C923C13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726D36-7067-402A-9A44-14900E257C5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6257FB-707E-4CC9-9190-51FEA64FB5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CA02C-719E-4A76-A879-4609C7B4E0F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0ADC4-8212-4E96-B2C0-6967A126009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761C7C-BD95-49C2-9CED-2837D2AA747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3CB7A-F0E1-4894-9A8B-073555294EC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65D86-C338-4979-8264-0E1D5F81EEC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5EC61-AADD-434D-96FD-E6A6BB32EC8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E32424-270F-4F7C-946C-45A1AA72303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770B1C-0D9F-4AE7-BC77-4251A717E00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37F0C-9563-4142-B114-BBC71E8B849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ADD0D-AC01-4A5B-AD15-35D1A6B8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A7C04-7263-434D-A721-F7CBAB15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F9C0D-3B39-4EFC-9D58-4B7A0CBC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D31984-D453-49BF-94E8-B92FD12B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5E130-E20C-444F-99C4-24DB8949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58199-3003-417F-81DB-B6D52034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2FDC22-D076-452D-B257-4F7ADD5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0E43A-974A-4C3B-AC4F-27296FC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6C5AD-3F03-43C8-B6C3-B30DF880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34A0C-BDF9-4A8C-8383-584D551B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F1CF1-A97E-4F6E-99DC-9C3C3B60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926711-E318-4278-8B65-DD11590B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1F550-076E-4FEB-9372-E4DB814DD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C386A-13FF-4B4E-B228-98B7AD10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42785-36DF-4116-B2F3-14025462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C43A6-082C-486B-8CBF-1051A126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842B8F-DDFF-4F34-9407-5B77CC14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DADCD-D615-4F2C-8DDB-70C0988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D800E-BE01-4913-A10A-40ED30DC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FCC0-5FEF-415B-8E40-AA983EE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373E7E-B101-450A-A70E-B0C7A7DE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500FB-EC93-47A3-BA54-764DF9EF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D25604-F947-46D0-9CBA-E97EC503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3CAC4-B591-4873-AB26-8CCDACB5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0D91E-7585-4C15-ACCF-A36F39C8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B41B12-0264-4DBF-9151-6757A1B3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92EB2-3206-4D6E-9783-D1189926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E08B84-64F3-4065-9F2F-8F494BBE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FFBBA-4C16-480A-8060-C2EC5729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B9A6D-5DE1-4F16-88F5-3F1325EB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F051F6-9671-4133-865E-6CAC9960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31747E-9547-4742-85BC-4624D5CE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EEC14-1D9E-4694-8DD2-C90066E3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830C1-CF34-4FB6-8CB4-5EB51DCB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29228-4436-4976-9A77-101FF5A6E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5F8DD-670C-4625-A49B-64D60D2C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A96D0D-0B61-4A82-AE5E-1016B9F5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C1FF0-14DD-41A3-B882-7A39453A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B245B-ECB2-4934-A269-AB48C6C1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18AD30-AFE4-4E6B-A446-EDA1AFC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69F5B-63B6-4363-9E19-62F8D4A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1B05F-693A-4FDE-BDFA-2FD62B64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DF735D-AE60-4ACA-B1E3-54C0E32E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B1740F-8890-45BF-92E1-99DD5FC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5885A1-C837-4288-9304-D7393EA4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96B055-BE71-46B5-8FD8-B6FE8F1E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88D8A-3191-4C35-9FEB-85702A94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685DD2-DDD7-46E1-8EE6-D19B85316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31CC35-4F25-4D71-BD22-F1BA16C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9249-E87B-43F0-910A-1C86E386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74C-BCBB-4056-BB1E-D9317B4A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CF5-5A94-4CE9-8B2D-AF061A7B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06DC-3602-424A-B272-3285342C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B68-DEB0-4148-94F7-03737C55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77BEB-318D-47B6-A9DF-9C1CE79CE8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7D994-C3FB-4C82-9DFC-7AB67E0A83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7B845-CEDB-4B55-B890-F9BE1797D52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6B0F0-5972-4973-89E8-136599B46F3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9CA84-7F77-4A58-BC50-57300B8137D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36DCA4-0D4B-4686-B252-DBEBE3E1B7C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08D37-166A-4751-B329-A84733B2F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E89-25F8-4F2D-B30E-22397D5C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DDCEA-01E5-4204-B5D8-48553472FB8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E20D0-5664-4D27-9CCA-2FA885F22BA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B619A-E145-4E45-8856-168967FE4DD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9D365-AA97-483A-B6BC-BE0F1EC50B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11AE7-AAD0-495D-B14D-198DADC5FD6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79B6E-C808-4901-A579-C07292A78C0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E232F-26E5-483F-AA91-7EC4E551B14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ECB48-514D-430B-B3DB-B4AC1744A29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56E1E-0BEE-4B0D-B924-DD3EEAAE78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EA51E-EF38-40F7-B897-1BAB2F04E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F35-14AC-40EC-BB3E-6EFE96A5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D20D-E189-4C34-9F13-C3BCCC73B5F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56A3B-E794-464C-A75E-9FC4C58E2FC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90BE4-6CA7-4523-BBD6-58DB1AC3429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0E9E8-22D7-431A-9160-4EE331A09A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86B3C4-3230-48A2-8ED9-9FF9570EEE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BC9E0-F0F2-44E7-8115-890944F2F50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23770-F833-4B02-B1F3-843CE6B1A9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A11-E340-492E-9C90-12F9FA562AC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2FD7-2F2D-45C9-A9B9-D85FC1D42E8E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703A-0BBD-468E-9DD8-115DA38E9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69.xml"/><Relationship Id="rId17" Type="http://schemas.openxmlformats.org/officeDocument/2006/relationships/slideLayout" Target="../slideLayouts/slideLayout170.xml"/><Relationship Id="rId18" Type="http://schemas.openxmlformats.org/officeDocument/2006/relationships/slideLayout" Target="../slideLayouts/slideLayout171.xml"/><Relationship Id="rId19" Type="http://schemas.openxmlformats.org/officeDocument/2006/relationships/slideLayout" Target="../slideLayouts/slideLayout172.xml"/><Relationship Id="rId20" Type="http://schemas.openxmlformats.org/officeDocument/2006/relationships/slideLayout" Target="../slideLayouts/slideLayout173.xml"/><Relationship Id="rId21" Type="http://schemas.openxmlformats.org/officeDocument/2006/relationships/slideLayout" Target="../slideLayouts/slideLayout174.xml"/><Relationship Id="rId22" Type="http://schemas.openxmlformats.org/officeDocument/2006/relationships/slideLayout" Target="../slideLayouts/slideLayout175.xml"/><Relationship Id="rId23" Type="http://schemas.openxmlformats.org/officeDocument/2006/relationships/slideLayout" Target="../slideLayouts/slideLayout176.xml"/><Relationship Id="rId24" Type="http://schemas.openxmlformats.org/officeDocument/2006/relationships/slideLayout" Target="../slideLayouts/slideLayout177.xml"/><Relationship Id="rId25" Type="http://schemas.openxmlformats.org/officeDocument/2006/relationships/slideLayout" Target="../slideLayouts/slideLayout178.xml"/><Relationship Id="rId26" Type="http://schemas.openxmlformats.org/officeDocument/2006/relationships/slideLayout" Target="../slideLayouts/slideLayout179.xml"/><Relationship Id="rId2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252C-8ABA-4CDC-83BB-35472565C7AA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7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BD51-E16D-46BD-A2B2-6EDB383F60B8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8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07D9-6688-4DB9-91D9-BBA0C074A322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9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194E-29AE-4C9B-840B-2388AFA8E68F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0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2ED4-71B2-44C7-8C64-B17EF965B233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11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380-0F4F-4550-AE2D-4358D5456803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6372360" y="4824360"/>
            <a:ext cx="2255760" cy="1579680"/>
          </a:xfrm>
          <a:prstGeom prst="rect">
            <a:avLst/>
          </a:prstGeom>
          <a:ln w="0">
            <a:noFill/>
          </a:ln>
        </p:spPr>
      </p:pic>
      <p:pic>
        <p:nvPicPr>
          <p:cNvPr id="565" name="Flickr" descr=""/>
          <p:cNvPicPr/>
          <p:nvPr/>
        </p:nvPicPr>
        <p:blipFill>
          <a:blip r:embed="rId4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6" name="YouTube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7" name="FaceBook" descr=""/>
          <p:cNvPicPr/>
          <p:nvPr/>
        </p:nvPicPr>
        <p:blipFill>
          <a:blip r:embed="rId6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8" name="Twitter" descr=""/>
          <p:cNvPicPr/>
          <p:nvPr/>
        </p:nvPicPr>
        <p:blipFill>
          <a:blip r:embed="rId7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9" name="Flickr" descr=""/>
          <p:cNvPicPr/>
          <p:nvPr/>
        </p:nvPicPr>
        <p:blipFill>
          <a:blip r:embed="rId8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0" name="YouTube" descr=""/>
          <p:cNvPicPr/>
          <p:nvPr/>
        </p:nvPicPr>
        <p:blipFill>
          <a:blip r:embed="rId9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1" name="FaceBook" descr=""/>
          <p:cNvPicPr/>
          <p:nvPr/>
        </p:nvPicPr>
        <p:blipFill>
          <a:blip r:embed="rId10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2" name="Twitter" descr=""/>
          <p:cNvPicPr/>
          <p:nvPr/>
        </p:nvPicPr>
        <p:blipFill>
          <a:blip r:embed="rId11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73" name="Flickr" descr=""/>
          <p:cNvPicPr/>
          <p:nvPr/>
        </p:nvPicPr>
        <p:blipFill>
          <a:blip r:embed="rId12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4" name="YouTube" descr=""/>
          <p:cNvPicPr/>
          <p:nvPr/>
        </p:nvPicPr>
        <p:blipFill>
          <a:blip r:embed="rId13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5" name="FaceBook" descr=""/>
          <p:cNvPicPr/>
          <p:nvPr/>
        </p:nvPicPr>
        <p:blipFill>
          <a:blip r:embed="rId14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6" name="Twitter" descr=""/>
          <p:cNvPicPr/>
          <p:nvPr/>
        </p:nvPicPr>
        <p:blipFill>
          <a:blip r:embed="rId15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6"/>
    <p:sldLayoutId id="2147483832" r:id="rId17"/>
    <p:sldLayoutId id="2147483833" r:id="rId18"/>
    <p:sldLayoutId id="2147483834" r:id="rId19"/>
    <p:sldLayoutId id="2147483835" r:id="rId20"/>
    <p:sldLayoutId id="2147483836" r:id="rId21"/>
    <p:sldLayoutId id="2147483837" r:id="rId22"/>
    <p:sldLayoutId id="2147483838" r:id="rId23"/>
    <p:sldLayoutId id="2147483839" r:id="rId24"/>
    <p:sldLayoutId id="2147483840" r:id="rId25"/>
    <p:sldLayoutId id="2147483841" r:id="rId26"/>
    <p:sldLayoutId id="2147483842" r:id="rId2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811E-D4C1-4D66-8185-870E94BA1ADC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A207-196A-4546-9B9F-DE75D38564E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E7DD-4864-48C8-A435-E4EFD188AAB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1525-A878-4B33-9CFD-5AAE155EB12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612720" y="2135160"/>
            <a:ext cx="3959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65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31640" y="4797360"/>
            <a:ext cx="308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  <a:ea typeface="MS PGothic"/>
              </a:rPr>
              <a:t>Trends and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1" name="Logo" descr=""/>
          <p:cNvPicPr/>
          <p:nvPr/>
        </p:nvPicPr>
        <p:blipFill>
          <a:blip r:embed="rId3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2" name="Logo" descr=""/>
          <p:cNvPicPr/>
          <p:nvPr/>
        </p:nvPicPr>
        <p:blipFill>
          <a:blip r:embed="rId4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3" name="Logo" descr=""/>
          <p:cNvPicPr/>
          <p:nvPr/>
        </p:nvPicPr>
        <p:blipFill>
          <a:blip r:embed="rId5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E62D-B9E2-4516-92F9-A4F5B5297129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DFCA-96C7-4D69-9EDB-03A9A6681BDE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6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35E2-C15E-4C95-A7F6-77D12070FDF1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31680" y="304560"/>
            <a:ext cx="873144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е подходы к лечению синдрома зависимости от алкоголя с делирие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ческим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ем с палато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нимации 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й терапии 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УЗ «ООКНД»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Г. Носова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</p:txBody>
      </p:sp>
      <p:pic>
        <p:nvPicPr>
          <p:cNvPr id="780" name="Picture 4" descr=""/>
          <p:cNvPicPr/>
          <p:nvPr/>
        </p:nvPicPr>
        <p:blipFill>
          <a:blip r:embed="rId1"/>
          <a:stretch/>
        </p:blipFill>
        <p:spPr>
          <a:xfrm>
            <a:off x="0" y="2286000"/>
            <a:ext cx="480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Схемы назначения бензодиазепинов:</a:t>
            </a:r>
            <a:br>
              <a:rPr sz="3000"/>
            </a:b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ованн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ическ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«нагрузочной дозы»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огательные (альтернативные) препараты</a:t>
            </a:r>
            <a:endParaRPr b="1" lang="en-US" sz="2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бутирофенона (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, дроперидо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(считаются самыми безопасными и эффективными антипсихотиками для терапии делирия)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водиться перорально, внутримышечно или внутривенно в дозе 1-2 мг каждые 2-4 часа по мере необходимости (0,25-0,5 мг каждые 4 часа по мере необходимости для пожилых пациентов), с титрованием до более высоких доз для пациентов, которые продолжают оставаться в состоянии психомоторного возбуждения, но не более 10 мг/сутк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31640" y="1218960"/>
            <a:ext cx="8172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назначении галоперидола, дроперидола производить регистрацию ЭКГ с особым вниманием к длине интервала QT. Удлинение интервала QT диагностируют в том случае, если длительность QTc превышает 0,44 с.  Удлинение интервала QT до более чем 0,45 с. или более чем на 25% по сравнению с предыдущими ЭКГ может послужить основанием для консультации кардиолога, снижению дозы или прекращению приема препарата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 этом случае целесообразно контролировать уровни содержания магния и калия в сыворотке кров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431640" y="685800"/>
            <a:ext cx="817272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временных антиконвульсантов больше всего свидетельств, указывающих на эффективность при лечении синдрома отмены с делирием име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бапент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 также обязательное введе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ами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ует вводить перед введением глюкозы (обычная доза тиамина, необходимая для профилактики или терапии энцефалопатии Вернике у большинства пациентов, с алкогольным делирием составляет более 500 мг в сутки парентерально 2-4 раза в день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узионно - трансфузион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ые растворы кристаллоидов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гипернатриемии (причины: профузное потоотделение, диарея, рвота, тахипноэ, лихорадка) используют кристаллоиды с пониженным содержанием натрия (Нормофундин Г-5**, Дисоль** ,Трисоль** , Ацесоль**);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инфузионной терапии при изотонической дегидратации используется изотонический сбалансированный кристаллоид (Стерофундин изотонический);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гипонатриемии препаратом выбора является раствор натрия хлорида 0,9%** и сбалансированные изотонические кристаллоиды.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уется контроль за состоянием водно-электролитного баланса !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Нейрометаболическ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0880" y="1066320"/>
            <a:ext cx="81727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несколько групп препаратов : ноотропные, сосудистые, адаптогены, витамины, аминокислоты, антиоксиданты: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флав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мбер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сидол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аксон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пептиды  (кортексиин, церебролизин, актовегин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и терапия осложнений алкогольного делир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6840" y="1295280"/>
            <a:ext cx="81723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развития отека головного мозга включает: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, обоснованное применение инфузионной терапии (под контролем ЦВД, электролитного баланса, КЩС крови, диуреза)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диуретики: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я сульфат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с метаболическим ацидозом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использования для инфузионной терапии растворов  5% глюкозы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изация пациента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пневмонии</a:t>
            </a:r>
            <a:endParaRPr b="1" lang="en-US" sz="36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ощных антибиотиков    из группы карбапенемов: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на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ипрекс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http://vseostresse.ru/wp-content/uploads/2015/11/24-12-2013_11-16--800x400.jpg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2" descr="https://ds04.infourok.ru/uploads/ex/0796/00018e35-b0e68943/img13.jpg"/>
          <p:cNvPicPr/>
          <p:nvPr/>
        </p:nvPicPr>
        <p:blipFill>
          <a:blip r:embed="rId1"/>
          <a:stretch/>
        </p:blipFill>
        <p:spPr>
          <a:xfrm>
            <a:off x="380880" y="533520"/>
            <a:ext cx="792504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Объект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530520" cy="3124080"/>
          </a:xfrm>
          <a:prstGeom prst="rect">
            <a:avLst/>
          </a:prstGeom>
          <a:ln w="0">
            <a:noFill/>
          </a:ln>
        </p:spPr>
      </p:pic>
      <p:sp>
        <p:nvSpPr>
          <p:cNvPr id="782" name="Нижний колонтитул 3"/>
          <p:cNvSpPr/>
          <p:nvPr/>
        </p:nvSpPr>
        <p:spPr>
          <a:xfrm>
            <a:off x="380880" y="76320"/>
            <a:ext cx="50292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стинентное состояние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ндром отмены) с делирием – кратковременное (преходящее), вызванное психоактивными веществами (преимущественно алкоголем и некоторыми другими), иногда опасное для жизни острое психотическое состояние, протекающее с расстройством сознания, галлюцинациями и сопутствующими соматическими расстрой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никает обыч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полного или частичного прекращения приема алкоголя   у лиц с зависимостью от него, употребляющих алкоголь  в течение долг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914400" y="16002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Ю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ВНИМАНИЕ!</a:t>
            </a:r>
            <a:endParaRPr b="1" lang="en-US" sz="4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тиология и патогенез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4560" y="1066680"/>
            <a:ext cx="88390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алкоголя вызывает: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увеличение ингибиру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изменения в возбужда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жение связывания глицина с N-метил-D-аспартатными (NMDA) рецепторами головного мозга,  предотвращая действие основного возбуждающего нейротрансмиттераглутамата на NMDA-рецепторы, что приводит к постепенному повышению экспрессии NMDA-рецепторов и компенсаторному подавлению  рецепторов ГАМК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омпенсация и приводит к толерантности и результирующей потребности в более высоких уровнях содержания алкоголя в крови для достижения того же эффекта.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сутствие алкоголя является постоянным, равновесие в возбуждающих и тормозных действиях сохраняется </a:t>
            </a:r>
            <a:r>
              <a:rPr b="1" i="1" lang="ru-RU" sz="2200" spc="-1" strike="noStrike">
                <a:solidFill>
                  <a:srgbClr val="034ea2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лиминация алкоголя из организма вызывает: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31640" y="1294920"/>
            <a:ext cx="817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регуляции глутаматнейротрансмиссии и подавлению активности ГАМК, что ведет к возникновению синдрома отмены алкоголя, а в тяжелых случаях – алкогольного абстинентного синдрома с делирием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уровня дофамина в ЦНС, что вызывает гипервозбуждение и галлюцинации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тиамина из-за недостаточности питания, снижения абсорбции желудочно-кишечного тракта, снижение превращения тиамина в активную форму и уменьшения его депо в тканях печени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Нижний колонтитул 3"/>
          <p:cNvSpPr/>
          <p:nvPr/>
        </p:nvSpPr>
        <p:spPr>
          <a:xfrm>
            <a:off x="152280" y="304920"/>
            <a:ext cx="586764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Многочисленные повторные эпизо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алкогольного абстинентного синдрома приводят к снижению порога судорожной готовности и развитию судорожных пароксизмов, являющихся частым предиктором алкогольного дели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В ряде случае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озникновению алкогольного делирия предшеству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ровоцирующие факто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травмы, особенно черепно-мозговые, хирургические операции, сопутствующая соматическая патология, инфекционные заболевания, интоксикации другими веществами и лек. препар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Ð¿ÑÐ¸Ð·Ð½Ð°ÐºÐ¸ Ð°Ð±ÑÑÐ¸Ð½ÐµÐ½ÑÐ½Ð¾Ð³Ð¾ ÑÐ¸Ð½Ð´ÑÐ¾Ð¼Ð°"/>
          <p:cNvPicPr/>
          <p:nvPr/>
        </p:nvPicPr>
        <p:blipFill>
          <a:blip r:embed="rId1"/>
          <a:stretch/>
        </p:blipFill>
        <p:spPr>
          <a:xfrm>
            <a:off x="5715000" y="3808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Нижний колонтитул 3"/>
          <p:cNvSpPr/>
          <p:nvPr/>
        </p:nvSpPr>
        <p:spPr>
          <a:xfrm>
            <a:off x="380880" y="304920"/>
            <a:ext cx="5181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MS PGothic"/>
              </a:rPr>
              <a:t>Классификация по МКБ 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0 —Абстинентное состояние (синдром отмены) с делирием («классический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1 —Абстинентное состояние (синдром отмены) с делирием с судорожными припад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2 —Абстинентное состояние (синдром отмены) с мусситирующим делирием («бормочущий»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3 —Абстинентное состояние (синдром отмены) с «профессиональным» делир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4 —Абстинентное состояние (синдром отмены) с делирием без галлюцинаций (люцид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х.45—Абстинентное состояние (синдром отмены) с делирием абортивным F1х.48 —Абстинентное состояние (синдром отмены) с делирием другим F1х.49 —Абстинентное состояние (синдром отмены) с делирием неуточн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http://ru.haejuclinic.com/wp-content/uploads/sites/2/2016/12/13.jpg"/>
          <p:cNvPicPr/>
          <p:nvPr/>
        </p:nvPicPr>
        <p:blipFill>
          <a:blip r:embed="rId1"/>
          <a:stretch/>
        </p:blipFill>
        <p:spPr>
          <a:xfrm>
            <a:off x="5562720" y="763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Нижний колонтитул 3"/>
          <p:cNvSpPr/>
          <p:nvPr/>
        </p:nvSpPr>
        <p:spPr>
          <a:xfrm>
            <a:off x="380880" y="76320"/>
            <a:ext cx="49532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MS PGothic"/>
              </a:rPr>
              <a:t>Принципы терап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бно-охранны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мониторинг жизненно важных функц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руглосуточное наблюд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рациональная фармак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ние синдрома отмены с делирием  необходимо проводить в условиях стационара (в отделении интенсивной терапии или реанимации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 состоянии возбуждения или спутанного сознания целесообразно применение физической фикс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Объект 4" descr=""/>
          <p:cNvPicPr/>
          <p:nvPr/>
        </p:nvPicPr>
        <p:blipFill>
          <a:blip r:embed="rId1"/>
          <a:stretch/>
        </p:blipFill>
        <p:spPr>
          <a:xfrm>
            <a:off x="5468760" y="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1640" y="252000"/>
            <a:ext cx="817272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применения мер как медикаментозной, так и физической фиксации должна быть обоснована и отражена в медицинской документации  ПАЦИЕНТА</a:t>
            </a:r>
            <a:endParaRPr b="1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овано:</a:t>
            </a:r>
            <a:r>
              <a:rPr b="1" lang="ru-RU" sz="24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конец кровати приподнять и установить под углом 15-30%, для облегчения венозного оттока из полости черепа. Нарушение  венозного оттока может быть и следствием длительного пребывания больного на кровати без подушки при опущенном головном конце кровати.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смена положения больного, дыхательные упражнения, проведение перкуторного массажа грудной клетки (для профилактики гипостатической пневмонии;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ая поддержка.  Предпочтительным является естественное (оральное) сбалансированное питание или раннее (на 2-3 сутки лечения) начало энтерального питания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Медикаментоз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04560" y="11426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дативная терапия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терапия препаратами бензодиазепинового ряда: диазепам, (феназепам) - вводят в/в или в/м 10-20 мг, при обязательном мониторинге состояния пациента до достижения адекватной седации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должающемся психомоторном возбуждении в течение часа, введение бензодиазепина повторяется (до 40 мг/сут. в диазепамовом эквиваленте) пока пациент не станет спокойным в течение ≥1 часа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19T03:58:21Z</dcterms:modified>
  <cp:revision>2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