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747-4054-43A0-85DF-F3F3CFD8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745-612C-4E2B-9E02-E5035923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9B43-792D-4720-8DE9-02BB52E767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D24-27BA-4ADF-BBBC-3ED574295A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9F2F-291C-428D-8F34-B8C2CDD01A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7F0-2184-4F2D-8209-F652BD08D8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7F02-2771-4417-BDA1-45EDC464F2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37D-F305-46EB-BA02-56148BBA9E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FB3B-C880-4D2A-B663-CE7A93DC69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E28D-E94C-465A-B6CC-B04E5643D7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5C96-8AB2-42AF-80C5-392FD829F1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CA07-582B-4EE4-9472-653483F7F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5DE-1F0D-4A8B-AB09-1E791BDE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C6DFE-26F7-4675-9162-481D25A465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7507C-E798-4203-BB25-FED83D1602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EEA7A-3D30-48BF-8A95-827BEFE6824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A1144-3FD3-4A90-A599-04C911ABFF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B515B-2958-4CA2-AE57-8C3AD08812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0C283-65BD-4C9A-8BE7-C874E18AC3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987FA-5F56-4D95-85AC-B6A3407A7A4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551E4-2195-4F9E-9BFF-0D5A36250AD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05EF5-E7F6-4F3D-8629-48D8F9AED0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7DA32-9247-4C57-82B7-C8885E7FE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020-D8E3-406E-A132-CE7FA1DC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7EF24E-2395-4FFA-9379-7CE991E3BF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6B965-8379-440E-A474-3288FEDF88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66C20-AB7B-4631-A708-CFACBDF216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59DC0-E587-4AAC-9603-FD5B15A3E8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73341-85DB-4DB9-9C02-7FA2B04545D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EAEBF-A1D0-4AC6-9BEE-795EE9BA7A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59A26-3AAA-4955-8FA4-D22865FC30E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BE12E-D24F-47F6-8821-9384F45B3CD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89A16-BD70-4529-A45A-34B21AB2E2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88F9E-3F25-4E8F-BBC1-D16C60FC5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0FBC1-6AF0-4396-9164-CF8C084DB91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84EB2-65B1-4B92-B6FE-49F76C9EDF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DD4C7-4D8C-4758-899E-F61782D52D4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D8BC-C838-4973-9C40-91D07978D4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C266-7223-4583-A6C2-92DA28F61E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FB6A-8735-4B5C-B200-52DCE6D8B9D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C500-03ED-458C-939E-A4106E1192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C9A9-9ABB-4A49-92A5-6BA576F16FD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86B2-04AF-4E3A-855E-A648CF4C0E2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7CDB7-56E7-41C4-A1FF-F1F393848C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10B4-1E4D-43C2-B19F-23728C4712C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41E4-A6F5-4238-809C-F5CD12BF2A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A0D6-DBF2-4B74-8774-4CF090C94CC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20B2-BA78-402E-AE22-8E5C7A1EF1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CBB7E-ECD3-4E99-897A-7137DD2E0D3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06156-0187-4EFE-BEA3-42DBB1E4C17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1B16E-5741-4AD8-9206-FC63A6D116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BC0C0-DDB9-4C87-8244-609DCB5D37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EE25D-1901-4BBB-81A5-07474238DE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47DED-358C-427D-BCDE-CC2ECDB0B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98FDD-94AC-48EC-8982-FFF89B6801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2AF13-96A0-4A41-B374-A00766C6DFB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241B6-222A-4207-A445-AA0DC9DE48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AFCC7-C184-4E3A-BD6D-F912093F49F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44549-C819-4B75-8298-879DEF2060E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24ED0C-F1D6-46E1-9FB8-D1B17B9F68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BB63E-6C85-4A80-BBE5-04174C16866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8DFE0D-D2DB-49E6-815F-853E0FE659E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57AAD-C4D6-47AA-AD7E-3A44C338C06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A2BDA-7AC1-4E5E-AF13-69DEE3194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D9C7A-98B4-4780-B9A1-30ABC0E2BA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7F3AB-2553-40ED-9BE7-CDE2B3AD84B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6D879-ECEF-4BA4-A350-A0026B0CCA3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A8623-779C-4D08-8D5A-3B4707610E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0A95A-219D-4A8F-9BDB-8D375FC712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9B7F2-01B9-4D05-98DE-22F55E872E8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D57CB-6F1E-4278-B84E-8A97C2EE3D2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1B617-978B-42C9-AC4C-3C7E2B07BED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D764D-0F67-40AF-85D6-C80500DA75E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97640-A9F8-42F0-ADE7-69A27871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8B35E-7A92-4B6B-B4AF-D7EBFB7C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E56E5-3836-49CF-BE98-1FA21BEF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DA8AB-7160-4B56-BED8-1A7DB47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4A8EA-AA9B-4F64-9EE9-439DE433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61E77-296C-4FF3-8B7C-F947798A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F8254-68DE-49E9-9907-99A9A80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08D26-47EF-47FF-85F2-1EF251D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2BD6C-46D5-469C-9C29-06C9A88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7CBF4-592A-4259-91C8-19AEDCA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6B9C4-1227-417D-A748-9C2C67E7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D3C88-89EF-45D4-8C0E-2274DACF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BD401-4CE6-4CA5-A5F9-6B8F8EC1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0C02D-A038-4382-8699-4B8D445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4A0111-1037-4B0D-A8E4-3A3E63C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0FB1B-DAA7-4682-B94D-92CB24D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A0C5F-435F-4E97-93E7-B162E505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89E89-052F-4AC6-B472-D4FDBA3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6A170-486A-474F-BDD3-4851F18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137-85F5-4317-B8E7-8BD117F6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AEEDC1-5258-4D55-9AAE-C0D745C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A9DAD-FEF8-45CD-B6D8-C91E8CE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D7843-37C8-4650-95C2-8606C17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45587-73BE-42AA-B231-506EFB55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F1B85-CA92-4020-85D3-34C7B7C8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E0A83-E3FB-473B-9796-F383D2DA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3CB6B-8783-41AC-8A57-766BC33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2537F-14BA-4961-9F65-C0E1CB96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02CEC-B2C2-42C2-8836-7D00D05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0A045-E1E4-4C9D-98D9-B7F7AC3A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D41F7-9AA7-40D9-BC1D-EDABC1B7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C3B70-2503-4679-A14F-D07EB721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52F9B-9DB5-48B2-8212-2110CC3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5CCF7-4E6B-48C4-99AB-082156A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E197C-FDBC-47CA-B730-27B6474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5CEAD-39EF-41C9-8410-04FF8082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C69E2-AB49-4C90-9AA4-4D415D1C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A289A-A758-4307-8426-FC0EB13A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ED31E-9378-4F37-BB9B-CE1A754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63D22-57B9-48E5-9B30-CDB8029F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2D2436-CC13-4993-98BF-AAD481CD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01EBD-9CA9-4730-8B95-A9FAF88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B19353-3347-4A2D-9590-57A705B4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B74CE3-171B-4E27-9B0F-D5F16D7C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19ABC-BFC5-4F78-8991-FCB6130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9C2F6-9EF4-4D7D-917D-7A36E02A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5DFF97-A975-4313-AE40-5E81D27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E78704-1A81-4F94-A1A6-EEC6969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C2862A-B96C-4DE9-B4BC-28C5FCAB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74E-9543-43E5-BFA2-1CC6B2B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4ED-C644-4C34-B06C-C1812FA5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10D-048D-49BA-8B4E-E0C3248A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ABC-22B4-4B55-9FA3-FD4EC8B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C83-B8E9-4D03-83B7-777EAC37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97045-DF83-4A42-AB40-0B1D90DA7B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06DB-53EC-484B-9AA3-24CB60FCFE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F018-7A6E-4FFB-ADE2-433BCFC70D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2F54B-3811-481F-BCE9-BAEE9FE645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11838-962C-4763-AFCC-9F6C3B3DFF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2884E-3D8A-419E-A6BE-8A2E69FE3E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DF9B1-5AF1-4FDF-99A0-F20C6F19C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8A9-F111-4DDC-968E-E1FFEEF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23F41-8616-4F5A-B985-AAF34637C3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999E8-8706-4F6D-9246-B29B388C33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2D7FB-6E98-4B3A-BE6D-5AD5D0AEEF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CC521-2FED-4EA2-95F2-ACE202B036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A78A-F6D9-475C-8BF2-5F02A4C9E3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2863-C6AD-4F9C-B3FC-DC9149E000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6A37A-CB53-4D13-BCCC-F050C206A2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1E3EF-78D6-48C8-BF90-917F18D7B88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B5C5B-0951-4AF6-B9E1-ED327399AC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C68BC-C1B0-4124-B16F-BEB659259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8940-9997-4415-BB9B-95FD336E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87E11-CE11-4A01-85AB-6314FA2325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13B05-2A17-43E2-8FF0-30E2D250E58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69077-7844-48A9-8924-A8CA0EFCE92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FF8A7-3595-4483-82D2-21EDACA6B3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95CE4-6659-4D04-8896-FB4C78F1F4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99D4B-09FB-4440-B0C1-C4F4589120B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81246-93A0-4276-A1EB-A335D85125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29B-9B15-4EAA-B9F4-83A4775AB1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C91D-6FC3-4965-9F23-DA2522DD54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FC4-9F6C-419A-BB9F-E4C3250DB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69.xml"/><Relationship Id="rId17" Type="http://schemas.openxmlformats.org/officeDocument/2006/relationships/slideLayout" Target="../slideLayouts/slideLayout170.xml"/><Relationship Id="rId18" Type="http://schemas.openxmlformats.org/officeDocument/2006/relationships/slideLayout" Target="../slideLayouts/slideLayout171.xml"/><Relationship Id="rId19" Type="http://schemas.openxmlformats.org/officeDocument/2006/relationships/slideLayout" Target="../slideLayouts/slideLayout172.xml"/><Relationship Id="rId20" Type="http://schemas.openxmlformats.org/officeDocument/2006/relationships/slideLayout" Target="../slideLayouts/slideLayout173.xml"/><Relationship Id="rId21" Type="http://schemas.openxmlformats.org/officeDocument/2006/relationships/slideLayout" Target="../slideLayouts/slideLayout174.xml"/><Relationship Id="rId22" Type="http://schemas.openxmlformats.org/officeDocument/2006/relationships/slideLayout" Target="../slideLayouts/slideLayout175.xml"/><Relationship Id="rId23" Type="http://schemas.openxmlformats.org/officeDocument/2006/relationships/slideLayout" Target="../slideLayouts/slideLayout176.xml"/><Relationship Id="rId24" Type="http://schemas.openxmlformats.org/officeDocument/2006/relationships/slideLayout" Target="../slideLayouts/slideLayout177.xml"/><Relationship Id="rId25" Type="http://schemas.openxmlformats.org/officeDocument/2006/relationships/slideLayout" Target="../slideLayouts/slideLayout178.xml"/><Relationship Id="rId26" Type="http://schemas.openxmlformats.org/officeDocument/2006/relationships/slideLayout" Target="../slideLayouts/slideLayout179.xml"/><Relationship Id="rId2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C68D-60FB-44C8-8A5E-6D3B058DEAA9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7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0E7-6BD1-466E-88E1-62C7E5343E6F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8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323-E3BD-40DD-9BB4-C42CE8B90F3F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9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6487-1FED-47EA-A821-B5D45A1CD74F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0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1EA7-D842-4D93-8CDA-5D9CF8BA28C7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8FC-9E76-4C47-BF98-4ED42E7049E8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6372360" y="4824360"/>
            <a:ext cx="2255760" cy="1579680"/>
          </a:xfrm>
          <a:prstGeom prst="rect">
            <a:avLst/>
          </a:prstGeom>
          <a:ln w="0">
            <a:noFill/>
          </a:ln>
        </p:spPr>
      </p:pic>
      <p:pic>
        <p:nvPicPr>
          <p:cNvPr id="565" name="Flickr" descr=""/>
          <p:cNvPicPr/>
          <p:nvPr/>
        </p:nvPicPr>
        <p:blipFill>
          <a:blip r:embed="rId4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YouTube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7" name="FaceBook" descr=""/>
          <p:cNvPicPr/>
          <p:nvPr/>
        </p:nvPicPr>
        <p:blipFill>
          <a:blip r:embed="rId6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8" name="Twitter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9" name="Flickr" descr=""/>
          <p:cNvPicPr/>
          <p:nvPr/>
        </p:nvPicPr>
        <p:blipFill>
          <a:blip r:embed="rId8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0" name="YouTube" descr=""/>
          <p:cNvPicPr/>
          <p:nvPr/>
        </p:nvPicPr>
        <p:blipFill>
          <a:blip r:embed="rId9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1" name="FaceBook" descr=""/>
          <p:cNvPicPr/>
          <p:nvPr/>
        </p:nvPicPr>
        <p:blipFill>
          <a:blip r:embed="rId10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2" name="Twitter" descr=""/>
          <p:cNvPicPr/>
          <p:nvPr/>
        </p:nvPicPr>
        <p:blipFill>
          <a:blip r:embed="rId11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73" name="Flickr" descr=""/>
          <p:cNvPicPr/>
          <p:nvPr/>
        </p:nvPicPr>
        <p:blipFill>
          <a:blip r:embed="rId12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4" name="YouTube" descr=""/>
          <p:cNvPicPr/>
          <p:nvPr/>
        </p:nvPicPr>
        <p:blipFill>
          <a:blip r:embed="rId13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5" name="FaceBook" descr=""/>
          <p:cNvPicPr/>
          <p:nvPr/>
        </p:nvPicPr>
        <p:blipFill>
          <a:blip r:embed="rId14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6" name="Twitter" descr=""/>
          <p:cNvPicPr/>
          <p:nvPr/>
        </p:nvPicPr>
        <p:blipFill>
          <a:blip r:embed="rId15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6"/>
    <p:sldLayoutId id="2147483832" r:id="rId17"/>
    <p:sldLayoutId id="2147483833" r:id="rId18"/>
    <p:sldLayoutId id="2147483834" r:id="rId19"/>
    <p:sldLayoutId id="2147483835" r:id="rId20"/>
    <p:sldLayoutId id="2147483836" r:id="rId21"/>
    <p:sldLayoutId id="2147483837" r:id="rId22"/>
    <p:sldLayoutId id="2147483838" r:id="rId23"/>
    <p:sldLayoutId id="2147483839" r:id="rId24"/>
    <p:sldLayoutId id="2147483840" r:id="rId25"/>
    <p:sldLayoutId id="2147483841" r:id="rId26"/>
    <p:sldLayoutId id="2147483842" r:id="rId2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086-4792-4745-BE6D-CB292A7B119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849-994D-419B-9D68-4437064DCE6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8808-628C-4A06-8E2F-1A7FCBCD6D3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E14E-5EF8-4E5F-9FBD-F37B47BFF82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612720" y="2135160"/>
            <a:ext cx="3959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65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31640" y="4797360"/>
            <a:ext cx="308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  <a:ea typeface="MS PGothic"/>
              </a:rPr>
              <a:t>Trends and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3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Logo" descr=""/>
          <p:cNvPicPr/>
          <p:nvPr/>
        </p:nvPicPr>
        <p:blipFill>
          <a:blip r:embed="rId4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3" name="Logo" descr=""/>
          <p:cNvPicPr/>
          <p:nvPr/>
        </p:nvPicPr>
        <p:blipFill>
          <a:blip r:embed="rId5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013-1241-411C-A56D-87F3BCDDB6F6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EDFC-3380-4E56-A2D2-6784B6E5CED8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E2B-AF3B-4701-B7CE-5375DCC5DDCA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1680" y="304560"/>
            <a:ext cx="87314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подходы к лечению синдрома зависимости от алкоголя с делирие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ческим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ем с палато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нимации 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й терапии 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З «ООКНД»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Г. Носова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</p:txBody>
      </p:sp>
      <p:pic>
        <p:nvPicPr>
          <p:cNvPr id="780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Схемы назначения бензодиазепинов:</a:t>
            </a:r>
            <a:br>
              <a:rPr sz="3000"/>
            </a:b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нн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ическ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«нагрузочной дозы»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огательные (альтернативные) препараты</a:t>
            </a:r>
            <a:endParaRPr b="1" lang="en-US" sz="2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бутирофенона (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, дроперид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(считаются самыми безопасными и эффективными антипсихотиками для терапии делирия)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водиться перорально, внутримышечно или внутривенно в дозе 1-2 мг каждые 2-4 часа по мере необходимости (0,25-0,5 мг каждые 4 часа по мере необходимости для пожилых пациентов), с титрованием до более высоких доз для пациентов, которые продолжают оставаться в состоянии психомоторного возбуждения, но не более 10 мг/сутк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31640" y="1218960"/>
            <a:ext cx="8172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назначении галоперидола, дроперидола производить регистрацию ЭКГ с особым вниманием к длине интервала QT. Удлинение интервала QT диагностируют в том случае, если длительность QTc превышает 0,44 с.  Удлинение интервала QT до более чем 0,45 с. или более чем на 25% по сравнению с предыдущими ЭКГ может послужить основанием для консультации кардиолога, снижению дозы или прекращению приема препарата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этом случае целесообразно контролировать уровни содержания магния и калия в сыворотке кров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431640" y="685800"/>
            <a:ext cx="817272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ременных антиконвульсантов больше всего свидетельств, указывающих на эффективность при лечении синдрома отмены с делирием име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бапент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 также обязательное введе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ам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ует вводить перед введением глюкозы (обычная доза тиамина, необходимая для профилактики или терапии энцефалопатии Вернике у большинства пациентов, с алкогольным делирием составляет более 500 мг в сутки парентерально 2-4 раза в день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узионно - трансфузион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ые растворы кристаллоидов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ипернатриемии (причины: профузное потоотделение, диарея, рвота, тахипноэ, лихорадка) используют кристаллоиды с пониженным содержанием натрия (Нормофундин Г-5**, Дисоль** ,Трисоль** , Ацесоль**);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инфузионной терапии при изотонической дегидратации используется изотонический сбалансированный кристаллоид (Стерофундин изотонический);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гипонатриемии препаратом выбора является раствор натрия хлорида 0,9%** и сбалансированные изотонические кристаллоиды.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тся контроль за состоянием водно-электролитного баланса !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Нейрометаболическ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1066320"/>
            <a:ext cx="81727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есколько групп препаратов : ноотропные, сосудистые, адаптогены, витамины, аминокислоты, антиоксиданты: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флав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мбер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дол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аксон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пептиды  (кортексиин, церебролизин, актовегин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и терапия осложнений алкогольного делир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6840" y="1295280"/>
            <a:ext cx="81723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развития отека головного мозга включает: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, обоснованное применение инфузионной терапии (под контролем ЦВД, электролитного баланса, КЩС крови, диуреза)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диуретики: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я сульфат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метаболическим ацидозом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использования для инфузионной терапии растворов  5% глюкозы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изация пациента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пневмонии</a:t>
            </a:r>
            <a:endParaRPr b="1" lang="en-US" sz="36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ощных антибиотиков    из группы карбапенемов: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на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ипрекс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http://vseostresse.ru/wp-content/uploads/2015/11/24-12-2013_11-16--800x400.jpg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2" descr="https://ds04.infourok.ru/uploads/ex/0796/00018e35-b0e68943/img13.jpg"/>
          <p:cNvPicPr/>
          <p:nvPr/>
        </p:nvPicPr>
        <p:blipFill>
          <a:blip r:embed="rId1"/>
          <a:stretch/>
        </p:blipFill>
        <p:spPr>
          <a:xfrm>
            <a:off x="380880" y="533520"/>
            <a:ext cx="792504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530520" cy="312408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380880" y="76320"/>
            <a:ext cx="50292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стинентное состояни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ндром отмены) с делирием – кратковременное (преходящее), вызванное психоактивными веществами (преимущественно алкоголем и некоторыми другими), иногда опасное для жизни острое психотическое состояние, протекающее с расстройством сознания, галлюцинациями и сопутствующими соматическими расстрой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никает обыч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полного или частичного прекращения приема алкоголя   у лиц с зависимостью от него, употребляющих алкоголь  в течение долг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9144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1" lang="en-US" sz="4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тиология и патогенез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456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лкоголя вызывает: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увеличение ингибиру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зменения в возбужда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жение связывания глицина с N-метил-D-аспартатными (NMDA) рецепторами головного мозга,  предотвращая действие основного возбуждающего нейротрансмиттераглутамата на NMDA-рецепторы, что приводит к постепенному повышению экспрессии NMDA-рецепторов и компенсаторному подавлению  рецепторов ГАМК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пенсация и приводит к толерантности и результирующей потребности в более высоких уровнях содержания алкоголя в крови для достижения того же эффекта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сутствие алкоголя является постоянным, равновесие в возбуждающих и тормозных действиях сохраняется </a:t>
            </a:r>
            <a:r>
              <a:rPr b="1" i="1" lang="ru-RU" sz="2200" spc="-1" strike="noStrike">
                <a:solidFill>
                  <a:srgbClr val="034ea2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лиминация алкоголя из организма вызывает: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31640" y="1294920"/>
            <a:ext cx="817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регуляции глутаматнейротрансмиссии и подавлению активности ГАМК, что ведет к возникновению синдрома отмены алкоголя, а в тяжелых случаях – алкогольного абстинентного синдрома с делирием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уровня дофамина в ЦНС, что вызывает гипервозбуждение и галлюцинации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тиамина из-за недостаточности питания, снижения абсорбции желудочно-кишечного тракта, снижение превращения тиамина в активную форму и уменьшения его депо в тканях печени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ижний колонтитул 3"/>
          <p:cNvSpPr/>
          <p:nvPr/>
        </p:nvSpPr>
        <p:spPr>
          <a:xfrm>
            <a:off x="152280" y="304920"/>
            <a:ext cx="586764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Многочисленные повторные эпиз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лкогольного абстинентного синдрома приводят к снижению порога судорожной готовности и развитию судорожных пароксизмов, являющихся частым предиктором алкогольного дели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В ряде случае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озникновению алкогольного делирия предшеств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ровоцирующие факт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травмы, особенно черепно-мозговые, хирургические операции, сопутствующая соматическая патология, инфекционные заболевания, интоксикации другими веществами и лек. препа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Ð¿ÑÐ¸Ð·Ð½Ð°ÐºÐ¸ Ð°Ð±ÑÑÐ¸Ð½ÐµÐ½ÑÐ½Ð¾Ð³Ð¾ ÑÐ¸Ð½Ð´ÑÐ¾Ð¼Ð°"/>
          <p:cNvPicPr/>
          <p:nvPr/>
        </p:nvPicPr>
        <p:blipFill>
          <a:blip r:embed="rId1"/>
          <a:stretch/>
        </p:blipFill>
        <p:spPr>
          <a:xfrm>
            <a:off x="5715000" y="3808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Нижний колонтитул 3"/>
          <p:cNvSpPr/>
          <p:nvPr/>
        </p:nvSpPr>
        <p:spPr>
          <a:xfrm>
            <a:off x="380880" y="304920"/>
            <a:ext cx="5181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MS PGothic"/>
              </a:rPr>
              <a:t>Классификация по МКБ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0 —Абстинентное состояние (синдром отмены) с делирием («классический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1 —Абстинентное состояние (синдром отмены) с делирием с судорожными припад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2 —Абстинентное состояние (синдром отмены) с мусситирующим делирием («бормочущий»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3 —Абстинентное состояние (синдром отмены) с «профессиональным» дели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4 —Абстинентное состояние (синдром отмены) с делирием без галлюцинаций (люцид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х.45—Абстинентное состояние (синдром отмены) с делирием абортивным F1х.48 —Абстинентное состояние (синдром отмены) с делирием другим F1х.49 —Абстинентное состояние (синдром отмены) с делирием неуточн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http://ru.haejuclinic.com/wp-content/uploads/sites/2/2016/12/13.jpg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Нижний колонтитул 3"/>
          <p:cNvSpPr/>
          <p:nvPr/>
        </p:nvSpPr>
        <p:spPr>
          <a:xfrm>
            <a:off x="380880" y="76320"/>
            <a:ext cx="49532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MS PGothic"/>
              </a:rPr>
              <a:t>Принципы терап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бно-охранны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ониторинг жизненно важных функ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руглосуточное наблюд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рациональная фармак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ние синдрома отмены с делирием  необходимо проводить в условиях стационара (в отделении интенсивной терапии или реанимации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 состоянии возбуждения или спутанного сознания целесообразно применение физической фикс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Объект 4" descr=""/>
          <p:cNvPicPr/>
          <p:nvPr/>
        </p:nvPicPr>
        <p:blipFill>
          <a:blip r:embed="rId1"/>
          <a:stretch/>
        </p:blipFill>
        <p:spPr>
          <a:xfrm>
            <a:off x="5468760" y="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1640" y="252000"/>
            <a:ext cx="817272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применения мер как медикаментозной, так и физической фиксации должна быть обоснована и отражена в медицинской документации  ПАЦИЕНТА</a:t>
            </a:r>
            <a:endParaRPr b="1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овано:</a:t>
            </a:r>
            <a:r>
              <a:rPr b="1" lang="ru-RU" sz="24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конец кровати приподнять и установить под углом 15-30%, для облегчения венозного оттока из полости черепа. Нарушение  венозного оттока может быть и следствием длительного пребывания больного на кровати без подушки при опущенном головном конце кровати.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положения больного, дыхательные упражнения, проведение перкуторного массажа грудной клетки (для профилактики гипостатической пневмонии;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ая поддержка.  Предпочтительным является естественное (оральное) сбалансированное питание или раннее (на 2-3 сутки лечения) начало энтерального питания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Медикаментоз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4560" y="11426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дативная терапия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терапия препаратами бензодиазепинового ряда: диазепам, (феназепам) - вводят в/в или в/м 10-20 мг, при обязательном мониторинге состояния пациента до достижения адекватной седации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должающемся психомоторном возбуждении в течение часа, введение бензодиазепина повторяется (до 40 мг/сут. в диазепамовом эквиваленте) пока пациент не станет спокойным в течение ≥1 часа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19T03:58:21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